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304C-6D15-4FCC-8E45-1CFA67F7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4701-3F1A-41EF-A58D-17A2C458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503B-8491-4C40-AE37-8E016893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0E67-B7ED-4042-96AA-BF9292AD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F0F1-1ACF-4FF7-9CEC-1DA79D95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742E-AB42-41E2-87CA-86CD00BE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E14D-A802-49D1-BB13-9499A72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ACF-5274-4C1F-B6AF-E7D98DF7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0BE-8DA9-4ACE-A336-830DC8C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F2E9-0B53-4BE1-A286-3340E7D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CA02-4377-4B4F-8859-7A9B728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1864-28A1-4E5B-8A8A-E290B449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AB77-3111-4F43-A388-B8CC676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F8A7-99FB-4BEE-BA3C-F4FAB91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B29C-5895-402A-B071-80A785AB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3180-E2C4-4C6C-9B5C-A0F8DD06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A275-BA40-4755-AFFC-4B4511C2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4E06-ABAD-430E-AF89-569674C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202D-8E1D-40C1-A7BA-F26987F5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A3CE-4E9C-4A0C-B50A-64F84889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F7C4-CD2E-40C1-B4F6-2AC093D3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2727-DF87-4250-BD01-9812FAF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53CC-0752-4B14-8BFC-AC83777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49AC-96D5-40F8-A068-472E4A2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8215-0576-4491-A584-77BF5492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CC6-E4B1-45B5-B1A6-36CFF67D8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Chapter Two</a:t>
            </a:r>
            <a:br>
              <a:rPr sz="4000"/>
            </a:br>
            <a:r>
              <a:rPr b="1" i="1" lang="en-US" sz="4000" spc="-1" strike="noStrike">
                <a:solidFill>
                  <a:srgbClr val="dddddd"/>
                </a:solidFill>
                <a:latin typeface="Garamond"/>
              </a:rPr>
              <a:t>Polynomial Functions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Ink 2"/>
          <p:cNvSpPr/>
          <p:nvPr/>
        </p:nvSpPr>
        <p:spPr>
          <a:xfrm>
            <a:off x="1347840" y="2313000"/>
            <a:ext cx="2805120" cy="615960"/>
          </a:xfrm>
          <a:custGeom>
            <a:avLst/>
            <a:gdLst/>
            <a:ahLst/>
            <a:rect l="l" t="t" r="r" b="b"/>
            <a:pathLst>
              <a:path w="7789" h="1713">
                <a:moveTo>
                  <a:pt x="4266" y="6648"/>
                </a:moveTo>
                <a:cubicBezTo>
                  <a:pt x="4197" y="6697"/>
                  <a:pt x="4126" y="6777"/>
                  <a:pt x="4068" y="6846"/>
                </a:cubicBezTo>
                <a:cubicBezTo>
                  <a:pt x="3967" y="6967"/>
                  <a:pt x="3846" y="7117"/>
                  <a:pt x="3795" y="7268"/>
                </a:cubicBezTo>
                <a:cubicBezTo>
                  <a:pt x="3756" y="7384"/>
                  <a:pt x="3716" y="7548"/>
                  <a:pt x="3770" y="7665"/>
                </a:cubicBezTo>
                <a:cubicBezTo>
                  <a:pt x="3837" y="7809"/>
                  <a:pt x="3931" y="7851"/>
                  <a:pt x="4068" y="7913"/>
                </a:cubicBezTo>
              </a:path>
              <a:path w="7789" h="1713">
                <a:moveTo>
                  <a:pt x="7268" y="6573"/>
                </a:moveTo>
                <a:cubicBezTo>
                  <a:pt x="7429" y="6735"/>
                  <a:pt x="7497" y="6846"/>
                  <a:pt x="7565" y="7069"/>
                </a:cubicBezTo>
                <a:cubicBezTo>
                  <a:pt x="7628" y="7273"/>
                  <a:pt x="7652" y="7529"/>
                  <a:pt x="7590" y="7739"/>
                </a:cubicBezTo>
                <a:cubicBezTo>
                  <a:pt x="7550" y="7876"/>
                  <a:pt x="7466" y="7973"/>
                  <a:pt x="7367" y="8062"/>
                </a:cubicBezTo>
                <a:cubicBezTo>
                  <a:pt x="7302" y="8120"/>
                  <a:pt x="7321" y="8125"/>
                  <a:pt x="7243" y="8136"/>
                </a:cubicBezTo>
              </a:path>
              <a:path w="7789" h="1713">
                <a:moveTo>
                  <a:pt x="7938" y="6747"/>
                </a:moveTo>
                <a:cubicBezTo>
                  <a:pt x="7854" y="6840"/>
                  <a:pt x="7768" y="6930"/>
                  <a:pt x="7714" y="7045"/>
                </a:cubicBezTo>
                <a:cubicBezTo>
                  <a:pt x="7645" y="7190"/>
                  <a:pt x="7616" y="7336"/>
                  <a:pt x="7665" y="7491"/>
                </a:cubicBezTo>
                <a:cubicBezTo>
                  <a:pt x="7721" y="7668"/>
                  <a:pt x="7844" y="7738"/>
                  <a:pt x="7987" y="7838"/>
                </a:cubicBezTo>
                <a:cubicBezTo>
                  <a:pt x="8087" y="7913"/>
                  <a:pt x="8120" y="7939"/>
                  <a:pt x="8210" y="7938"/>
                </a:cubicBezTo>
              </a:path>
              <a:path w="7789" h="1713">
                <a:moveTo>
                  <a:pt x="11112" y="6424"/>
                </a:moveTo>
                <a:cubicBezTo>
                  <a:pt x="11301" y="6560"/>
                  <a:pt x="11386" y="6670"/>
                  <a:pt x="11460" y="6896"/>
                </a:cubicBezTo>
                <a:cubicBezTo>
                  <a:pt x="11540" y="7141"/>
                  <a:pt x="11564" y="7412"/>
                  <a:pt x="11509" y="7665"/>
                </a:cubicBezTo>
                <a:cubicBezTo>
                  <a:pt x="11487" y="7766"/>
                  <a:pt x="11423" y="7962"/>
                  <a:pt x="11311" y="8012"/>
                </a:cubicBezTo>
                <a:cubicBezTo>
                  <a:pt x="11294" y="8012"/>
                  <a:pt x="11278" y="8012"/>
                  <a:pt x="11261" y="8012"/>
                </a:cubicBezTo>
              </a:path>
              <a:path w="7789" h="1713">
                <a:moveTo>
                  <a:pt x="4440" y="6896"/>
                </a:moveTo>
                <a:cubicBezTo>
                  <a:pt x="4440" y="6879"/>
                  <a:pt x="4440" y="6863"/>
                  <a:pt x="4440" y="6846"/>
                </a:cubicBezTo>
                <a:cubicBezTo>
                  <a:pt x="4496" y="6936"/>
                  <a:pt x="4538" y="7029"/>
                  <a:pt x="4589" y="7119"/>
                </a:cubicBezTo>
                <a:cubicBezTo>
                  <a:pt x="4673" y="7266"/>
                  <a:pt x="4763" y="7401"/>
                  <a:pt x="4862" y="7541"/>
                </a:cubicBezTo>
                <a:cubicBezTo>
                  <a:pt x="4921" y="7624"/>
                  <a:pt x="4985" y="7654"/>
                  <a:pt x="5060" y="7714"/>
                </a:cubicBezTo>
              </a:path>
              <a:path w="7789" h="1713">
                <a:moveTo>
                  <a:pt x="5060" y="6747"/>
                </a:moveTo>
                <a:cubicBezTo>
                  <a:pt x="4924" y="6848"/>
                  <a:pt x="4873" y="6948"/>
                  <a:pt x="4787" y="7094"/>
                </a:cubicBezTo>
                <a:cubicBezTo>
                  <a:pt x="4695" y="7249"/>
                  <a:pt x="4622" y="7407"/>
                  <a:pt x="4539" y="7565"/>
                </a:cubicBezTo>
                <a:cubicBezTo>
                  <a:pt x="4508" y="7624"/>
                  <a:pt x="4470" y="7679"/>
                  <a:pt x="4440" y="7739"/>
                </a:cubicBezTo>
              </a:path>
              <a:path w="7789" h="1713">
                <a:moveTo>
                  <a:pt x="5283" y="6499"/>
                </a:moveTo>
                <a:cubicBezTo>
                  <a:pt x="5377" y="6461"/>
                  <a:pt x="5395" y="6421"/>
                  <a:pt x="5432" y="6474"/>
                </a:cubicBezTo>
                <a:cubicBezTo>
                  <a:pt x="5472" y="6579"/>
                  <a:pt x="5444" y="6625"/>
                  <a:pt x="5383" y="6722"/>
                </a:cubicBezTo>
                <a:cubicBezTo>
                  <a:pt x="5322" y="6818"/>
                  <a:pt x="5246" y="6846"/>
                  <a:pt x="5259" y="6945"/>
                </a:cubicBezTo>
                <a:cubicBezTo>
                  <a:pt x="5348" y="6945"/>
                  <a:pt x="5421" y="6946"/>
                  <a:pt x="5507" y="6921"/>
                </a:cubicBezTo>
                <a:cubicBezTo>
                  <a:pt x="5532" y="6913"/>
                  <a:pt x="5556" y="6904"/>
                  <a:pt x="5581" y="6896"/>
                </a:cubicBezTo>
              </a:path>
              <a:path w="7789" h="1713">
                <a:moveTo>
                  <a:pt x="5928" y="6896"/>
                </a:moveTo>
                <a:cubicBezTo>
                  <a:pt x="5825" y="7092"/>
                  <a:pt x="5715" y="7246"/>
                  <a:pt x="5705" y="7466"/>
                </a:cubicBezTo>
                <a:cubicBezTo>
                  <a:pt x="5705" y="7511"/>
                  <a:pt x="5702" y="7524"/>
                  <a:pt x="5730" y="7541"/>
                </a:cubicBezTo>
              </a:path>
              <a:path w="7789" h="1713">
                <a:moveTo>
                  <a:pt x="5531" y="7119"/>
                </a:moveTo>
                <a:cubicBezTo>
                  <a:pt x="5705" y="7119"/>
                  <a:pt x="5878" y="7119"/>
                  <a:pt x="6052" y="7119"/>
                </a:cubicBezTo>
              </a:path>
              <a:path w="7789" h="1713">
                <a:moveTo>
                  <a:pt x="6350" y="6995"/>
                </a:moveTo>
                <a:cubicBezTo>
                  <a:pt x="6322" y="7070"/>
                  <a:pt x="6280" y="7139"/>
                  <a:pt x="6276" y="7218"/>
                </a:cubicBezTo>
                <a:cubicBezTo>
                  <a:pt x="6271" y="7306"/>
                  <a:pt x="6354" y="7314"/>
                  <a:pt x="6424" y="7317"/>
                </a:cubicBezTo>
                <a:cubicBezTo>
                  <a:pt x="6449" y="7317"/>
                  <a:pt x="6474" y="7317"/>
                  <a:pt x="6499" y="7317"/>
                </a:cubicBezTo>
              </a:path>
              <a:path w="7789" h="1713">
                <a:moveTo>
                  <a:pt x="6722" y="6722"/>
                </a:moveTo>
                <a:cubicBezTo>
                  <a:pt x="6688" y="6857"/>
                  <a:pt x="6619" y="7010"/>
                  <a:pt x="6598" y="7144"/>
                </a:cubicBezTo>
                <a:cubicBezTo>
                  <a:pt x="6575" y="7285"/>
                  <a:pt x="6598" y="7446"/>
                  <a:pt x="6598" y="7590"/>
                </a:cubicBezTo>
              </a:path>
              <a:path w="7789" h="1713">
                <a:moveTo>
                  <a:pt x="8111" y="7045"/>
                </a:moveTo>
                <a:cubicBezTo>
                  <a:pt x="8224" y="7226"/>
                  <a:pt x="8322" y="7421"/>
                  <a:pt x="8483" y="7565"/>
                </a:cubicBezTo>
                <a:cubicBezTo>
                  <a:pt x="8568" y="7640"/>
                  <a:pt x="8656" y="7693"/>
                  <a:pt x="8756" y="7739"/>
                </a:cubicBezTo>
              </a:path>
              <a:path w="7789" h="1713">
                <a:moveTo>
                  <a:pt x="8607" y="6970"/>
                </a:moveTo>
                <a:cubicBezTo>
                  <a:pt x="8481" y="7096"/>
                  <a:pt x="8374" y="7210"/>
                  <a:pt x="8285" y="7367"/>
                </a:cubicBezTo>
                <a:cubicBezTo>
                  <a:pt x="8223" y="7477"/>
                  <a:pt x="8136" y="7616"/>
                  <a:pt x="8111" y="7739"/>
                </a:cubicBezTo>
              </a:path>
              <a:path w="7789" h="1713">
                <a:moveTo>
                  <a:pt x="8905" y="6548"/>
                </a:moveTo>
                <a:cubicBezTo>
                  <a:pt x="9022" y="6604"/>
                  <a:pt x="9128" y="6610"/>
                  <a:pt x="9054" y="6747"/>
                </a:cubicBezTo>
                <a:cubicBezTo>
                  <a:pt x="9033" y="6786"/>
                  <a:pt x="8927" y="6850"/>
                  <a:pt x="8930" y="6896"/>
                </a:cubicBezTo>
                <a:cubicBezTo>
                  <a:pt x="8934" y="6967"/>
                  <a:pt x="9081" y="7000"/>
                  <a:pt x="9128" y="6995"/>
                </a:cubicBezTo>
                <a:cubicBezTo>
                  <a:pt x="9183" y="6967"/>
                  <a:pt x="9206" y="6959"/>
                  <a:pt x="9252" y="6970"/>
                </a:cubicBezTo>
              </a:path>
              <a:path w="7789" h="1713">
                <a:moveTo>
                  <a:pt x="9277" y="7268"/>
                </a:moveTo>
                <a:cubicBezTo>
                  <a:pt x="9485" y="7287"/>
                  <a:pt x="9514" y="7316"/>
                  <a:pt x="9624" y="7268"/>
                </a:cubicBezTo>
              </a:path>
              <a:path w="7789" h="1713">
                <a:moveTo>
                  <a:pt x="9823" y="6970"/>
                </a:moveTo>
                <a:cubicBezTo>
                  <a:pt x="9838" y="7109"/>
                  <a:pt x="9856" y="7219"/>
                  <a:pt x="9996" y="7293"/>
                </a:cubicBezTo>
                <a:cubicBezTo>
                  <a:pt x="10037" y="7309"/>
                  <a:pt x="10079" y="7326"/>
                  <a:pt x="10120" y="7342"/>
                </a:cubicBezTo>
              </a:path>
              <a:path w="7789" h="1713">
                <a:moveTo>
                  <a:pt x="10368" y="6796"/>
                </a:moveTo>
                <a:cubicBezTo>
                  <a:pt x="10361" y="7001"/>
                  <a:pt x="10363" y="7213"/>
                  <a:pt x="10344" y="7417"/>
                </a:cubicBezTo>
                <a:cubicBezTo>
                  <a:pt x="10330" y="7565"/>
                  <a:pt x="10327" y="7720"/>
                  <a:pt x="10294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Ink 3"/>
          <p:cNvSpPr/>
          <p:nvPr/>
        </p:nvSpPr>
        <p:spPr>
          <a:xfrm>
            <a:off x="5732640" y="1312920"/>
            <a:ext cx="2492280" cy="2492280"/>
          </a:xfrm>
          <a:custGeom>
            <a:avLst/>
            <a:gdLst/>
            <a:ahLst/>
            <a:rect l="l" t="t" r="r" b="b"/>
            <a:pathLst>
              <a:path w="6921" h="6922">
                <a:moveTo>
                  <a:pt x="15925" y="7293"/>
                </a:moveTo>
                <a:cubicBezTo>
                  <a:pt x="16357" y="7262"/>
                  <a:pt x="16783" y="7201"/>
                  <a:pt x="17214" y="7169"/>
                </a:cubicBezTo>
                <a:cubicBezTo>
                  <a:pt x="17772" y="7128"/>
                  <a:pt x="18342" y="7127"/>
                  <a:pt x="18901" y="7144"/>
                </a:cubicBezTo>
                <a:cubicBezTo>
                  <a:pt x="19704" y="7168"/>
                  <a:pt x="20480" y="7306"/>
                  <a:pt x="21258" y="7491"/>
                </a:cubicBezTo>
                <a:cubicBezTo>
                  <a:pt x="21710" y="7598"/>
                  <a:pt x="22155" y="7737"/>
                  <a:pt x="22622" y="7764"/>
                </a:cubicBezTo>
                <a:cubicBezTo>
                  <a:pt x="22696" y="7764"/>
                  <a:pt x="22771" y="7764"/>
                  <a:pt x="22845" y="7764"/>
                </a:cubicBezTo>
              </a:path>
              <a:path w="6921" h="6922">
                <a:moveTo>
                  <a:pt x="19745" y="4043"/>
                </a:moveTo>
                <a:cubicBezTo>
                  <a:pt x="19596" y="4450"/>
                  <a:pt x="19507" y="4949"/>
                  <a:pt x="19422" y="5358"/>
                </a:cubicBezTo>
                <a:cubicBezTo>
                  <a:pt x="19324" y="5830"/>
                  <a:pt x="19242" y="6316"/>
                  <a:pt x="19199" y="6796"/>
                </a:cubicBezTo>
                <a:cubicBezTo>
                  <a:pt x="19144" y="7416"/>
                  <a:pt x="19122" y="8037"/>
                  <a:pt x="19075" y="8657"/>
                </a:cubicBezTo>
                <a:cubicBezTo>
                  <a:pt x="19026" y="9294"/>
                  <a:pt x="19010" y="9928"/>
                  <a:pt x="19000" y="10567"/>
                </a:cubicBezTo>
              </a:path>
              <a:path w="6921" h="6922">
                <a:moveTo>
                  <a:pt x="20166" y="6598"/>
                </a:moveTo>
                <a:cubicBezTo>
                  <a:pt x="20224" y="6742"/>
                  <a:pt x="20251" y="6888"/>
                  <a:pt x="20241" y="7045"/>
                </a:cubicBezTo>
                <a:cubicBezTo>
                  <a:pt x="20225" y="7294"/>
                  <a:pt x="20125" y="7520"/>
                  <a:pt x="20092" y="7764"/>
                </a:cubicBezTo>
                <a:cubicBezTo>
                  <a:pt x="20083" y="7829"/>
                  <a:pt x="20088" y="7865"/>
                  <a:pt x="20117" y="7913"/>
                </a:cubicBezTo>
              </a:path>
              <a:path w="6921" h="6922">
                <a:moveTo>
                  <a:pt x="21010" y="6747"/>
                </a:moveTo>
                <a:cubicBezTo>
                  <a:pt x="21135" y="6940"/>
                  <a:pt x="21237" y="7100"/>
                  <a:pt x="21233" y="7342"/>
                </a:cubicBezTo>
                <a:cubicBezTo>
                  <a:pt x="21209" y="7510"/>
                  <a:pt x="21203" y="7562"/>
                  <a:pt x="21158" y="7665"/>
                </a:cubicBezTo>
              </a:path>
              <a:path w="6921" h="6922">
                <a:moveTo>
                  <a:pt x="18207" y="6846"/>
                </a:moveTo>
                <a:cubicBezTo>
                  <a:pt x="18207" y="7032"/>
                  <a:pt x="18236" y="7259"/>
                  <a:pt x="18182" y="7441"/>
                </a:cubicBezTo>
                <a:cubicBezTo>
                  <a:pt x="18162" y="7482"/>
                  <a:pt x="18153" y="7488"/>
                  <a:pt x="18157" y="7516"/>
                </a:cubicBezTo>
              </a:path>
              <a:path w="6921" h="6922">
                <a:moveTo>
                  <a:pt x="17041" y="6896"/>
                </a:moveTo>
                <a:cubicBezTo>
                  <a:pt x="16978" y="7119"/>
                  <a:pt x="16966" y="7309"/>
                  <a:pt x="16966" y="7541"/>
                </a:cubicBezTo>
                <a:cubicBezTo>
                  <a:pt x="16966" y="7574"/>
                  <a:pt x="16966" y="7607"/>
                  <a:pt x="16966" y="7640"/>
                </a:cubicBezTo>
              </a:path>
              <a:path w="6921" h="6922">
                <a:moveTo>
                  <a:pt x="21158" y="7342"/>
                </a:moveTo>
                <a:cubicBezTo>
                  <a:pt x="21139" y="7395"/>
                  <a:pt x="21102" y="7501"/>
                  <a:pt x="21183" y="7466"/>
                </a:cubicBezTo>
                <a:cubicBezTo>
                  <a:pt x="21256" y="7435"/>
                  <a:pt x="21289" y="7408"/>
                  <a:pt x="21307" y="7342"/>
                </a:cubicBezTo>
                <a:cubicBezTo>
                  <a:pt x="21264" y="7320"/>
                  <a:pt x="21221" y="7370"/>
                  <a:pt x="21183" y="7417"/>
                </a:cubicBezTo>
                <a:cubicBezTo>
                  <a:pt x="21161" y="7444"/>
                  <a:pt x="21056" y="7550"/>
                  <a:pt x="21059" y="7590"/>
                </a:cubicBezTo>
                <a:cubicBezTo>
                  <a:pt x="21067" y="7598"/>
                  <a:pt x="21076" y="7607"/>
                  <a:pt x="21084" y="7615"/>
                </a:cubicBezTo>
                <a:cubicBezTo>
                  <a:pt x="21135" y="7608"/>
                  <a:pt x="21198" y="7590"/>
                  <a:pt x="21233" y="7541"/>
                </a:cubicBezTo>
                <a:cubicBezTo>
                  <a:pt x="21265" y="7496"/>
                  <a:pt x="21296" y="7375"/>
                  <a:pt x="21208" y="7392"/>
                </a:cubicBezTo>
                <a:cubicBezTo>
                  <a:pt x="21147" y="7404"/>
                  <a:pt x="21053" y="7510"/>
                  <a:pt x="21034" y="7565"/>
                </a:cubicBezTo>
                <a:cubicBezTo>
                  <a:pt x="21034" y="7582"/>
                  <a:pt x="21034" y="7598"/>
                  <a:pt x="21034" y="7615"/>
                </a:cubicBezTo>
                <a:cubicBezTo>
                  <a:pt x="21102" y="7606"/>
                  <a:pt x="21152" y="7583"/>
                  <a:pt x="21208" y="7541"/>
                </a:cubicBezTo>
                <a:cubicBezTo>
                  <a:pt x="21253" y="7507"/>
                  <a:pt x="21271" y="7457"/>
                  <a:pt x="21307" y="7417"/>
                </a:cubicBezTo>
                <a:cubicBezTo>
                  <a:pt x="21338" y="7383"/>
                  <a:pt x="21334" y="7355"/>
                  <a:pt x="21357" y="7317"/>
                </a:cubicBezTo>
                <a:cubicBezTo>
                  <a:pt x="21276" y="7374"/>
                  <a:pt x="21242" y="7415"/>
                  <a:pt x="21183" y="7491"/>
                </a:cubicBezTo>
                <a:cubicBezTo>
                  <a:pt x="21155" y="7519"/>
                  <a:pt x="21146" y="7532"/>
                  <a:pt x="21158" y="7565"/>
                </a:cubicBezTo>
                <a:cubicBezTo>
                  <a:pt x="21261" y="7551"/>
                  <a:pt x="21237" y="7500"/>
                  <a:pt x="21183" y="7417"/>
                </a:cubicBezTo>
                <a:cubicBezTo>
                  <a:pt x="21149" y="7383"/>
                  <a:pt x="21128" y="7375"/>
                  <a:pt x="21084" y="7392"/>
                </a:cubicBezTo>
              </a:path>
              <a:path w="6921" h="6922">
                <a:moveTo>
                  <a:pt x="17041" y="7293"/>
                </a:moveTo>
                <a:cubicBezTo>
                  <a:pt x="17068" y="7266"/>
                  <a:pt x="17119" y="7199"/>
                  <a:pt x="17115" y="7169"/>
                </a:cubicBezTo>
                <a:cubicBezTo>
                  <a:pt x="17108" y="7115"/>
                  <a:pt x="17045" y="7056"/>
                  <a:pt x="16991" y="7069"/>
                </a:cubicBezTo>
                <a:cubicBezTo>
                  <a:pt x="16922" y="7085"/>
                  <a:pt x="16904" y="7144"/>
                  <a:pt x="16867" y="7193"/>
                </a:cubicBezTo>
                <a:cubicBezTo>
                  <a:pt x="16841" y="7227"/>
                  <a:pt x="16819" y="7260"/>
                  <a:pt x="16793" y="7293"/>
                </a:cubicBezTo>
                <a:cubicBezTo>
                  <a:pt x="16861" y="7312"/>
                  <a:pt x="16882" y="7298"/>
                  <a:pt x="16942" y="7243"/>
                </a:cubicBezTo>
                <a:cubicBezTo>
                  <a:pt x="16970" y="7218"/>
                  <a:pt x="17020" y="7148"/>
                  <a:pt x="17016" y="7119"/>
                </a:cubicBezTo>
                <a:cubicBezTo>
                  <a:pt x="16992" y="7071"/>
                  <a:pt x="16984" y="7057"/>
                  <a:pt x="16991" y="7020"/>
                </a:cubicBezTo>
                <a:cubicBezTo>
                  <a:pt x="16946" y="7033"/>
                  <a:pt x="16862" y="7084"/>
                  <a:pt x="16842" y="7144"/>
                </a:cubicBezTo>
                <a:cubicBezTo>
                  <a:pt x="16805" y="7253"/>
                  <a:pt x="16864" y="7219"/>
                  <a:pt x="16942" y="7169"/>
                </a:cubicBezTo>
                <a:cubicBezTo>
                  <a:pt x="16978" y="7146"/>
                  <a:pt x="17011" y="7099"/>
                  <a:pt x="17041" y="7069"/>
                </a:cubicBezTo>
                <a:cubicBezTo>
                  <a:pt x="17049" y="7061"/>
                  <a:pt x="17058" y="7053"/>
                  <a:pt x="17066" y="7045"/>
                </a:cubicBezTo>
                <a:cubicBezTo>
                  <a:pt x="16952" y="7073"/>
                  <a:pt x="16955" y="7129"/>
                  <a:pt x="16892" y="7218"/>
                </a:cubicBezTo>
                <a:cubicBezTo>
                  <a:pt x="16853" y="7273"/>
                  <a:pt x="16804" y="7309"/>
                  <a:pt x="16768" y="7367"/>
                </a:cubicBezTo>
              </a:path>
              <a:path w="6921" h="6922">
                <a:moveTo>
                  <a:pt x="16917" y="7069"/>
                </a:moveTo>
                <a:cubicBezTo>
                  <a:pt x="16905" y="6992"/>
                  <a:pt x="16885" y="6925"/>
                  <a:pt x="16867" y="6846"/>
                </a:cubicBezTo>
                <a:cubicBezTo>
                  <a:pt x="16837" y="6715"/>
                  <a:pt x="16785" y="6599"/>
                  <a:pt x="16743" y="6474"/>
                </a:cubicBezTo>
                <a:cubicBezTo>
                  <a:pt x="16691" y="6319"/>
                  <a:pt x="16611" y="6161"/>
                  <a:pt x="16570" y="6003"/>
                </a:cubicBezTo>
                <a:cubicBezTo>
                  <a:pt x="16509" y="5769"/>
                  <a:pt x="16439" y="5548"/>
                  <a:pt x="16396" y="5308"/>
                </a:cubicBezTo>
                <a:cubicBezTo>
                  <a:pt x="16355" y="5081"/>
                  <a:pt x="16346" y="4891"/>
                  <a:pt x="16346" y="4663"/>
                </a:cubicBezTo>
                <a:cubicBezTo>
                  <a:pt x="16346" y="4527"/>
                  <a:pt x="16366" y="4400"/>
                  <a:pt x="16371" y="4266"/>
                </a:cubicBezTo>
                <a:cubicBezTo>
                  <a:pt x="16373" y="4209"/>
                  <a:pt x="16402" y="4066"/>
                  <a:pt x="16321" y="4118"/>
                </a:cubicBezTo>
                <a:cubicBezTo>
                  <a:pt x="16313" y="4134"/>
                  <a:pt x="16305" y="4151"/>
                  <a:pt x="16297" y="4167"/>
                </a:cubicBezTo>
              </a:path>
              <a:path w="6921" h="6922">
                <a:moveTo>
                  <a:pt x="21258" y="7317"/>
                </a:moveTo>
                <a:cubicBezTo>
                  <a:pt x="21296" y="7192"/>
                  <a:pt x="21314" y="7074"/>
                  <a:pt x="21357" y="6945"/>
                </a:cubicBezTo>
                <a:cubicBezTo>
                  <a:pt x="21420" y="6755"/>
                  <a:pt x="21516" y="6578"/>
                  <a:pt x="21605" y="6400"/>
                </a:cubicBezTo>
                <a:cubicBezTo>
                  <a:pt x="21705" y="6200"/>
                  <a:pt x="21755" y="5980"/>
                  <a:pt x="21853" y="5779"/>
                </a:cubicBezTo>
                <a:cubicBezTo>
                  <a:pt x="21940" y="5601"/>
                  <a:pt x="21996" y="5416"/>
                  <a:pt x="22076" y="5234"/>
                </a:cubicBezTo>
                <a:cubicBezTo>
                  <a:pt x="22120" y="5134"/>
                  <a:pt x="22204" y="4976"/>
                  <a:pt x="22200" y="4862"/>
                </a:cubicBezTo>
                <a:cubicBezTo>
                  <a:pt x="22197" y="4777"/>
                  <a:pt x="22172" y="4826"/>
                  <a:pt x="22151" y="4787"/>
                </a:cubicBezTo>
              </a:path>
              <a:path w="6921" h="6922">
                <a:moveTo>
                  <a:pt x="21952" y="4911"/>
                </a:moveTo>
                <a:cubicBezTo>
                  <a:pt x="22012" y="4844"/>
                  <a:pt x="22061" y="4800"/>
                  <a:pt x="22126" y="4738"/>
                </a:cubicBezTo>
                <a:cubicBezTo>
                  <a:pt x="22178" y="4689"/>
                  <a:pt x="22231" y="4584"/>
                  <a:pt x="22299" y="4564"/>
                </a:cubicBezTo>
                <a:cubicBezTo>
                  <a:pt x="22386" y="4539"/>
                  <a:pt x="22413" y="4690"/>
                  <a:pt x="22448" y="4738"/>
                </a:cubicBezTo>
                <a:cubicBezTo>
                  <a:pt x="22517" y="4834"/>
                  <a:pt x="22509" y="4896"/>
                  <a:pt x="22498" y="5011"/>
                </a:cubicBezTo>
                <a:cubicBezTo>
                  <a:pt x="22498" y="5055"/>
                  <a:pt x="22501" y="5069"/>
                  <a:pt x="22473" y="5085"/>
                </a:cubicBezTo>
              </a:path>
              <a:path w="6921" h="6922">
                <a:moveTo>
                  <a:pt x="16049" y="4366"/>
                </a:moveTo>
                <a:cubicBezTo>
                  <a:pt x="16049" y="4204"/>
                  <a:pt x="16056" y="4051"/>
                  <a:pt x="16073" y="3894"/>
                </a:cubicBezTo>
                <a:cubicBezTo>
                  <a:pt x="16084" y="3792"/>
                  <a:pt x="16076" y="3740"/>
                  <a:pt x="16123" y="3646"/>
                </a:cubicBezTo>
                <a:cubicBezTo>
                  <a:pt x="16226" y="3705"/>
                  <a:pt x="16259" y="3806"/>
                  <a:pt x="16297" y="3919"/>
                </a:cubicBezTo>
                <a:cubicBezTo>
                  <a:pt x="16305" y="3952"/>
                  <a:pt x="16313" y="3985"/>
                  <a:pt x="16321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Ink 4"/>
          <p:cNvSpPr/>
          <p:nvPr/>
        </p:nvSpPr>
        <p:spPr>
          <a:xfrm>
            <a:off x="955800" y="3348000"/>
            <a:ext cx="1303200" cy="509760"/>
          </a:xfrm>
          <a:custGeom>
            <a:avLst/>
            <a:gdLst/>
            <a:ahLst/>
            <a:rect l="l" t="t" r="r" b="b"/>
            <a:pathLst>
              <a:path w="3623" h="1415">
                <a:moveTo>
                  <a:pt x="2729" y="9723"/>
                </a:moveTo>
                <a:cubicBezTo>
                  <a:pt x="2795" y="9860"/>
                  <a:pt x="2874" y="9989"/>
                  <a:pt x="2952" y="10120"/>
                </a:cubicBezTo>
                <a:cubicBezTo>
                  <a:pt x="3049" y="10283"/>
                  <a:pt x="3110" y="10467"/>
                  <a:pt x="3225" y="10616"/>
                </a:cubicBezTo>
                <a:cubicBezTo>
                  <a:pt x="3274" y="10666"/>
                  <a:pt x="3291" y="10683"/>
                  <a:pt x="3324" y="10716"/>
                </a:cubicBezTo>
              </a:path>
              <a:path w="3623" h="1415">
                <a:moveTo>
                  <a:pt x="3051" y="9798"/>
                </a:moveTo>
                <a:cubicBezTo>
                  <a:pt x="2973" y="9987"/>
                  <a:pt x="2901" y="10188"/>
                  <a:pt x="2803" y="10368"/>
                </a:cubicBezTo>
                <a:cubicBezTo>
                  <a:pt x="2741" y="10481"/>
                  <a:pt x="2650" y="10624"/>
                  <a:pt x="2704" y="10691"/>
                </a:cubicBezTo>
              </a:path>
              <a:path w="3623" h="1415">
                <a:moveTo>
                  <a:pt x="3249" y="9302"/>
                </a:moveTo>
                <a:cubicBezTo>
                  <a:pt x="3400" y="9302"/>
                  <a:pt x="3424" y="9280"/>
                  <a:pt x="3497" y="9327"/>
                </a:cubicBezTo>
                <a:cubicBezTo>
                  <a:pt x="3497" y="9443"/>
                  <a:pt x="3491" y="9515"/>
                  <a:pt x="3398" y="9599"/>
                </a:cubicBezTo>
                <a:cubicBezTo>
                  <a:pt x="3340" y="9651"/>
                  <a:pt x="3275" y="9701"/>
                  <a:pt x="3299" y="9798"/>
                </a:cubicBezTo>
                <a:cubicBezTo>
                  <a:pt x="3319" y="9879"/>
                  <a:pt x="3435" y="9895"/>
                  <a:pt x="3497" y="9897"/>
                </a:cubicBezTo>
                <a:cubicBezTo>
                  <a:pt x="3673" y="9897"/>
                  <a:pt x="3791" y="9857"/>
                  <a:pt x="3919" y="9748"/>
                </a:cubicBezTo>
              </a:path>
              <a:path w="3623" h="1415">
                <a:moveTo>
                  <a:pt x="4018" y="10071"/>
                </a:moveTo>
                <a:cubicBezTo>
                  <a:pt x="3988" y="10303"/>
                  <a:pt x="3950" y="10438"/>
                  <a:pt x="3994" y="10641"/>
                </a:cubicBezTo>
                <a:cubicBezTo>
                  <a:pt x="3994" y="10649"/>
                  <a:pt x="3994" y="10658"/>
                  <a:pt x="3994" y="10666"/>
                </a:cubicBezTo>
              </a:path>
              <a:path w="3623" h="1415">
                <a:moveTo>
                  <a:pt x="3845" y="10220"/>
                </a:moveTo>
                <a:cubicBezTo>
                  <a:pt x="3962" y="10263"/>
                  <a:pt x="4090" y="10244"/>
                  <a:pt x="4217" y="10244"/>
                </a:cubicBezTo>
              </a:path>
              <a:path w="3623" h="1415">
                <a:moveTo>
                  <a:pt x="4465" y="9872"/>
                </a:moveTo>
                <a:cubicBezTo>
                  <a:pt x="4436" y="9950"/>
                  <a:pt x="4392" y="10033"/>
                  <a:pt x="4415" y="10120"/>
                </a:cubicBezTo>
                <a:cubicBezTo>
                  <a:pt x="4434" y="10190"/>
                  <a:pt x="4538" y="10274"/>
                  <a:pt x="4614" y="10269"/>
                </a:cubicBezTo>
                <a:cubicBezTo>
                  <a:pt x="4622" y="10261"/>
                  <a:pt x="4630" y="10252"/>
                  <a:pt x="4638" y="10244"/>
                </a:cubicBezTo>
              </a:path>
              <a:path w="3623" h="1415">
                <a:moveTo>
                  <a:pt x="4812" y="9624"/>
                </a:moveTo>
                <a:cubicBezTo>
                  <a:pt x="4767" y="9794"/>
                  <a:pt x="4739" y="9951"/>
                  <a:pt x="4713" y="10120"/>
                </a:cubicBezTo>
                <a:cubicBezTo>
                  <a:pt x="4695" y="10238"/>
                  <a:pt x="4688" y="10378"/>
                  <a:pt x="4663" y="10492"/>
                </a:cubicBezTo>
                <a:cubicBezTo>
                  <a:pt x="4638" y="10542"/>
                  <a:pt x="4630" y="10559"/>
                  <a:pt x="4663" y="10592"/>
                </a:cubicBezTo>
              </a:path>
              <a:path w="3623" h="1415">
                <a:moveTo>
                  <a:pt x="4887" y="10319"/>
                </a:moveTo>
                <a:cubicBezTo>
                  <a:pt x="5031" y="10303"/>
                  <a:pt x="5141" y="10294"/>
                  <a:pt x="5283" y="10294"/>
                </a:cubicBezTo>
              </a:path>
              <a:path w="3623" h="1415">
                <a:moveTo>
                  <a:pt x="4986" y="10492"/>
                </a:moveTo>
                <a:cubicBezTo>
                  <a:pt x="5099" y="10572"/>
                  <a:pt x="5150" y="10553"/>
                  <a:pt x="5283" y="10542"/>
                </a:cubicBezTo>
              </a:path>
              <a:path w="3623" h="1415">
                <a:moveTo>
                  <a:pt x="5779" y="9922"/>
                </a:moveTo>
                <a:cubicBezTo>
                  <a:pt x="5689" y="10057"/>
                  <a:pt x="5583" y="10171"/>
                  <a:pt x="5606" y="10344"/>
                </a:cubicBezTo>
                <a:cubicBezTo>
                  <a:pt x="5624" y="10479"/>
                  <a:pt x="5730" y="10551"/>
                  <a:pt x="5829" y="10616"/>
                </a:cubicBezTo>
                <a:cubicBezTo>
                  <a:pt x="5909" y="10668"/>
                  <a:pt x="6020" y="10698"/>
                  <a:pt x="6102" y="10616"/>
                </a:cubicBezTo>
                <a:cubicBezTo>
                  <a:pt x="6206" y="10512"/>
                  <a:pt x="6276" y="10338"/>
                  <a:pt x="6276" y="10195"/>
                </a:cubicBezTo>
                <a:cubicBezTo>
                  <a:pt x="6276" y="10052"/>
                  <a:pt x="6111" y="9962"/>
                  <a:pt x="6003" y="9922"/>
                </a:cubicBezTo>
                <a:cubicBezTo>
                  <a:pt x="5896" y="9895"/>
                  <a:pt x="5855" y="9885"/>
                  <a:pt x="5779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Ink 5"/>
          <p:cNvSpPr/>
          <p:nvPr/>
        </p:nvSpPr>
        <p:spPr>
          <a:xfrm>
            <a:off x="2813040" y="2990880"/>
            <a:ext cx="2527200" cy="652320"/>
          </a:xfrm>
          <a:custGeom>
            <a:avLst/>
            <a:gdLst/>
            <a:ahLst/>
            <a:rect l="l" t="t" r="r" b="b"/>
            <a:pathLst>
              <a:path w="7021" h="1811">
                <a:moveTo>
                  <a:pt x="8136" y="8558"/>
                </a:moveTo>
                <a:cubicBezTo>
                  <a:pt x="8019" y="8702"/>
                  <a:pt x="7845" y="8882"/>
                  <a:pt x="7813" y="9079"/>
                </a:cubicBezTo>
                <a:cubicBezTo>
                  <a:pt x="7768" y="9354"/>
                  <a:pt x="7910" y="9609"/>
                  <a:pt x="8086" y="9798"/>
                </a:cubicBezTo>
                <a:cubicBezTo>
                  <a:pt x="8119" y="9831"/>
                  <a:pt x="8153" y="9864"/>
                  <a:pt x="8186" y="9897"/>
                </a:cubicBezTo>
              </a:path>
              <a:path w="7021" h="1811">
                <a:moveTo>
                  <a:pt x="11658" y="8508"/>
                </a:moveTo>
                <a:cubicBezTo>
                  <a:pt x="11715" y="8723"/>
                  <a:pt x="11695" y="8858"/>
                  <a:pt x="11658" y="9079"/>
                </a:cubicBezTo>
              </a:path>
              <a:path w="7021" h="1811">
                <a:moveTo>
                  <a:pt x="11237" y="9872"/>
                </a:moveTo>
                <a:cubicBezTo>
                  <a:pt x="11113" y="9915"/>
                  <a:pt x="11064" y="10000"/>
                  <a:pt x="11013" y="9897"/>
                </a:cubicBezTo>
              </a:path>
              <a:path w="7021" h="1811">
                <a:moveTo>
                  <a:pt x="12055" y="8607"/>
                </a:moveTo>
                <a:cubicBezTo>
                  <a:pt x="11979" y="8767"/>
                  <a:pt x="11874" y="8925"/>
                  <a:pt x="11857" y="9103"/>
                </a:cubicBezTo>
                <a:cubicBezTo>
                  <a:pt x="11840" y="9275"/>
                  <a:pt x="11858" y="9467"/>
                  <a:pt x="11931" y="9624"/>
                </a:cubicBezTo>
                <a:cubicBezTo>
                  <a:pt x="11998" y="9768"/>
                  <a:pt x="12146" y="9934"/>
                  <a:pt x="12278" y="10021"/>
                </a:cubicBezTo>
                <a:cubicBezTo>
                  <a:pt x="12378" y="10071"/>
                  <a:pt x="12411" y="10087"/>
                  <a:pt x="12477" y="10120"/>
                </a:cubicBezTo>
              </a:path>
              <a:path w="7021" h="1811">
                <a:moveTo>
                  <a:pt x="14511" y="8310"/>
                </a:moveTo>
                <a:cubicBezTo>
                  <a:pt x="14712" y="8524"/>
                  <a:pt x="14808" y="8729"/>
                  <a:pt x="14833" y="9029"/>
                </a:cubicBezTo>
                <a:cubicBezTo>
                  <a:pt x="14851" y="9237"/>
                  <a:pt x="14810" y="9504"/>
                  <a:pt x="14734" y="9699"/>
                </a:cubicBezTo>
                <a:cubicBezTo>
                  <a:pt x="14690" y="9764"/>
                  <a:pt x="14679" y="9778"/>
                  <a:pt x="14660" y="9823"/>
                </a:cubicBezTo>
              </a:path>
              <a:path w="7021" h="1811">
                <a:moveTo>
                  <a:pt x="8161" y="8905"/>
                </a:moveTo>
                <a:cubicBezTo>
                  <a:pt x="8260" y="9028"/>
                  <a:pt x="8339" y="9152"/>
                  <a:pt x="8434" y="9277"/>
                </a:cubicBezTo>
                <a:cubicBezTo>
                  <a:pt x="8528" y="9402"/>
                  <a:pt x="8638" y="9527"/>
                  <a:pt x="8781" y="9599"/>
                </a:cubicBezTo>
                <a:cubicBezTo>
                  <a:pt x="8806" y="9607"/>
                  <a:pt x="8830" y="9616"/>
                  <a:pt x="8855" y="9624"/>
                </a:cubicBezTo>
              </a:path>
              <a:path w="7021" h="1811">
                <a:moveTo>
                  <a:pt x="8781" y="8930"/>
                </a:moveTo>
                <a:cubicBezTo>
                  <a:pt x="8653" y="9087"/>
                  <a:pt x="8522" y="9235"/>
                  <a:pt x="8409" y="9401"/>
                </a:cubicBezTo>
                <a:cubicBezTo>
                  <a:pt x="8355" y="9480"/>
                  <a:pt x="8310" y="9528"/>
                  <a:pt x="8310" y="9624"/>
                </a:cubicBezTo>
              </a:path>
              <a:path w="7021" h="1811">
                <a:moveTo>
                  <a:pt x="9525" y="8954"/>
                </a:moveTo>
                <a:cubicBezTo>
                  <a:pt x="9566" y="9120"/>
                  <a:pt x="9607" y="9285"/>
                  <a:pt x="9624" y="9451"/>
                </a:cubicBezTo>
                <a:cubicBezTo>
                  <a:pt x="9624" y="9512"/>
                  <a:pt x="9615" y="9528"/>
                  <a:pt x="9649" y="9550"/>
                </a:cubicBezTo>
              </a:path>
              <a:path w="7021" h="1811">
                <a:moveTo>
                  <a:pt x="9227" y="9153"/>
                </a:moveTo>
                <a:cubicBezTo>
                  <a:pt x="9394" y="9117"/>
                  <a:pt x="9484" y="9103"/>
                  <a:pt x="9649" y="9103"/>
                </a:cubicBezTo>
              </a:path>
              <a:path w="7021" h="1811">
                <a:moveTo>
                  <a:pt x="10220" y="8806"/>
                </a:moveTo>
                <a:cubicBezTo>
                  <a:pt x="10391" y="8885"/>
                  <a:pt x="10521" y="8896"/>
                  <a:pt x="10468" y="9103"/>
                </a:cubicBezTo>
                <a:cubicBezTo>
                  <a:pt x="10434" y="9233"/>
                  <a:pt x="10335" y="9309"/>
                  <a:pt x="10244" y="9401"/>
                </a:cubicBezTo>
                <a:cubicBezTo>
                  <a:pt x="10126" y="9520"/>
                  <a:pt x="10262" y="9565"/>
                  <a:pt x="10368" y="9599"/>
                </a:cubicBezTo>
                <a:cubicBezTo>
                  <a:pt x="10489" y="9638"/>
                  <a:pt x="10568" y="9619"/>
                  <a:pt x="10691" y="9599"/>
                </a:cubicBezTo>
              </a:path>
              <a:path w="7021" h="1811">
                <a:moveTo>
                  <a:pt x="12154" y="9029"/>
                </a:moveTo>
                <a:cubicBezTo>
                  <a:pt x="12339" y="9250"/>
                  <a:pt x="12529" y="9507"/>
                  <a:pt x="12750" y="9699"/>
                </a:cubicBezTo>
                <a:cubicBezTo>
                  <a:pt x="12775" y="9715"/>
                  <a:pt x="12799" y="9732"/>
                  <a:pt x="12824" y="9748"/>
                </a:cubicBezTo>
              </a:path>
              <a:path w="7021" h="1811">
                <a:moveTo>
                  <a:pt x="12700" y="8954"/>
                </a:moveTo>
                <a:cubicBezTo>
                  <a:pt x="12569" y="9116"/>
                  <a:pt x="12396" y="9284"/>
                  <a:pt x="12303" y="9475"/>
                </a:cubicBezTo>
                <a:cubicBezTo>
                  <a:pt x="12233" y="9620"/>
                  <a:pt x="12222" y="9585"/>
                  <a:pt x="12278" y="9699"/>
                </a:cubicBezTo>
              </a:path>
              <a:path w="7021" h="1811">
                <a:moveTo>
                  <a:pt x="12923" y="9252"/>
                </a:moveTo>
                <a:cubicBezTo>
                  <a:pt x="13055" y="9252"/>
                  <a:pt x="13188" y="9252"/>
                  <a:pt x="13320" y="9252"/>
                </a:cubicBezTo>
              </a:path>
              <a:path w="7021" h="1811">
                <a:moveTo>
                  <a:pt x="13494" y="8930"/>
                </a:moveTo>
                <a:cubicBezTo>
                  <a:pt x="13555" y="9045"/>
                  <a:pt x="13597" y="9099"/>
                  <a:pt x="13692" y="9178"/>
                </a:cubicBezTo>
                <a:cubicBezTo>
                  <a:pt x="13709" y="9194"/>
                  <a:pt x="13725" y="9211"/>
                  <a:pt x="13742" y="9227"/>
                </a:cubicBezTo>
              </a:path>
              <a:path w="7021" h="1811">
                <a:moveTo>
                  <a:pt x="14015" y="8682"/>
                </a:moveTo>
                <a:cubicBezTo>
                  <a:pt x="13973" y="8841"/>
                  <a:pt x="13927" y="8990"/>
                  <a:pt x="13891" y="9153"/>
                </a:cubicBezTo>
                <a:cubicBezTo>
                  <a:pt x="13856" y="9309"/>
                  <a:pt x="13862" y="9450"/>
                  <a:pt x="13841" y="9599"/>
                </a:cubicBezTo>
              </a:path>
              <a:path w="7021" h="1811">
                <a:moveTo>
                  <a:pt x="13271" y="8855"/>
                </a:moveTo>
                <a:cubicBezTo>
                  <a:pt x="13351" y="8819"/>
                  <a:pt x="13407" y="8806"/>
                  <a:pt x="13494" y="8806"/>
                </a:cubicBezTo>
                <a:cubicBezTo>
                  <a:pt x="13578" y="8806"/>
                  <a:pt x="13694" y="8815"/>
                  <a:pt x="13767" y="8855"/>
                </a:cubicBezTo>
                <a:cubicBezTo>
                  <a:pt x="13827" y="8888"/>
                  <a:pt x="13927" y="8923"/>
                  <a:pt x="13915" y="9004"/>
                </a:cubicBezTo>
                <a:cubicBezTo>
                  <a:pt x="13903" y="9091"/>
                  <a:pt x="13856" y="9189"/>
                  <a:pt x="13791" y="9252"/>
                </a:cubicBezTo>
                <a:cubicBezTo>
                  <a:pt x="13701" y="9339"/>
                  <a:pt x="13580" y="9467"/>
                  <a:pt x="13469" y="9525"/>
                </a:cubicBezTo>
                <a:cubicBezTo>
                  <a:pt x="13398" y="9549"/>
                  <a:pt x="13375" y="9556"/>
                  <a:pt x="13345" y="9599"/>
                </a:cubicBezTo>
                <a:cubicBezTo>
                  <a:pt x="13250" y="9458"/>
                  <a:pt x="13319" y="9370"/>
                  <a:pt x="13395" y="9227"/>
                </a:cubicBezTo>
                <a:cubicBezTo>
                  <a:pt x="13442" y="9139"/>
                  <a:pt x="13556" y="9136"/>
                  <a:pt x="13643" y="9178"/>
                </a:cubicBezTo>
                <a:cubicBezTo>
                  <a:pt x="13791" y="9250"/>
                  <a:pt x="13897" y="9392"/>
                  <a:pt x="14039" y="9475"/>
                </a:cubicBezTo>
                <a:cubicBezTo>
                  <a:pt x="14148" y="9539"/>
                  <a:pt x="14240" y="9550"/>
                  <a:pt x="14362" y="9550"/>
                </a:cubicBezTo>
                <a:cubicBezTo>
                  <a:pt x="14370" y="9550"/>
                  <a:pt x="14379" y="9550"/>
                  <a:pt x="14387" y="9550"/>
                </a:cubicBezTo>
              </a:path>
              <a:path w="7021" h="1811">
                <a:moveTo>
                  <a:pt x="13444" y="8781"/>
                </a:moveTo>
                <a:cubicBezTo>
                  <a:pt x="13527" y="8831"/>
                  <a:pt x="13512" y="8775"/>
                  <a:pt x="13593" y="8756"/>
                </a:cubicBezTo>
                <a:cubicBezTo>
                  <a:pt x="13670" y="8738"/>
                  <a:pt x="13735" y="8710"/>
                  <a:pt x="13816" y="8706"/>
                </a:cubicBezTo>
                <a:cubicBezTo>
                  <a:pt x="13888" y="8703"/>
                  <a:pt x="13994" y="8769"/>
                  <a:pt x="13990" y="8855"/>
                </a:cubicBezTo>
                <a:cubicBezTo>
                  <a:pt x="13986" y="8947"/>
                  <a:pt x="13921" y="9108"/>
                  <a:pt x="13866" y="9178"/>
                </a:cubicBezTo>
                <a:cubicBezTo>
                  <a:pt x="13833" y="9220"/>
                  <a:pt x="13685" y="9375"/>
                  <a:pt x="13643" y="9401"/>
                </a:cubicBezTo>
                <a:cubicBezTo>
                  <a:pt x="13569" y="9446"/>
                  <a:pt x="13584" y="9372"/>
                  <a:pt x="13519" y="9451"/>
                </a:cubicBezTo>
                <a:cubicBezTo>
                  <a:pt x="13462" y="9371"/>
                  <a:pt x="13475" y="9405"/>
                  <a:pt x="13444" y="9302"/>
                </a:cubicBezTo>
                <a:cubicBezTo>
                  <a:pt x="13427" y="9246"/>
                  <a:pt x="13425" y="9200"/>
                  <a:pt x="13494" y="9178"/>
                </a:cubicBezTo>
                <a:cubicBezTo>
                  <a:pt x="13621" y="9138"/>
                  <a:pt x="13691" y="9204"/>
                  <a:pt x="13791" y="9252"/>
                </a:cubicBezTo>
                <a:cubicBezTo>
                  <a:pt x="13889" y="9299"/>
                  <a:pt x="14036" y="9382"/>
                  <a:pt x="14139" y="9401"/>
                </a:cubicBezTo>
                <a:cubicBezTo>
                  <a:pt x="14237" y="9419"/>
                  <a:pt x="14291" y="9459"/>
                  <a:pt x="14387" y="9475"/>
                </a:cubicBezTo>
                <a:cubicBezTo>
                  <a:pt x="14428" y="9475"/>
                  <a:pt x="14436" y="9475"/>
                  <a:pt x="14461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Ink 6"/>
          <p:cNvSpPr/>
          <p:nvPr/>
        </p:nvSpPr>
        <p:spPr>
          <a:xfrm>
            <a:off x="1357200" y="3875040"/>
            <a:ext cx="1000080" cy="689040"/>
          </a:xfrm>
          <a:custGeom>
            <a:avLst/>
            <a:gdLst/>
            <a:ahLst/>
            <a:rect l="l" t="t" r="r" b="b"/>
            <a:pathLst>
              <a:path w="2779" h="1911">
                <a:moveTo>
                  <a:pt x="3870" y="11237"/>
                </a:moveTo>
                <a:cubicBezTo>
                  <a:pt x="3917" y="11415"/>
                  <a:pt x="3954" y="11568"/>
                  <a:pt x="4043" y="11733"/>
                </a:cubicBezTo>
                <a:cubicBezTo>
                  <a:pt x="4134" y="11900"/>
                  <a:pt x="4220" y="12012"/>
                  <a:pt x="4390" y="12080"/>
                </a:cubicBezTo>
              </a:path>
              <a:path w="2779" h="1911">
                <a:moveTo>
                  <a:pt x="4068" y="11261"/>
                </a:moveTo>
                <a:cubicBezTo>
                  <a:pt x="3976" y="11446"/>
                  <a:pt x="3864" y="11637"/>
                  <a:pt x="3795" y="11832"/>
                </a:cubicBezTo>
                <a:cubicBezTo>
                  <a:pt x="3763" y="11923"/>
                  <a:pt x="3765" y="11975"/>
                  <a:pt x="3820" y="12030"/>
                </a:cubicBezTo>
              </a:path>
              <a:path w="2779" h="1911">
                <a:moveTo>
                  <a:pt x="4415" y="10815"/>
                </a:moveTo>
                <a:cubicBezTo>
                  <a:pt x="4515" y="10787"/>
                  <a:pt x="4661" y="10738"/>
                  <a:pt x="4713" y="10889"/>
                </a:cubicBezTo>
                <a:cubicBezTo>
                  <a:pt x="4762" y="11030"/>
                  <a:pt x="4730" y="11128"/>
                  <a:pt x="4614" y="11212"/>
                </a:cubicBezTo>
                <a:cubicBezTo>
                  <a:pt x="4562" y="11250"/>
                  <a:pt x="4536" y="11289"/>
                  <a:pt x="4490" y="11336"/>
                </a:cubicBezTo>
                <a:cubicBezTo>
                  <a:pt x="4565" y="11397"/>
                  <a:pt x="4614" y="11385"/>
                  <a:pt x="4713" y="11385"/>
                </a:cubicBezTo>
                <a:cubicBezTo>
                  <a:pt x="4738" y="11385"/>
                  <a:pt x="4762" y="11385"/>
                  <a:pt x="4787" y="11385"/>
                </a:cubicBezTo>
              </a:path>
              <a:path w="2779" h="1911">
                <a:moveTo>
                  <a:pt x="4862" y="11584"/>
                </a:moveTo>
                <a:cubicBezTo>
                  <a:pt x="4949" y="11642"/>
                  <a:pt x="5001" y="11633"/>
                  <a:pt x="5110" y="11633"/>
                </a:cubicBezTo>
              </a:path>
              <a:path w="2779" h="1911">
                <a:moveTo>
                  <a:pt x="4961" y="11782"/>
                </a:moveTo>
                <a:cubicBezTo>
                  <a:pt x="5117" y="11820"/>
                  <a:pt x="5199" y="11837"/>
                  <a:pt x="5358" y="11807"/>
                </a:cubicBezTo>
              </a:path>
              <a:path w="2779" h="1911">
                <a:moveTo>
                  <a:pt x="5556" y="11385"/>
                </a:moveTo>
                <a:cubicBezTo>
                  <a:pt x="5642" y="11362"/>
                  <a:pt x="5716" y="11339"/>
                  <a:pt x="5804" y="11336"/>
                </a:cubicBezTo>
                <a:cubicBezTo>
                  <a:pt x="5829" y="11336"/>
                  <a:pt x="5854" y="11336"/>
                  <a:pt x="5879" y="11336"/>
                </a:cubicBezTo>
              </a:path>
              <a:path w="2779" h="1911">
                <a:moveTo>
                  <a:pt x="6052" y="11212"/>
                </a:moveTo>
                <a:cubicBezTo>
                  <a:pt x="6033" y="11320"/>
                  <a:pt x="6005" y="11412"/>
                  <a:pt x="6077" y="11509"/>
                </a:cubicBezTo>
                <a:cubicBezTo>
                  <a:pt x="6128" y="11579"/>
                  <a:pt x="6176" y="11600"/>
                  <a:pt x="6251" y="11633"/>
                </a:cubicBezTo>
              </a:path>
              <a:path w="2779" h="1911">
                <a:moveTo>
                  <a:pt x="6548" y="11038"/>
                </a:moveTo>
                <a:cubicBezTo>
                  <a:pt x="6451" y="11222"/>
                  <a:pt x="6385" y="11403"/>
                  <a:pt x="6350" y="11609"/>
                </a:cubicBezTo>
                <a:cubicBezTo>
                  <a:pt x="6307" y="11862"/>
                  <a:pt x="6325" y="12122"/>
                  <a:pt x="6325" y="12378"/>
                </a:cubicBezTo>
                <a:cubicBezTo>
                  <a:pt x="6325" y="12535"/>
                  <a:pt x="6325" y="12576"/>
                  <a:pt x="6325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Ink 7"/>
          <p:cNvSpPr/>
          <p:nvPr/>
        </p:nvSpPr>
        <p:spPr>
          <a:xfrm>
            <a:off x="3490920" y="3963960"/>
            <a:ext cx="1590840" cy="627120"/>
          </a:xfrm>
          <a:custGeom>
            <a:avLst/>
            <a:gdLst/>
            <a:ahLst/>
            <a:rect l="l" t="t" r="r" b="b"/>
            <a:pathLst>
              <a:path w="4416" h="1738">
                <a:moveTo>
                  <a:pt x="9699" y="11162"/>
                </a:moveTo>
                <a:cubicBezTo>
                  <a:pt x="9699" y="11112"/>
                  <a:pt x="9699" y="11063"/>
                  <a:pt x="9699" y="11013"/>
                </a:cubicBezTo>
                <a:cubicBezTo>
                  <a:pt x="9708" y="11126"/>
                  <a:pt x="9737" y="11252"/>
                  <a:pt x="9773" y="11361"/>
                </a:cubicBezTo>
                <a:cubicBezTo>
                  <a:pt x="9843" y="11575"/>
                  <a:pt x="10021" y="11748"/>
                  <a:pt x="10145" y="11931"/>
                </a:cubicBezTo>
                <a:cubicBezTo>
                  <a:pt x="10275" y="12123"/>
                  <a:pt x="10403" y="12263"/>
                  <a:pt x="10567" y="12427"/>
                </a:cubicBezTo>
              </a:path>
              <a:path w="4416" h="1738">
                <a:moveTo>
                  <a:pt x="10468" y="11336"/>
                </a:moveTo>
                <a:cubicBezTo>
                  <a:pt x="10270" y="11605"/>
                  <a:pt x="10167" y="11781"/>
                  <a:pt x="10046" y="12080"/>
                </a:cubicBezTo>
                <a:cubicBezTo>
                  <a:pt x="9996" y="12204"/>
                  <a:pt x="9938" y="12347"/>
                  <a:pt x="9922" y="12477"/>
                </a:cubicBezTo>
              </a:path>
              <a:path w="4416" h="1738">
                <a:moveTo>
                  <a:pt x="10691" y="11782"/>
                </a:moveTo>
                <a:cubicBezTo>
                  <a:pt x="10843" y="11782"/>
                  <a:pt x="10929" y="11773"/>
                  <a:pt x="11063" y="11807"/>
                </a:cubicBezTo>
              </a:path>
              <a:path w="4416" h="1738">
                <a:moveTo>
                  <a:pt x="10716" y="12105"/>
                </a:moveTo>
                <a:cubicBezTo>
                  <a:pt x="10817" y="12163"/>
                  <a:pt x="10944" y="12212"/>
                  <a:pt x="11063" y="12204"/>
                </a:cubicBezTo>
                <a:cubicBezTo>
                  <a:pt x="11088" y="12196"/>
                  <a:pt x="11112" y="12187"/>
                  <a:pt x="11137" y="12179"/>
                </a:cubicBezTo>
              </a:path>
              <a:path w="4416" h="1738">
                <a:moveTo>
                  <a:pt x="11336" y="11782"/>
                </a:moveTo>
                <a:cubicBezTo>
                  <a:pt x="11481" y="11764"/>
                  <a:pt x="11588" y="11757"/>
                  <a:pt x="11733" y="11757"/>
                </a:cubicBezTo>
              </a:path>
              <a:path w="4416" h="1738">
                <a:moveTo>
                  <a:pt x="12030" y="11485"/>
                </a:moveTo>
                <a:cubicBezTo>
                  <a:pt x="12161" y="11459"/>
                  <a:pt x="12224" y="11441"/>
                  <a:pt x="12328" y="11534"/>
                </a:cubicBezTo>
                <a:cubicBezTo>
                  <a:pt x="12402" y="11599"/>
                  <a:pt x="12467" y="11674"/>
                  <a:pt x="12427" y="11782"/>
                </a:cubicBezTo>
                <a:cubicBezTo>
                  <a:pt x="12380" y="11910"/>
                  <a:pt x="12266" y="11994"/>
                  <a:pt x="12154" y="12055"/>
                </a:cubicBezTo>
                <a:cubicBezTo>
                  <a:pt x="12074" y="12099"/>
                  <a:pt x="11929" y="12148"/>
                  <a:pt x="11906" y="12254"/>
                </a:cubicBezTo>
                <a:cubicBezTo>
                  <a:pt x="11877" y="12387"/>
                  <a:pt x="12006" y="12440"/>
                  <a:pt x="12105" y="12477"/>
                </a:cubicBezTo>
                <a:cubicBezTo>
                  <a:pt x="12217" y="12519"/>
                  <a:pt x="12316" y="12505"/>
                  <a:pt x="12427" y="12477"/>
                </a:cubicBezTo>
              </a:path>
              <a:path w="4416" h="1738">
                <a:moveTo>
                  <a:pt x="12898" y="12378"/>
                </a:moveTo>
                <a:cubicBezTo>
                  <a:pt x="12835" y="12509"/>
                  <a:pt x="12781" y="12622"/>
                  <a:pt x="12725" y="12750"/>
                </a:cubicBezTo>
              </a:path>
              <a:path w="4416" h="1738">
                <a:moveTo>
                  <a:pt x="13022" y="11807"/>
                </a:moveTo>
                <a:cubicBezTo>
                  <a:pt x="13101" y="11760"/>
                  <a:pt x="13157" y="11797"/>
                  <a:pt x="13246" y="11807"/>
                </a:cubicBezTo>
                <a:cubicBezTo>
                  <a:pt x="13327" y="11816"/>
                  <a:pt x="13392" y="11844"/>
                  <a:pt x="13469" y="11857"/>
                </a:cubicBezTo>
                <a:cubicBezTo>
                  <a:pt x="13541" y="11869"/>
                  <a:pt x="13571" y="11854"/>
                  <a:pt x="13618" y="11807"/>
                </a:cubicBezTo>
                <a:cubicBezTo>
                  <a:pt x="13657" y="11872"/>
                  <a:pt x="13643" y="11909"/>
                  <a:pt x="13618" y="11981"/>
                </a:cubicBezTo>
                <a:cubicBezTo>
                  <a:pt x="13582" y="12085"/>
                  <a:pt x="13536" y="12190"/>
                  <a:pt x="13469" y="12278"/>
                </a:cubicBezTo>
                <a:cubicBezTo>
                  <a:pt x="13423" y="12339"/>
                  <a:pt x="13374" y="12398"/>
                  <a:pt x="13320" y="12452"/>
                </a:cubicBezTo>
                <a:cubicBezTo>
                  <a:pt x="13406" y="12463"/>
                  <a:pt x="13482" y="12502"/>
                  <a:pt x="13568" y="12526"/>
                </a:cubicBezTo>
                <a:cubicBezTo>
                  <a:pt x="13703" y="12564"/>
                  <a:pt x="13854" y="12634"/>
                  <a:pt x="13990" y="12650"/>
                </a:cubicBezTo>
                <a:cubicBezTo>
                  <a:pt x="14031" y="12650"/>
                  <a:pt x="14073" y="12650"/>
                  <a:pt x="14114" y="126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Ink 8"/>
          <p:cNvSpPr/>
          <p:nvPr/>
        </p:nvSpPr>
        <p:spPr>
          <a:xfrm>
            <a:off x="6054840" y="2500200"/>
            <a:ext cx="1562040" cy="1108080"/>
          </a:xfrm>
          <a:custGeom>
            <a:avLst/>
            <a:gdLst/>
            <a:ahLst/>
            <a:rect l="l" t="t" r="r" b="b"/>
            <a:pathLst>
              <a:path w="4341" h="3077">
                <a:moveTo>
                  <a:pt x="16818" y="6945"/>
                </a:moveTo>
                <a:cubicBezTo>
                  <a:pt x="16846" y="7045"/>
                  <a:pt x="16874" y="7119"/>
                  <a:pt x="16917" y="7218"/>
                </a:cubicBezTo>
                <a:cubicBezTo>
                  <a:pt x="16973" y="7348"/>
                  <a:pt x="17053" y="7464"/>
                  <a:pt x="17115" y="7590"/>
                </a:cubicBezTo>
                <a:cubicBezTo>
                  <a:pt x="17230" y="7824"/>
                  <a:pt x="17291" y="8092"/>
                  <a:pt x="17388" y="8334"/>
                </a:cubicBezTo>
                <a:cubicBezTo>
                  <a:pt x="17474" y="8550"/>
                  <a:pt x="17553" y="8748"/>
                  <a:pt x="17661" y="8954"/>
                </a:cubicBezTo>
                <a:cubicBezTo>
                  <a:pt x="17787" y="9193"/>
                  <a:pt x="17912" y="9418"/>
                  <a:pt x="18083" y="9624"/>
                </a:cubicBezTo>
                <a:cubicBezTo>
                  <a:pt x="18202" y="9768"/>
                  <a:pt x="18353" y="9903"/>
                  <a:pt x="18529" y="9971"/>
                </a:cubicBezTo>
                <a:cubicBezTo>
                  <a:pt x="18691" y="10033"/>
                  <a:pt x="18811" y="10044"/>
                  <a:pt x="18976" y="9971"/>
                </a:cubicBezTo>
                <a:cubicBezTo>
                  <a:pt x="19191" y="9876"/>
                  <a:pt x="19384" y="9652"/>
                  <a:pt x="19496" y="9451"/>
                </a:cubicBezTo>
                <a:cubicBezTo>
                  <a:pt x="19584" y="9294"/>
                  <a:pt x="19686" y="9075"/>
                  <a:pt x="19745" y="8905"/>
                </a:cubicBezTo>
                <a:cubicBezTo>
                  <a:pt x="19813" y="8709"/>
                  <a:pt x="19860" y="8502"/>
                  <a:pt x="19943" y="8310"/>
                </a:cubicBezTo>
                <a:cubicBezTo>
                  <a:pt x="20026" y="8118"/>
                  <a:pt x="20106" y="7971"/>
                  <a:pt x="20241" y="7813"/>
                </a:cubicBezTo>
                <a:cubicBezTo>
                  <a:pt x="20339" y="7698"/>
                  <a:pt x="20440" y="7651"/>
                  <a:pt x="20588" y="7615"/>
                </a:cubicBezTo>
                <a:cubicBezTo>
                  <a:pt x="20683" y="7592"/>
                  <a:pt x="20791" y="7635"/>
                  <a:pt x="20886" y="7640"/>
                </a:cubicBezTo>
                <a:cubicBezTo>
                  <a:pt x="20976" y="7644"/>
                  <a:pt x="21068" y="7640"/>
                  <a:pt x="21158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Page 156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#17-33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Lesson 2.2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gree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egree of a function is the highest power of variables in a term of the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3x+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5x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Ink 4"/>
          <p:cNvSpPr/>
          <p:nvPr/>
        </p:nvSpPr>
        <p:spPr>
          <a:xfrm>
            <a:off x="3357720" y="2660760"/>
            <a:ext cx="465120" cy="376200"/>
          </a:xfrm>
          <a:custGeom>
            <a:avLst/>
            <a:gdLst/>
            <a:ahLst/>
            <a:rect l="l" t="t" r="r" b="b"/>
            <a:pathLst>
              <a:path w="1290" h="1043">
                <a:moveTo>
                  <a:pt x="9872" y="7392"/>
                </a:moveTo>
                <a:cubicBezTo>
                  <a:pt x="9906" y="7481"/>
                  <a:pt x="9877" y="7521"/>
                  <a:pt x="9872" y="7615"/>
                </a:cubicBezTo>
                <a:cubicBezTo>
                  <a:pt x="9866" y="7737"/>
                  <a:pt x="9879" y="7848"/>
                  <a:pt x="9897" y="7962"/>
                </a:cubicBezTo>
                <a:cubicBezTo>
                  <a:pt x="9906" y="8021"/>
                  <a:pt x="9912" y="8087"/>
                  <a:pt x="9922" y="8136"/>
                </a:cubicBezTo>
                <a:cubicBezTo>
                  <a:pt x="9948" y="8265"/>
                  <a:pt x="9900" y="8074"/>
                  <a:pt x="9897" y="8062"/>
                </a:cubicBezTo>
                <a:cubicBezTo>
                  <a:pt x="9871" y="7935"/>
                  <a:pt x="9855" y="7865"/>
                  <a:pt x="9723" y="7789"/>
                </a:cubicBezTo>
                <a:cubicBezTo>
                  <a:pt x="9666" y="7756"/>
                  <a:pt x="9595" y="7814"/>
                  <a:pt x="9550" y="7838"/>
                </a:cubicBezTo>
                <a:cubicBezTo>
                  <a:pt x="9486" y="7872"/>
                  <a:pt x="9454" y="7934"/>
                  <a:pt x="9401" y="7987"/>
                </a:cubicBezTo>
                <a:cubicBezTo>
                  <a:pt x="9331" y="8057"/>
                  <a:pt x="9327" y="8091"/>
                  <a:pt x="9327" y="8186"/>
                </a:cubicBezTo>
                <a:cubicBezTo>
                  <a:pt x="9327" y="8261"/>
                  <a:pt x="9364" y="8315"/>
                  <a:pt x="9426" y="8359"/>
                </a:cubicBezTo>
                <a:cubicBezTo>
                  <a:pt x="9517" y="8423"/>
                  <a:pt x="9600" y="8391"/>
                  <a:pt x="9699" y="8409"/>
                </a:cubicBezTo>
                <a:cubicBezTo>
                  <a:pt x="9785" y="8425"/>
                  <a:pt x="9905" y="8433"/>
                  <a:pt x="9996" y="8409"/>
                </a:cubicBezTo>
                <a:cubicBezTo>
                  <a:pt x="10013" y="8401"/>
                  <a:pt x="10029" y="8392"/>
                  <a:pt x="10046" y="8384"/>
                </a:cubicBezTo>
              </a:path>
              <a:path w="1290" h="1043">
                <a:moveTo>
                  <a:pt x="10443" y="7689"/>
                </a:moveTo>
                <a:cubicBezTo>
                  <a:pt x="10397" y="7735"/>
                  <a:pt x="10314" y="7835"/>
                  <a:pt x="10443" y="7789"/>
                </a:cubicBezTo>
                <a:cubicBezTo>
                  <a:pt x="10491" y="7765"/>
                  <a:pt x="10507" y="7758"/>
                  <a:pt x="10492" y="7714"/>
                </a:cubicBezTo>
                <a:cubicBezTo>
                  <a:pt x="10426" y="7741"/>
                  <a:pt x="10385" y="7745"/>
                  <a:pt x="10368" y="7813"/>
                </a:cubicBezTo>
              </a:path>
              <a:path w="1290" h="1043">
                <a:moveTo>
                  <a:pt x="10567" y="8111"/>
                </a:moveTo>
                <a:cubicBezTo>
                  <a:pt x="10542" y="8136"/>
                  <a:pt x="10534" y="8144"/>
                  <a:pt x="10517" y="8161"/>
                </a:cubicBezTo>
                <a:cubicBezTo>
                  <a:pt x="10552" y="8182"/>
                  <a:pt x="10683" y="8164"/>
                  <a:pt x="10616" y="8111"/>
                </a:cubicBezTo>
                <a:cubicBezTo>
                  <a:pt x="10577" y="8080"/>
                  <a:pt x="10442" y="8084"/>
                  <a:pt x="10517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Ink 5"/>
          <p:cNvSpPr/>
          <p:nvPr/>
        </p:nvSpPr>
        <p:spPr>
          <a:xfrm>
            <a:off x="4044960" y="2670120"/>
            <a:ext cx="268200" cy="347760"/>
          </a:xfrm>
          <a:custGeom>
            <a:avLst/>
            <a:gdLst/>
            <a:ahLst/>
            <a:rect l="l" t="t" r="r" b="b"/>
            <a:pathLst>
              <a:path w="745" h="968">
                <a:moveTo>
                  <a:pt x="11460" y="7466"/>
                </a:moveTo>
                <a:cubicBezTo>
                  <a:pt x="11423" y="7394"/>
                  <a:pt x="11398" y="7471"/>
                  <a:pt x="11361" y="7541"/>
                </a:cubicBezTo>
                <a:cubicBezTo>
                  <a:pt x="11325" y="7610"/>
                  <a:pt x="11276" y="7687"/>
                  <a:pt x="11261" y="7764"/>
                </a:cubicBezTo>
                <a:cubicBezTo>
                  <a:pt x="11245" y="7847"/>
                  <a:pt x="11237" y="7926"/>
                  <a:pt x="11237" y="8012"/>
                </a:cubicBezTo>
                <a:cubicBezTo>
                  <a:pt x="11237" y="8097"/>
                  <a:pt x="11235" y="8162"/>
                  <a:pt x="11286" y="8235"/>
                </a:cubicBezTo>
                <a:cubicBezTo>
                  <a:pt x="11349" y="8326"/>
                  <a:pt x="11396" y="8308"/>
                  <a:pt x="11485" y="8334"/>
                </a:cubicBezTo>
                <a:cubicBezTo>
                  <a:pt x="11561" y="8356"/>
                  <a:pt x="11650" y="8376"/>
                  <a:pt x="11733" y="8359"/>
                </a:cubicBezTo>
                <a:cubicBezTo>
                  <a:pt x="11803" y="8344"/>
                  <a:pt x="11879" y="8307"/>
                  <a:pt x="11931" y="8260"/>
                </a:cubicBezTo>
                <a:cubicBezTo>
                  <a:pt x="11979" y="8217"/>
                  <a:pt x="11972" y="8160"/>
                  <a:pt x="11956" y="8111"/>
                </a:cubicBezTo>
                <a:cubicBezTo>
                  <a:pt x="11924" y="8011"/>
                  <a:pt x="11879" y="7992"/>
                  <a:pt x="11782" y="7987"/>
                </a:cubicBezTo>
                <a:cubicBezTo>
                  <a:pt x="11743" y="7985"/>
                  <a:pt x="11619" y="8012"/>
                  <a:pt x="11609" y="8062"/>
                </a:cubicBezTo>
                <a:cubicBezTo>
                  <a:pt x="11592" y="8145"/>
                  <a:pt x="11635" y="8242"/>
                  <a:pt x="11683" y="8310"/>
                </a:cubicBezTo>
                <a:cubicBezTo>
                  <a:pt x="11691" y="8322"/>
                  <a:pt x="11798" y="8427"/>
                  <a:pt x="11733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Ink 6"/>
          <p:cNvSpPr/>
          <p:nvPr/>
        </p:nvSpPr>
        <p:spPr>
          <a:xfrm>
            <a:off x="2938320" y="3759120"/>
            <a:ext cx="839880" cy="349200"/>
          </a:xfrm>
          <a:custGeom>
            <a:avLst/>
            <a:gdLst/>
            <a:ahLst/>
            <a:rect l="l" t="t" r="r" b="b"/>
            <a:pathLst>
              <a:path w="2332" h="968">
                <a:moveTo>
                  <a:pt x="8706" y="10492"/>
                </a:moveTo>
                <a:cubicBezTo>
                  <a:pt x="8706" y="10576"/>
                  <a:pt x="8728" y="10637"/>
                  <a:pt x="8731" y="10716"/>
                </a:cubicBezTo>
                <a:cubicBezTo>
                  <a:pt x="8735" y="10807"/>
                  <a:pt x="8743" y="10876"/>
                  <a:pt x="8756" y="10964"/>
                </a:cubicBezTo>
                <a:cubicBezTo>
                  <a:pt x="8769" y="11056"/>
                  <a:pt x="8764" y="11155"/>
                  <a:pt x="8781" y="11237"/>
                </a:cubicBezTo>
                <a:cubicBezTo>
                  <a:pt x="8781" y="11253"/>
                  <a:pt x="8781" y="11270"/>
                  <a:pt x="8781" y="11286"/>
                </a:cubicBezTo>
                <a:cubicBezTo>
                  <a:pt x="8751" y="11236"/>
                  <a:pt x="8755" y="11186"/>
                  <a:pt x="8731" y="11137"/>
                </a:cubicBezTo>
                <a:cubicBezTo>
                  <a:pt x="8707" y="11089"/>
                  <a:pt x="8655" y="11017"/>
                  <a:pt x="8607" y="10988"/>
                </a:cubicBezTo>
                <a:cubicBezTo>
                  <a:pt x="8534" y="10944"/>
                  <a:pt x="8444" y="10894"/>
                  <a:pt x="8359" y="10889"/>
                </a:cubicBezTo>
                <a:cubicBezTo>
                  <a:pt x="8307" y="10886"/>
                  <a:pt x="8219" y="10887"/>
                  <a:pt x="8186" y="10939"/>
                </a:cubicBezTo>
                <a:cubicBezTo>
                  <a:pt x="8133" y="11023"/>
                  <a:pt x="8183" y="11125"/>
                  <a:pt x="8235" y="11187"/>
                </a:cubicBezTo>
                <a:cubicBezTo>
                  <a:pt x="8285" y="11247"/>
                  <a:pt x="8363" y="11303"/>
                  <a:pt x="8434" y="11336"/>
                </a:cubicBezTo>
                <a:cubicBezTo>
                  <a:pt x="8512" y="11373"/>
                  <a:pt x="8644" y="11426"/>
                  <a:pt x="8731" y="11410"/>
                </a:cubicBezTo>
                <a:cubicBezTo>
                  <a:pt x="8748" y="11402"/>
                  <a:pt x="8764" y="11393"/>
                  <a:pt x="8781" y="11385"/>
                </a:cubicBezTo>
              </a:path>
              <a:path w="2332" h="968">
                <a:moveTo>
                  <a:pt x="9153" y="10691"/>
                </a:moveTo>
                <a:cubicBezTo>
                  <a:pt x="9189" y="10727"/>
                  <a:pt x="9164" y="10723"/>
                  <a:pt x="9153" y="10765"/>
                </a:cubicBezTo>
              </a:path>
              <a:path w="2332" h="968">
                <a:moveTo>
                  <a:pt x="9153" y="11112"/>
                </a:moveTo>
                <a:cubicBezTo>
                  <a:pt x="9178" y="11137"/>
                  <a:pt x="9186" y="11145"/>
                  <a:pt x="9203" y="11162"/>
                </a:cubicBezTo>
              </a:path>
              <a:path w="2332" h="968">
                <a:moveTo>
                  <a:pt x="9550" y="10592"/>
                </a:moveTo>
                <a:cubicBezTo>
                  <a:pt x="9608" y="10533"/>
                  <a:pt x="9670" y="10455"/>
                  <a:pt x="9748" y="10443"/>
                </a:cubicBezTo>
                <a:cubicBezTo>
                  <a:pt x="9826" y="10431"/>
                  <a:pt x="9889" y="10440"/>
                  <a:pt x="9947" y="10492"/>
                </a:cubicBezTo>
                <a:cubicBezTo>
                  <a:pt x="10008" y="10547"/>
                  <a:pt x="9996" y="10584"/>
                  <a:pt x="9996" y="10666"/>
                </a:cubicBezTo>
                <a:cubicBezTo>
                  <a:pt x="9996" y="10751"/>
                  <a:pt x="9960" y="10810"/>
                  <a:pt x="9947" y="10889"/>
                </a:cubicBezTo>
                <a:cubicBezTo>
                  <a:pt x="9935" y="10961"/>
                  <a:pt x="9909" y="11046"/>
                  <a:pt x="9872" y="11112"/>
                </a:cubicBezTo>
                <a:cubicBezTo>
                  <a:pt x="9856" y="11141"/>
                  <a:pt x="9810" y="11226"/>
                  <a:pt x="9773" y="11237"/>
                </a:cubicBezTo>
                <a:cubicBezTo>
                  <a:pt x="9669" y="11267"/>
                  <a:pt x="9674" y="11181"/>
                  <a:pt x="9674" y="11112"/>
                </a:cubicBezTo>
                <a:cubicBezTo>
                  <a:pt x="9674" y="11041"/>
                  <a:pt x="9716" y="10991"/>
                  <a:pt x="9798" y="11013"/>
                </a:cubicBezTo>
                <a:cubicBezTo>
                  <a:pt x="9846" y="11026"/>
                  <a:pt x="9922" y="11088"/>
                  <a:pt x="9971" y="11112"/>
                </a:cubicBezTo>
                <a:cubicBezTo>
                  <a:pt x="10032" y="11142"/>
                  <a:pt x="10083" y="11181"/>
                  <a:pt x="10145" y="11212"/>
                </a:cubicBezTo>
                <a:cubicBezTo>
                  <a:pt x="10201" y="11240"/>
                  <a:pt x="10267" y="11275"/>
                  <a:pt x="10319" y="11311"/>
                </a:cubicBezTo>
                <a:cubicBezTo>
                  <a:pt x="10368" y="11345"/>
                  <a:pt x="10430" y="11353"/>
                  <a:pt x="10492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Ink 7"/>
          <p:cNvSpPr/>
          <p:nvPr/>
        </p:nvSpPr>
        <p:spPr>
          <a:xfrm>
            <a:off x="3473280" y="4867200"/>
            <a:ext cx="322560" cy="330120"/>
          </a:xfrm>
          <a:custGeom>
            <a:avLst/>
            <a:gdLst/>
            <a:ahLst/>
            <a:rect l="l" t="t" r="r" b="b"/>
            <a:pathLst>
              <a:path w="894" h="918">
                <a:moveTo>
                  <a:pt x="10046" y="13519"/>
                </a:moveTo>
                <a:cubicBezTo>
                  <a:pt x="10019" y="13600"/>
                  <a:pt x="10005" y="13703"/>
                  <a:pt x="10021" y="13791"/>
                </a:cubicBezTo>
                <a:cubicBezTo>
                  <a:pt x="10042" y="13901"/>
                  <a:pt x="10046" y="13999"/>
                  <a:pt x="10046" y="14114"/>
                </a:cubicBezTo>
                <a:cubicBezTo>
                  <a:pt x="10046" y="14149"/>
                  <a:pt x="10110" y="14296"/>
                  <a:pt x="10071" y="14188"/>
                </a:cubicBezTo>
                <a:cubicBezTo>
                  <a:pt x="10049" y="14127"/>
                  <a:pt x="10039" y="14071"/>
                  <a:pt x="10021" y="14015"/>
                </a:cubicBezTo>
                <a:cubicBezTo>
                  <a:pt x="9990" y="13917"/>
                  <a:pt x="9966" y="13928"/>
                  <a:pt x="9897" y="13866"/>
                </a:cubicBezTo>
                <a:cubicBezTo>
                  <a:pt x="9827" y="13803"/>
                  <a:pt x="9772" y="13815"/>
                  <a:pt x="9699" y="13866"/>
                </a:cubicBezTo>
                <a:cubicBezTo>
                  <a:pt x="9621" y="13921"/>
                  <a:pt x="9644" y="14043"/>
                  <a:pt x="9674" y="14114"/>
                </a:cubicBezTo>
                <a:cubicBezTo>
                  <a:pt x="9710" y="14198"/>
                  <a:pt x="9759" y="14248"/>
                  <a:pt x="9823" y="14312"/>
                </a:cubicBezTo>
                <a:cubicBezTo>
                  <a:pt x="9898" y="14388"/>
                  <a:pt x="9935" y="14430"/>
                  <a:pt x="10046" y="14436"/>
                </a:cubicBezTo>
                <a:cubicBezTo>
                  <a:pt x="10104" y="14436"/>
                  <a:pt x="10129" y="14436"/>
                  <a:pt x="10170" y="14436"/>
                </a:cubicBezTo>
              </a:path>
              <a:path w="894" h="918">
                <a:moveTo>
                  <a:pt x="10542" y="13841"/>
                </a:moveTo>
                <a:cubicBezTo>
                  <a:pt x="10534" y="13849"/>
                  <a:pt x="10525" y="13858"/>
                  <a:pt x="10517" y="13866"/>
                </a:cubicBezTo>
              </a:path>
              <a:path w="894" h="918">
                <a:moveTo>
                  <a:pt x="10492" y="14188"/>
                </a:moveTo>
                <a:cubicBezTo>
                  <a:pt x="10492" y="14229"/>
                  <a:pt x="10501" y="14246"/>
                  <a:pt x="10468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Ink 8"/>
          <p:cNvSpPr/>
          <p:nvPr/>
        </p:nvSpPr>
        <p:spPr>
          <a:xfrm>
            <a:off x="3956040" y="4884840"/>
            <a:ext cx="187200" cy="33012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10988" y="13643"/>
                </a:moveTo>
                <a:cubicBezTo>
                  <a:pt x="11049" y="13602"/>
                  <a:pt x="11113" y="13572"/>
                  <a:pt x="11187" y="13568"/>
                </a:cubicBezTo>
                <a:cubicBezTo>
                  <a:pt x="11248" y="13565"/>
                  <a:pt x="11315" y="13555"/>
                  <a:pt x="11361" y="13593"/>
                </a:cubicBezTo>
                <a:cubicBezTo>
                  <a:pt x="11390" y="13616"/>
                  <a:pt x="11439" y="13689"/>
                  <a:pt x="11435" y="13717"/>
                </a:cubicBezTo>
                <a:cubicBezTo>
                  <a:pt x="11423" y="13810"/>
                  <a:pt x="11340" y="13860"/>
                  <a:pt x="11286" y="13891"/>
                </a:cubicBezTo>
                <a:cubicBezTo>
                  <a:pt x="11258" y="13918"/>
                  <a:pt x="11244" y="13926"/>
                  <a:pt x="11212" y="13915"/>
                </a:cubicBezTo>
                <a:cubicBezTo>
                  <a:pt x="11199" y="13877"/>
                  <a:pt x="11246" y="13870"/>
                  <a:pt x="11311" y="13866"/>
                </a:cubicBezTo>
                <a:cubicBezTo>
                  <a:pt x="11370" y="13863"/>
                  <a:pt x="11427" y="13889"/>
                  <a:pt x="11460" y="13940"/>
                </a:cubicBezTo>
                <a:cubicBezTo>
                  <a:pt x="11494" y="13992"/>
                  <a:pt x="11506" y="14078"/>
                  <a:pt x="11509" y="14139"/>
                </a:cubicBezTo>
                <a:cubicBezTo>
                  <a:pt x="11512" y="14204"/>
                  <a:pt x="11466" y="14306"/>
                  <a:pt x="11435" y="14362"/>
                </a:cubicBezTo>
                <a:cubicBezTo>
                  <a:pt x="11409" y="14409"/>
                  <a:pt x="11369" y="14472"/>
                  <a:pt x="11311" y="14486"/>
                </a:cubicBezTo>
                <a:cubicBezTo>
                  <a:pt x="11263" y="14497"/>
                  <a:pt x="11153" y="14469"/>
                  <a:pt x="11137" y="14412"/>
                </a:cubicBezTo>
                <a:cubicBezTo>
                  <a:pt x="11120" y="14352"/>
                  <a:pt x="11133" y="14358"/>
                  <a:pt x="11088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ading Coefficient (LC) Tes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ding coefficient determines what the graph does on the right (positive it rises, negative it fall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odd, the graph goes in opposite directions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even, the graph does the same thing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scribe the graph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 +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Ink 4"/>
          <p:cNvSpPr/>
          <p:nvPr/>
        </p:nvSpPr>
        <p:spPr>
          <a:xfrm>
            <a:off x="4902120" y="1214280"/>
            <a:ext cx="849240" cy="304920"/>
          </a:xfrm>
          <a:custGeom>
            <a:avLst/>
            <a:gdLst/>
            <a:ahLst/>
            <a:rect l="l" t="t" r="r" b="b"/>
            <a:pathLst>
              <a:path w="2357" h="845">
                <a:moveTo>
                  <a:pt x="13742" y="3373"/>
                </a:moveTo>
                <a:cubicBezTo>
                  <a:pt x="13702" y="3440"/>
                  <a:pt x="13710" y="3518"/>
                  <a:pt x="13692" y="3597"/>
                </a:cubicBezTo>
                <a:cubicBezTo>
                  <a:pt x="13669" y="3698"/>
                  <a:pt x="13632" y="3792"/>
                  <a:pt x="13618" y="3894"/>
                </a:cubicBezTo>
                <a:cubicBezTo>
                  <a:pt x="13606" y="3982"/>
                  <a:pt x="13603" y="4111"/>
                  <a:pt x="13643" y="4192"/>
                </a:cubicBezTo>
                <a:cubicBezTo>
                  <a:pt x="13667" y="4240"/>
                  <a:pt x="13772" y="4217"/>
                  <a:pt x="13816" y="4217"/>
                </a:cubicBezTo>
                <a:cubicBezTo>
                  <a:pt x="13874" y="4217"/>
                  <a:pt x="13957" y="4205"/>
                  <a:pt x="14015" y="4192"/>
                </a:cubicBezTo>
                <a:cubicBezTo>
                  <a:pt x="14072" y="4173"/>
                  <a:pt x="14079" y="4164"/>
                  <a:pt x="14114" y="4167"/>
                </a:cubicBezTo>
              </a:path>
              <a:path w="2357" h="845">
                <a:moveTo>
                  <a:pt x="14312" y="4093"/>
                </a:moveTo>
                <a:cubicBezTo>
                  <a:pt x="14363" y="4064"/>
                  <a:pt x="14413" y="4049"/>
                  <a:pt x="14461" y="4018"/>
                </a:cubicBezTo>
                <a:cubicBezTo>
                  <a:pt x="14491" y="3998"/>
                  <a:pt x="14574" y="3959"/>
                  <a:pt x="14585" y="3919"/>
                </a:cubicBezTo>
                <a:cubicBezTo>
                  <a:pt x="14609" y="3836"/>
                  <a:pt x="14580" y="3776"/>
                  <a:pt x="14486" y="3795"/>
                </a:cubicBezTo>
                <a:cubicBezTo>
                  <a:pt x="14428" y="3807"/>
                  <a:pt x="14304" y="3870"/>
                  <a:pt x="14263" y="3919"/>
                </a:cubicBezTo>
                <a:cubicBezTo>
                  <a:pt x="14218" y="3972"/>
                  <a:pt x="14195" y="4040"/>
                  <a:pt x="14238" y="4093"/>
                </a:cubicBezTo>
                <a:cubicBezTo>
                  <a:pt x="14274" y="4139"/>
                  <a:pt x="14318" y="4159"/>
                  <a:pt x="14362" y="4192"/>
                </a:cubicBezTo>
                <a:cubicBezTo>
                  <a:pt x="14417" y="4233"/>
                  <a:pt x="14489" y="4217"/>
                  <a:pt x="14560" y="4217"/>
                </a:cubicBezTo>
                <a:cubicBezTo>
                  <a:pt x="14626" y="4217"/>
                  <a:pt x="14643" y="4217"/>
                  <a:pt x="14684" y="4217"/>
                </a:cubicBezTo>
              </a:path>
              <a:path w="2357" h="845">
                <a:moveTo>
                  <a:pt x="15404" y="3423"/>
                </a:moveTo>
                <a:cubicBezTo>
                  <a:pt x="15298" y="3399"/>
                  <a:pt x="15277" y="3421"/>
                  <a:pt x="15205" y="3473"/>
                </a:cubicBezTo>
                <a:cubicBezTo>
                  <a:pt x="15152" y="3512"/>
                  <a:pt x="15074" y="3547"/>
                  <a:pt x="15056" y="3621"/>
                </a:cubicBezTo>
                <a:cubicBezTo>
                  <a:pt x="15036" y="3704"/>
                  <a:pt x="15043" y="3741"/>
                  <a:pt x="15056" y="3820"/>
                </a:cubicBezTo>
                <a:cubicBezTo>
                  <a:pt x="15066" y="3885"/>
                  <a:pt x="15077" y="3940"/>
                  <a:pt x="15106" y="3994"/>
                </a:cubicBezTo>
                <a:cubicBezTo>
                  <a:pt x="15133" y="4045"/>
                  <a:pt x="15166" y="4069"/>
                  <a:pt x="15205" y="4118"/>
                </a:cubicBezTo>
              </a:path>
              <a:path w="2357" h="845">
                <a:moveTo>
                  <a:pt x="14932" y="3919"/>
                </a:moveTo>
                <a:cubicBezTo>
                  <a:pt x="15073" y="3919"/>
                  <a:pt x="15213" y="3919"/>
                  <a:pt x="15354" y="3919"/>
                </a:cubicBezTo>
              </a:path>
              <a:path w="2357" h="845">
                <a:moveTo>
                  <a:pt x="15701" y="3522"/>
                </a:moveTo>
                <a:cubicBezTo>
                  <a:pt x="15676" y="3645"/>
                  <a:pt x="15685" y="3726"/>
                  <a:pt x="15701" y="3845"/>
                </a:cubicBezTo>
                <a:cubicBezTo>
                  <a:pt x="15711" y="3916"/>
                  <a:pt x="15735" y="3975"/>
                  <a:pt x="15751" y="4043"/>
                </a:cubicBezTo>
                <a:cubicBezTo>
                  <a:pt x="15758" y="4073"/>
                  <a:pt x="15768" y="4088"/>
                  <a:pt x="15776" y="4118"/>
                </a:cubicBezTo>
              </a:path>
              <a:path w="2357" h="845">
                <a:moveTo>
                  <a:pt x="15528" y="3919"/>
                </a:moveTo>
                <a:cubicBezTo>
                  <a:pt x="15599" y="3892"/>
                  <a:pt x="15724" y="3859"/>
                  <a:pt x="15801" y="3870"/>
                </a:cubicBezTo>
                <a:cubicBezTo>
                  <a:pt x="15882" y="3896"/>
                  <a:pt x="15913" y="3904"/>
                  <a:pt x="15974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Ink 5"/>
          <p:cNvSpPr/>
          <p:nvPr/>
        </p:nvSpPr>
        <p:spPr>
          <a:xfrm>
            <a:off x="6296040" y="1170000"/>
            <a:ext cx="1241280" cy="500040"/>
          </a:xfrm>
          <a:custGeom>
            <a:avLst/>
            <a:gdLst/>
            <a:ahLst/>
            <a:rect l="l" t="t" r="r" b="b"/>
            <a:pathLst>
              <a:path w="3449" h="1390">
                <a:moveTo>
                  <a:pt x="17959" y="3373"/>
                </a:moveTo>
                <a:cubicBezTo>
                  <a:pt x="17959" y="3463"/>
                  <a:pt x="17938" y="3534"/>
                  <a:pt x="17934" y="3621"/>
                </a:cubicBezTo>
                <a:cubicBezTo>
                  <a:pt x="17930" y="3710"/>
                  <a:pt x="17913" y="3783"/>
                  <a:pt x="17909" y="3870"/>
                </a:cubicBezTo>
                <a:cubicBezTo>
                  <a:pt x="17905" y="3952"/>
                  <a:pt x="17909" y="4036"/>
                  <a:pt x="17909" y="4118"/>
                </a:cubicBezTo>
              </a:path>
              <a:path w="3449" h="1390">
                <a:moveTo>
                  <a:pt x="17487" y="3373"/>
                </a:moveTo>
                <a:cubicBezTo>
                  <a:pt x="17627" y="3310"/>
                  <a:pt x="17773" y="3231"/>
                  <a:pt x="17934" y="3249"/>
                </a:cubicBezTo>
                <a:cubicBezTo>
                  <a:pt x="18056" y="3263"/>
                  <a:pt x="18195" y="3299"/>
                  <a:pt x="18306" y="3349"/>
                </a:cubicBezTo>
                <a:cubicBezTo>
                  <a:pt x="18410" y="3395"/>
                  <a:pt x="18385" y="3482"/>
                  <a:pt x="18306" y="3547"/>
                </a:cubicBezTo>
                <a:cubicBezTo>
                  <a:pt x="18230" y="3610"/>
                  <a:pt x="18122" y="3651"/>
                  <a:pt x="18033" y="3696"/>
                </a:cubicBezTo>
                <a:cubicBezTo>
                  <a:pt x="17987" y="3719"/>
                  <a:pt x="17949" y="3739"/>
                  <a:pt x="17909" y="3770"/>
                </a:cubicBezTo>
                <a:cubicBezTo>
                  <a:pt x="17989" y="3777"/>
                  <a:pt x="18058" y="3787"/>
                  <a:pt x="18132" y="3820"/>
                </a:cubicBezTo>
                <a:cubicBezTo>
                  <a:pt x="18204" y="3852"/>
                  <a:pt x="18270" y="3897"/>
                  <a:pt x="18331" y="3944"/>
                </a:cubicBezTo>
                <a:cubicBezTo>
                  <a:pt x="18359" y="3966"/>
                  <a:pt x="18421" y="4033"/>
                  <a:pt x="18455" y="4043"/>
                </a:cubicBezTo>
                <a:cubicBezTo>
                  <a:pt x="18479" y="4050"/>
                  <a:pt x="18527" y="4043"/>
                  <a:pt x="18554" y="4043"/>
                </a:cubicBezTo>
              </a:path>
              <a:path w="3449" h="1390">
                <a:moveTo>
                  <a:pt x="18604" y="3795"/>
                </a:moveTo>
                <a:cubicBezTo>
                  <a:pt x="18604" y="3863"/>
                  <a:pt x="18600" y="3958"/>
                  <a:pt x="18628" y="4018"/>
                </a:cubicBezTo>
                <a:cubicBezTo>
                  <a:pt x="18653" y="4043"/>
                  <a:pt x="18661" y="4051"/>
                  <a:pt x="18678" y="4068"/>
                </a:cubicBezTo>
              </a:path>
              <a:path w="3449" h="1390">
                <a:moveTo>
                  <a:pt x="18703" y="3473"/>
                </a:moveTo>
                <a:cubicBezTo>
                  <a:pt x="18703" y="3465"/>
                  <a:pt x="18703" y="3456"/>
                  <a:pt x="18703" y="3448"/>
                </a:cubicBezTo>
              </a:path>
              <a:path w="3449" h="1390">
                <a:moveTo>
                  <a:pt x="19075" y="3646"/>
                </a:moveTo>
                <a:cubicBezTo>
                  <a:pt x="19008" y="3730"/>
                  <a:pt x="18931" y="3770"/>
                  <a:pt x="18852" y="3845"/>
                </a:cubicBezTo>
                <a:cubicBezTo>
                  <a:pt x="18796" y="3898"/>
                  <a:pt x="18777" y="3956"/>
                  <a:pt x="18827" y="4018"/>
                </a:cubicBezTo>
                <a:cubicBezTo>
                  <a:pt x="18876" y="4079"/>
                  <a:pt x="18967" y="4038"/>
                  <a:pt x="19025" y="4018"/>
                </a:cubicBezTo>
                <a:cubicBezTo>
                  <a:pt x="19099" y="3993"/>
                  <a:pt x="19141" y="3967"/>
                  <a:pt x="19174" y="3894"/>
                </a:cubicBezTo>
                <a:cubicBezTo>
                  <a:pt x="19206" y="3823"/>
                  <a:pt x="19208" y="3802"/>
                  <a:pt x="19174" y="3746"/>
                </a:cubicBezTo>
                <a:cubicBezTo>
                  <a:pt x="19116" y="3832"/>
                  <a:pt x="19105" y="3891"/>
                  <a:pt x="19149" y="3994"/>
                </a:cubicBezTo>
                <a:cubicBezTo>
                  <a:pt x="19191" y="4092"/>
                  <a:pt x="19218" y="4189"/>
                  <a:pt x="19248" y="4291"/>
                </a:cubicBezTo>
                <a:cubicBezTo>
                  <a:pt x="19267" y="4357"/>
                  <a:pt x="19317" y="4497"/>
                  <a:pt x="19298" y="4564"/>
                </a:cubicBezTo>
                <a:cubicBezTo>
                  <a:pt x="19291" y="4589"/>
                  <a:pt x="19225" y="4645"/>
                  <a:pt x="19199" y="4638"/>
                </a:cubicBezTo>
                <a:cubicBezTo>
                  <a:pt x="19114" y="4615"/>
                  <a:pt x="19035" y="4600"/>
                  <a:pt x="18951" y="4564"/>
                </a:cubicBezTo>
                <a:cubicBezTo>
                  <a:pt x="18896" y="4540"/>
                  <a:pt x="18887" y="4509"/>
                  <a:pt x="18852" y="4465"/>
                </a:cubicBezTo>
              </a:path>
              <a:path w="3449" h="1390">
                <a:moveTo>
                  <a:pt x="19521" y="3349"/>
                </a:moveTo>
                <a:cubicBezTo>
                  <a:pt x="19548" y="3457"/>
                  <a:pt x="19567" y="3559"/>
                  <a:pt x="19571" y="3671"/>
                </a:cubicBezTo>
                <a:cubicBezTo>
                  <a:pt x="19574" y="3752"/>
                  <a:pt x="19575" y="3866"/>
                  <a:pt x="19596" y="3944"/>
                </a:cubicBezTo>
                <a:cubicBezTo>
                  <a:pt x="19604" y="3961"/>
                  <a:pt x="19613" y="3977"/>
                  <a:pt x="19621" y="3994"/>
                </a:cubicBezTo>
                <a:cubicBezTo>
                  <a:pt x="19621" y="3908"/>
                  <a:pt x="19632" y="3849"/>
                  <a:pt x="19670" y="3770"/>
                </a:cubicBezTo>
                <a:cubicBezTo>
                  <a:pt x="19696" y="3716"/>
                  <a:pt x="19733" y="3667"/>
                  <a:pt x="19769" y="3621"/>
                </a:cubicBezTo>
                <a:cubicBezTo>
                  <a:pt x="19785" y="3703"/>
                  <a:pt x="19772" y="3737"/>
                  <a:pt x="19794" y="3820"/>
                </a:cubicBezTo>
                <a:cubicBezTo>
                  <a:pt x="19816" y="3903"/>
                  <a:pt x="19846" y="3931"/>
                  <a:pt x="19918" y="3969"/>
                </a:cubicBezTo>
                <a:cubicBezTo>
                  <a:pt x="19996" y="4011"/>
                  <a:pt x="20056" y="4042"/>
                  <a:pt x="20141" y="3994"/>
                </a:cubicBezTo>
                <a:cubicBezTo>
                  <a:pt x="20223" y="3947"/>
                  <a:pt x="20229" y="3905"/>
                  <a:pt x="20265" y="3820"/>
                </a:cubicBezTo>
                <a:cubicBezTo>
                  <a:pt x="20273" y="3803"/>
                  <a:pt x="20282" y="3787"/>
                  <a:pt x="20290" y="3770"/>
                </a:cubicBezTo>
              </a:path>
              <a:path w="3449" h="1390">
                <a:moveTo>
                  <a:pt x="20315" y="3324"/>
                </a:moveTo>
                <a:cubicBezTo>
                  <a:pt x="20307" y="3307"/>
                  <a:pt x="20298" y="3291"/>
                  <a:pt x="20290" y="3274"/>
                </a:cubicBezTo>
                <a:cubicBezTo>
                  <a:pt x="20248" y="3359"/>
                  <a:pt x="20241" y="3402"/>
                  <a:pt x="20241" y="3497"/>
                </a:cubicBezTo>
                <a:cubicBezTo>
                  <a:pt x="20241" y="3575"/>
                  <a:pt x="20262" y="3673"/>
                  <a:pt x="20290" y="3746"/>
                </a:cubicBezTo>
                <a:cubicBezTo>
                  <a:pt x="20314" y="3809"/>
                  <a:pt x="20356" y="3863"/>
                  <a:pt x="20389" y="3919"/>
                </a:cubicBezTo>
                <a:cubicBezTo>
                  <a:pt x="20430" y="3989"/>
                  <a:pt x="20444" y="4060"/>
                  <a:pt x="20414" y="3894"/>
                </a:cubicBezTo>
              </a:path>
              <a:path w="3449" h="1390">
                <a:moveTo>
                  <a:pt x="20141" y="3646"/>
                </a:moveTo>
                <a:cubicBezTo>
                  <a:pt x="20060" y="3586"/>
                  <a:pt x="20037" y="3581"/>
                  <a:pt x="20017" y="3522"/>
                </a:cubicBezTo>
                <a:cubicBezTo>
                  <a:pt x="20077" y="3452"/>
                  <a:pt x="20184" y="3438"/>
                  <a:pt x="20290" y="3448"/>
                </a:cubicBezTo>
                <a:cubicBezTo>
                  <a:pt x="20430" y="3462"/>
                  <a:pt x="20574" y="3483"/>
                  <a:pt x="20712" y="3497"/>
                </a:cubicBezTo>
                <a:cubicBezTo>
                  <a:pt x="20726" y="3498"/>
                  <a:pt x="20949" y="3524"/>
                  <a:pt x="20935" y="3547"/>
                </a:cubicBezTo>
                <a:cubicBezTo>
                  <a:pt x="20919" y="3555"/>
                  <a:pt x="20902" y="3564"/>
                  <a:pt x="20886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Ink 6"/>
          <p:cNvSpPr/>
          <p:nvPr/>
        </p:nvSpPr>
        <p:spPr>
          <a:xfrm>
            <a:off x="4653000" y="1598760"/>
            <a:ext cx="830160" cy="615960"/>
          </a:xfrm>
          <a:custGeom>
            <a:avLst/>
            <a:gdLst/>
            <a:ahLst/>
            <a:rect l="l" t="t" r="r" b="b"/>
            <a:pathLst>
              <a:path w="2308" h="1713">
                <a:moveTo>
                  <a:pt x="13295" y="4713"/>
                </a:moveTo>
                <a:cubicBezTo>
                  <a:pt x="13295" y="4779"/>
                  <a:pt x="13312" y="4827"/>
                  <a:pt x="13320" y="4887"/>
                </a:cubicBezTo>
                <a:cubicBezTo>
                  <a:pt x="13332" y="4976"/>
                  <a:pt x="13342" y="5070"/>
                  <a:pt x="13345" y="5159"/>
                </a:cubicBezTo>
                <a:cubicBezTo>
                  <a:pt x="13348" y="5248"/>
                  <a:pt x="13365" y="5323"/>
                  <a:pt x="13370" y="5407"/>
                </a:cubicBezTo>
                <a:cubicBezTo>
                  <a:pt x="13374" y="5473"/>
                  <a:pt x="13370" y="5540"/>
                  <a:pt x="13370" y="5606"/>
                </a:cubicBezTo>
              </a:path>
              <a:path w="2308" h="1713">
                <a:moveTo>
                  <a:pt x="12923" y="4862"/>
                </a:moveTo>
                <a:cubicBezTo>
                  <a:pt x="12976" y="4820"/>
                  <a:pt x="13023" y="4787"/>
                  <a:pt x="13072" y="4738"/>
                </a:cubicBezTo>
                <a:cubicBezTo>
                  <a:pt x="13123" y="4687"/>
                  <a:pt x="13180" y="4615"/>
                  <a:pt x="13221" y="4564"/>
                </a:cubicBezTo>
                <a:cubicBezTo>
                  <a:pt x="13235" y="4547"/>
                  <a:pt x="13314" y="4438"/>
                  <a:pt x="13345" y="4440"/>
                </a:cubicBezTo>
                <a:cubicBezTo>
                  <a:pt x="13416" y="4445"/>
                  <a:pt x="13444" y="4539"/>
                  <a:pt x="13469" y="4589"/>
                </a:cubicBezTo>
                <a:cubicBezTo>
                  <a:pt x="13497" y="4645"/>
                  <a:pt x="13532" y="4710"/>
                  <a:pt x="13568" y="4762"/>
                </a:cubicBezTo>
                <a:cubicBezTo>
                  <a:pt x="13600" y="4808"/>
                  <a:pt x="13642" y="4866"/>
                  <a:pt x="13692" y="4887"/>
                </a:cubicBezTo>
                <a:cubicBezTo>
                  <a:pt x="13700" y="4887"/>
                  <a:pt x="13709" y="4887"/>
                  <a:pt x="13717" y="4887"/>
                </a:cubicBezTo>
              </a:path>
              <a:path w="2308" h="1713">
                <a:moveTo>
                  <a:pt x="14015" y="5035"/>
                </a:moveTo>
                <a:lnTo>
                  <a:pt x="14015" y="5035"/>
                </a:lnTo>
              </a:path>
              <a:path w="2308" h="1713">
                <a:moveTo>
                  <a:pt x="14188" y="5507"/>
                </a:moveTo>
                <a:cubicBezTo>
                  <a:pt x="14283" y="5464"/>
                  <a:pt x="14322" y="5433"/>
                  <a:pt x="14362" y="5333"/>
                </a:cubicBezTo>
                <a:cubicBezTo>
                  <a:pt x="14386" y="5272"/>
                  <a:pt x="14382" y="5233"/>
                  <a:pt x="14412" y="5184"/>
                </a:cubicBezTo>
                <a:cubicBezTo>
                  <a:pt x="14418" y="5246"/>
                  <a:pt x="14419" y="5321"/>
                  <a:pt x="14436" y="5383"/>
                </a:cubicBezTo>
                <a:cubicBezTo>
                  <a:pt x="14452" y="5441"/>
                  <a:pt x="14532" y="5513"/>
                  <a:pt x="14585" y="5531"/>
                </a:cubicBezTo>
                <a:cubicBezTo>
                  <a:pt x="14634" y="5548"/>
                  <a:pt x="14685" y="5495"/>
                  <a:pt x="14709" y="5457"/>
                </a:cubicBezTo>
                <a:cubicBezTo>
                  <a:pt x="14717" y="5440"/>
                  <a:pt x="14726" y="5424"/>
                  <a:pt x="14734" y="5407"/>
                </a:cubicBezTo>
              </a:path>
              <a:path w="2308" h="1713">
                <a:moveTo>
                  <a:pt x="14784" y="5184"/>
                </a:moveTo>
                <a:cubicBezTo>
                  <a:pt x="14758" y="5252"/>
                  <a:pt x="14743" y="5337"/>
                  <a:pt x="14734" y="5407"/>
                </a:cubicBezTo>
                <a:cubicBezTo>
                  <a:pt x="14722" y="5500"/>
                  <a:pt x="14749" y="5603"/>
                  <a:pt x="14759" y="5680"/>
                </a:cubicBezTo>
                <a:cubicBezTo>
                  <a:pt x="14772" y="5772"/>
                  <a:pt x="14794" y="5864"/>
                  <a:pt x="14808" y="5953"/>
                </a:cubicBezTo>
                <a:cubicBezTo>
                  <a:pt x="14819" y="6024"/>
                  <a:pt x="14823" y="6094"/>
                  <a:pt x="14858" y="6152"/>
                </a:cubicBezTo>
                <a:cubicBezTo>
                  <a:pt x="14833" y="6059"/>
                  <a:pt x="14809" y="5969"/>
                  <a:pt x="14784" y="5879"/>
                </a:cubicBezTo>
                <a:cubicBezTo>
                  <a:pt x="14758" y="5785"/>
                  <a:pt x="14759" y="5704"/>
                  <a:pt x="14759" y="5606"/>
                </a:cubicBezTo>
                <a:cubicBezTo>
                  <a:pt x="14759" y="5509"/>
                  <a:pt x="14773" y="5423"/>
                  <a:pt x="14784" y="5333"/>
                </a:cubicBezTo>
                <a:cubicBezTo>
                  <a:pt x="14794" y="5251"/>
                  <a:pt x="14800" y="5177"/>
                  <a:pt x="14858" y="5110"/>
                </a:cubicBezTo>
                <a:cubicBezTo>
                  <a:pt x="14922" y="5037"/>
                  <a:pt x="14965" y="5035"/>
                  <a:pt x="15056" y="5035"/>
                </a:cubicBezTo>
                <a:cubicBezTo>
                  <a:pt x="15130" y="5035"/>
                  <a:pt x="15156" y="5086"/>
                  <a:pt x="15205" y="5135"/>
                </a:cubicBezTo>
                <a:cubicBezTo>
                  <a:pt x="15248" y="5178"/>
                  <a:pt x="15225" y="5244"/>
                  <a:pt x="15180" y="5283"/>
                </a:cubicBezTo>
                <a:cubicBezTo>
                  <a:pt x="15116" y="5338"/>
                  <a:pt x="15032" y="5389"/>
                  <a:pt x="14957" y="5432"/>
                </a:cubicBezTo>
                <a:cubicBezTo>
                  <a:pt x="14890" y="5471"/>
                  <a:pt x="14835" y="5485"/>
                  <a:pt x="14759" y="5507"/>
                </a:cubicBezTo>
              </a:path>
              <a:path w="2308" h="1713">
                <a:moveTo>
                  <a:pt x="14064" y="5035"/>
                </a:moveTo>
                <a:cubicBezTo>
                  <a:pt x="14064" y="5134"/>
                  <a:pt x="14054" y="5216"/>
                  <a:pt x="14039" y="5308"/>
                </a:cubicBezTo>
                <a:cubicBezTo>
                  <a:pt x="14031" y="5353"/>
                  <a:pt x="14030" y="5440"/>
                  <a:pt x="14089" y="5457"/>
                </a:cubicBezTo>
                <a:cubicBezTo>
                  <a:pt x="14147" y="5457"/>
                  <a:pt x="14172" y="5457"/>
                  <a:pt x="14213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Ink 7"/>
          <p:cNvSpPr/>
          <p:nvPr/>
        </p:nvSpPr>
        <p:spPr>
          <a:xfrm>
            <a:off x="6340320" y="1581120"/>
            <a:ext cx="250920" cy="527040"/>
          </a:xfrm>
          <a:custGeom>
            <a:avLst/>
            <a:gdLst/>
            <a:ahLst/>
            <a:rect l="l" t="t" r="r" b="b"/>
            <a:pathLst>
              <a:path w="696" h="1465">
                <a:moveTo>
                  <a:pt x="17934" y="4390"/>
                </a:moveTo>
                <a:cubicBezTo>
                  <a:pt x="17903" y="4442"/>
                  <a:pt x="17913" y="4481"/>
                  <a:pt x="17934" y="4539"/>
                </a:cubicBezTo>
                <a:cubicBezTo>
                  <a:pt x="17957" y="4605"/>
                  <a:pt x="17962" y="4674"/>
                  <a:pt x="17983" y="4738"/>
                </a:cubicBezTo>
                <a:cubicBezTo>
                  <a:pt x="18008" y="4814"/>
                  <a:pt x="18025" y="4906"/>
                  <a:pt x="18033" y="4986"/>
                </a:cubicBezTo>
                <a:cubicBezTo>
                  <a:pt x="18047" y="5137"/>
                  <a:pt x="18037" y="5284"/>
                  <a:pt x="18058" y="5432"/>
                </a:cubicBezTo>
                <a:cubicBezTo>
                  <a:pt x="18072" y="5529"/>
                  <a:pt x="18044" y="5614"/>
                  <a:pt x="18083" y="5705"/>
                </a:cubicBezTo>
              </a:path>
              <a:path w="696" h="1465">
                <a:moveTo>
                  <a:pt x="17611" y="5507"/>
                </a:moveTo>
                <a:cubicBezTo>
                  <a:pt x="17653" y="5558"/>
                  <a:pt x="17650" y="5610"/>
                  <a:pt x="17686" y="5655"/>
                </a:cubicBezTo>
                <a:cubicBezTo>
                  <a:pt x="17728" y="5706"/>
                  <a:pt x="17771" y="5752"/>
                  <a:pt x="17810" y="5804"/>
                </a:cubicBezTo>
                <a:cubicBezTo>
                  <a:pt x="17835" y="5829"/>
                  <a:pt x="17843" y="5837"/>
                  <a:pt x="17859" y="5854"/>
                </a:cubicBezTo>
                <a:cubicBezTo>
                  <a:pt x="17901" y="5804"/>
                  <a:pt x="17937" y="5752"/>
                  <a:pt x="17983" y="5705"/>
                </a:cubicBezTo>
                <a:cubicBezTo>
                  <a:pt x="18043" y="5645"/>
                  <a:pt x="18114" y="5638"/>
                  <a:pt x="18182" y="5581"/>
                </a:cubicBezTo>
                <a:cubicBezTo>
                  <a:pt x="18231" y="5540"/>
                  <a:pt x="18268" y="5469"/>
                  <a:pt x="18306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Ink 8"/>
          <p:cNvSpPr/>
          <p:nvPr/>
        </p:nvSpPr>
        <p:spPr>
          <a:xfrm>
            <a:off x="6796080" y="1697040"/>
            <a:ext cx="830160" cy="339840"/>
          </a:xfrm>
          <a:custGeom>
            <a:avLst/>
            <a:gdLst/>
            <a:ahLst/>
            <a:rect l="l" t="t" r="r" b="b"/>
            <a:pathLst>
              <a:path w="2308" h="943">
                <a:moveTo>
                  <a:pt x="19199" y="5110"/>
                </a:moveTo>
                <a:cubicBezTo>
                  <a:pt x="19211" y="5182"/>
                  <a:pt x="19257" y="5319"/>
                  <a:pt x="19199" y="5358"/>
                </a:cubicBezTo>
                <a:cubicBezTo>
                  <a:pt x="19170" y="5329"/>
                  <a:pt x="19133" y="5246"/>
                  <a:pt x="19100" y="5234"/>
                </a:cubicBezTo>
                <a:cubicBezTo>
                  <a:pt x="19041" y="5213"/>
                  <a:pt x="18958" y="5258"/>
                  <a:pt x="18926" y="5308"/>
                </a:cubicBezTo>
                <a:cubicBezTo>
                  <a:pt x="18886" y="5370"/>
                  <a:pt x="18850" y="5483"/>
                  <a:pt x="18876" y="5556"/>
                </a:cubicBezTo>
                <a:cubicBezTo>
                  <a:pt x="18892" y="5599"/>
                  <a:pt x="18986" y="5657"/>
                  <a:pt x="19025" y="5655"/>
                </a:cubicBezTo>
                <a:cubicBezTo>
                  <a:pt x="19109" y="5651"/>
                  <a:pt x="19130" y="5615"/>
                  <a:pt x="19174" y="5556"/>
                </a:cubicBezTo>
                <a:cubicBezTo>
                  <a:pt x="19230" y="5482"/>
                  <a:pt x="19224" y="5442"/>
                  <a:pt x="19248" y="5358"/>
                </a:cubicBezTo>
                <a:cubicBezTo>
                  <a:pt x="19272" y="5274"/>
                  <a:pt x="19273" y="5201"/>
                  <a:pt x="19273" y="5110"/>
                </a:cubicBezTo>
                <a:cubicBezTo>
                  <a:pt x="19273" y="5004"/>
                  <a:pt x="19268" y="4911"/>
                  <a:pt x="19248" y="4812"/>
                </a:cubicBezTo>
                <a:cubicBezTo>
                  <a:pt x="19248" y="4769"/>
                  <a:pt x="19243" y="4744"/>
                  <a:pt x="19224" y="4713"/>
                </a:cubicBezTo>
                <a:cubicBezTo>
                  <a:pt x="19224" y="4776"/>
                  <a:pt x="19237" y="4826"/>
                  <a:pt x="19248" y="4887"/>
                </a:cubicBezTo>
                <a:cubicBezTo>
                  <a:pt x="19267" y="4990"/>
                  <a:pt x="19288" y="5106"/>
                  <a:pt x="19298" y="5209"/>
                </a:cubicBezTo>
                <a:cubicBezTo>
                  <a:pt x="19304" y="5271"/>
                  <a:pt x="19262" y="5494"/>
                  <a:pt x="19323" y="5531"/>
                </a:cubicBezTo>
                <a:cubicBezTo>
                  <a:pt x="19331" y="5531"/>
                  <a:pt x="19340" y="5531"/>
                  <a:pt x="19348" y="5531"/>
                </a:cubicBezTo>
              </a:path>
              <a:path w="2308" h="943">
                <a:moveTo>
                  <a:pt x="19521" y="5333"/>
                </a:moveTo>
                <a:cubicBezTo>
                  <a:pt x="19521" y="5374"/>
                  <a:pt x="19495" y="5515"/>
                  <a:pt x="19571" y="5531"/>
                </a:cubicBezTo>
                <a:cubicBezTo>
                  <a:pt x="19618" y="5541"/>
                  <a:pt x="19749" y="5514"/>
                  <a:pt x="19769" y="5457"/>
                </a:cubicBezTo>
                <a:cubicBezTo>
                  <a:pt x="19789" y="5401"/>
                  <a:pt x="19794" y="5348"/>
                  <a:pt x="19794" y="5283"/>
                </a:cubicBezTo>
                <a:cubicBezTo>
                  <a:pt x="19794" y="5213"/>
                  <a:pt x="19806" y="5147"/>
                  <a:pt x="19769" y="5085"/>
                </a:cubicBezTo>
                <a:cubicBezTo>
                  <a:pt x="19733" y="5025"/>
                  <a:pt x="19653" y="5013"/>
                  <a:pt x="19596" y="5060"/>
                </a:cubicBezTo>
                <a:cubicBezTo>
                  <a:pt x="19555" y="5094"/>
                  <a:pt x="19501" y="5159"/>
                  <a:pt x="19472" y="5209"/>
                </a:cubicBezTo>
                <a:cubicBezTo>
                  <a:pt x="19430" y="5280"/>
                  <a:pt x="19428" y="5380"/>
                  <a:pt x="19521" y="5407"/>
                </a:cubicBezTo>
                <a:cubicBezTo>
                  <a:pt x="19573" y="5407"/>
                  <a:pt x="19591" y="5406"/>
                  <a:pt x="19621" y="5383"/>
                </a:cubicBezTo>
              </a:path>
              <a:path w="2308" h="943">
                <a:moveTo>
                  <a:pt x="19968" y="5333"/>
                </a:moveTo>
                <a:cubicBezTo>
                  <a:pt x="19998" y="5407"/>
                  <a:pt x="20011" y="5470"/>
                  <a:pt x="20092" y="5407"/>
                </a:cubicBezTo>
                <a:cubicBezTo>
                  <a:pt x="20135" y="5373"/>
                  <a:pt x="20117" y="5309"/>
                  <a:pt x="20117" y="5259"/>
                </a:cubicBezTo>
                <a:cubicBezTo>
                  <a:pt x="20147" y="5289"/>
                  <a:pt x="20181" y="5370"/>
                  <a:pt x="20216" y="5383"/>
                </a:cubicBezTo>
                <a:cubicBezTo>
                  <a:pt x="20256" y="5397"/>
                  <a:pt x="20343" y="5424"/>
                  <a:pt x="20389" y="5407"/>
                </a:cubicBezTo>
                <a:cubicBezTo>
                  <a:pt x="20443" y="5387"/>
                  <a:pt x="20510" y="5326"/>
                  <a:pt x="20489" y="5259"/>
                </a:cubicBezTo>
                <a:cubicBezTo>
                  <a:pt x="20479" y="5226"/>
                  <a:pt x="20399" y="5124"/>
                  <a:pt x="20365" y="5110"/>
                </a:cubicBezTo>
                <a:cubicBezTo>
                  <a:pt x="20315" y="5110"/>
                  <a:pt x="20298" y="5110"/>
                  <a:pt x="20315" y="5060"/>
                </a:cubicBezTo>
              </a:path>
              <a:path w="2308" h="943">
                <a:moveTo>
                  <a:pt x="20638" y="5011"/>
                </a:moveTo>
                <a:cubicBezTo>
                  <a:pt x="20662" y="5141"/>
                  <a:pt x="20644" y="5230"/>
                  <a:pt x="20638" y="5358"/>
                </a:cubicBezTo>
                <a:cubicBezTo>
                  <a:pt x="20632" y="5483"/>
                  <a:pt x="20656" y="5303"/>
                  <a:pt x="20662" y="5283"/>
                </a:cubicBezTo>
                <a:cubicBezTo>
                  <a:pt x="20685" y="5200"/>
                  <a:pt x="20698" y="5137"/>
                  <a:pt x="20737" y="5060"/>
                </a:cubicBezTo>
                <a:cubicBezTo>
                  <a:pt x="20757" y="5021"/>
                  <a:pt x="20813" y="4925"/>
                  <a:pt x="20861" y="4911"/>
                </a:cubicBezTo>
                <a:cubicBezTo>
                  <a:pt x="20956" y="4883"/>
                  <a:pt x="20999" y="4925"/>
                  <a:pt x="21059" y="4986"/>
                </a:cubicBezTo>
                <a:cubicBezTo>
                  <a:pt x="21106" y="5033"/>
                  <a:pt x="21129" y="5100"/>
                  <a:pt x="21158" y="5159"/>
                </a:cubicBezTo>
                <a:cubicBezTo>
                  <a:pt x="21193" y="5230"/>
                  <a:pt x="21181" y="5291"/>
                  <a:pt x="21158" y="5358"/>
                </a:cubicBezTo>
                <a:cubicBezTo>
                  <a:pt x="21141" y="5407"/>
                  <a:pt x="21133" y="5442"/>
                  <a:pt x="21109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Ink 9"/>
          <p:cNvSpPr/>
          <p:nvPr/>
        </p:nvSpPr>
        <p:spPr>
          <a:xfrm>
            <a:off x="1857240" y="1562040"/>
            <a:ext cx="1679760" cy="1162080"/>
          </a:xfrm>
          <a:custGeom>
            <a:avLst/>
            <a:gdLst/>
            <a:ahLst/>
            <a:rect l="l" t="t" r="r" b="b"/>
            <a:pathLst>
              <a:path w="4665" h="3225">
                <a:moveTo>
                  <a:pt x="6970" y="4440"/>
                </a:moveTo>
                <a:cubicBezTo>
                  <a:pt x="6917" y="4424"/>
                  <a:pt x="6856" y="4405"/>
                  <a:pt x="6796" y="4390"/>
                </a:cubicBezTo>
                <a:cubicBezTo>
                  <a:pt x="6730" y="4373"/>
                  <a:pt x="6668" y="4368"/>
                  <a:pt x="6598" y="4366"/>
                </a:cubicBezTo>
                <a:cubicBezTo>
                  <a:pt x="6511" y="4363"/>
                  <a:pt x="6430" y="4384"/>
                  <a:pt x="6350" y="4390"/>
                </a:cubicBezTo>
                <a:cubicBezTo>
                  <a:pt x="6274" y="4396"/>
                  <a:pt x="6225" y="4401"/>
                  <a:pt x="6152" y="4415"/>
                </a:cubicBezTo>
                <a:cubicBezTo>
                  <a:pt x="6081" y="4428"/>
                  <a:pt x="6022" y="4467"/>
                  <a:pt x="5953" y="4490"/>
                </a:cubicBezTo>
                <a:cubicBezTo>
                  <a:pt x="5886" y="4512"/>
                  <a:pt x="5840" y="4533"/>
                  <a:pt x="5779" y="4564"/>
                </a:cubicBezTo>
                <a:cubicBezTo>
                  <a:pt x="5721" y="4594"/>
                  <a:pt x="5682" y="4626"/>
                  <a:pt x="5631" y="4663"/>
                </a:cubicBezTo>
                <a:cubicBezTo>
                  <a:pt x="5579" y="4701"/>
                  <a:pt x="5534" y="4749"/>
                  <a:pt x="5482" y="4787"/>
                </a:cubicBezTo>
                <a:cubicBezTo>
                  <a:pt x="5443" y="4815"/>
                  <a:pt x="5417" y="4840"/>
                  <a:pt x="5383" y="4887"/>
                </a:cubicBezTo>
                <a:cubicBezTo>
                  <a:pt x="5344" y="4941"/>
                  <a:pt x="5313" y="5002"/>
                  <a:pt x="5283" y="5060"/>
                </a:cubicBezTo>
                <a:cubicBezTo>
                  <a:pt x="5246" y="5131"/>
                  <a:pt x="5209" y="5208"/>
                  <a:pt x="5184" y="5283"/>
                </a:cubicBezTo>
                <a:cubicBezTo>
                  <a:pt x="5161" y="5353"/>
                  <a:pt x="5161" y="5431"/>
                  <a:pt x="5159" y="5507"/>
                </a:cubicBezTo>
                <a:cubicBezTo>
                  <a:pt x="5157" y="5590"/>
                  <a:pt x="5152" y="5662"/>
                  <a:pt x="5184" y="5730"/>
                </a:cubicBezTo>
                <a:cubicBezTo>
                  <a:pt x="5213" y="5791"/>
                  <a:pt x="5262" y="5853"/>
                  <a:pt x="5308" y="5904"/>
                </a:cubicBezTo>
                <a:cubicBezTo>
                  <a:pt x="5358" y="5960"/>
                  <a:pt x="5410" y="5970"/>
                  <a:pt x="5457" y="6003"/>
                </a:cubicBezTo>
                <a:cubicBezTo>
                  <a:pt x="5504" y="6037"/>
                  <a:pt x="5527" y="6075"/>
                  <a:pt x="5581" y="6102"/>
                </a:cubicBezTo>
                <a:cubicBezTo>
                  <a:pt x="5637" y="6130"/>
                  <a:pt x="5688" y="6154"/>
                  <a:pt x="5755" y="6176"/>
                </a:cubicBezTo>
                <a:cubicBezTo>
                  <a:pt x="5861" y="6211"/>
                  <a:pt x="5990" y="6215"/>
                  <a:pt x="6102" y="6201"/>
                </a:cubicBezTo>
                <a:cubicBezTo>
                  <a:pt x="6185" y="6190"/>
                  <a:pt x="6270" y="6181"/>
                  <a:pt x="6350" y="6152"/>
                </a:cubicBezTo>
                <a:cubicBezTo>
                  <a:pt x="6424" y="6126"/>
                  <a:pt x="6506" y="6094"/>
                  <a:pt x="6573" y="6052"/>
                </a:cubicBezTo>
                <a:cubicBezTo>
                  <a:pt x="6641" y="6009"/>
                  <a:pt x="6700" y="5966"/>
                  <a:pt x="6772" y="5928"/>
                </a:cubicBezTo>
                <a:cubicBezTo>
                  <a:pt x="6859" y="5882"/>
                  <a:pt x="6910" y="5836"/>
                  <a:pt x="6970" y="5755"/>
                </a:cubicBezTo>
                <a:cubicBezTo>
                  <a:pt x="6997" y="5719"/>
                  <a:pt x="7051" y="5671"/>
                  <a:pt x="7069" y="5631"/>
                </a:cubicBezTo>
                <a:cubicBezTo>
                  <a:pt x="7093" y="5576"/>
                  <a:pt x="7132" y="5491"/>
                  <a:pt x="7144" y="5432"/>
                </a:cubicBezTo>
                <a:cubicBezTo>
                  <a:pt x="7158" y="5362"/>
                  <a:pt x="7167" y="5280"/>
                  <a:pt x="7169" y="5209"/>
                </a:cubicBezTo>
                <a:cubicBezTo>
                  <a:pt x="7172" y="5081"/>
                  <a:pt x="7173" y="4962"/>
                  <a:pt x="7144" y="4837"/>
                </a:cubicBezTo>
                <a:cubicBezTo>
                  <a:pt x="7129" y="4775"/>
                  <a:pt x="7114" y="4728"/>
                  <a:pt x="7094" y="4663"/>
                </a:cubicBezTo>
                <a:cubicBezTo>
                  <a:pt x="7075" y="4602"/>
                  <a:pt x="7057" y="4572"/>
                  <a:pt x="7020" y="4514"/>
                </a:cubicBezTo>
                <a:cubicBezTo>
                  <a:pt x="6982" y="4454"/>
                  <a:pt x="6953" y="4432"/>
                  <a:pt x="6896" y="4390"/>
                </a:cubicBezTo>
                <a:cubicBezTo>
                  <a:pt x="6831" y="4343"/>
                  <a:pt x="6801" y="4345"/>
                  <a:pt x="6722" y="4341"/>
                </a:cubicBezTo>
                <a:cubicBezTo>
                  <a:pt x="6655" y="4337"/>
                  <a:pt x="6585" y="4347"/>
                  <a:pt x="6524" y="4366"/>
                </a:cubicBezTo>
                <a:cubicBezTo>
                  <a:pt x="6507" y="4374"/>
                  <a:pt x="6491" y="4382"/>
                  <a:pt x="6474" y="4390"/>
                </a:cubicBezTo>
              </a:path>
              <a:path w="4665" h="3225">
                <a:moveTo>
                  <a:pt x="8979" y="6003"/>
                </a:moveTo>
                <a:cubicBezTo>
                  <a:pt x="8859" y="5963"/>
                  <a:pt x="8732" y="5918"/>
                  <a:pt x="8607" y="5904"/>
                </a:cubicBezTo>
                <a:cubicBezTo>
                  <a:pt x="8425" y="5884"/>
                  <a:pt x="8238" y="5914"/>
                  <a:pt x="8062" y="5928"/>
                </a:cubicBezTo>
                <a:cubicBezTo>
                  <a:pt x="7975" y="5935"/>
                  <a:pt x="7898" y="5938"/>
                  <a:pt x="7813" y="5953"/>
                </a:cubicBezTo>
                <a:cubicBezTo>
                  <a:pt x="7755" y="5963"/>
                  <a:pt x="7671" y="5984"/>
                  <a:pt x="7615" y="6003"/>
                </a:cubicBezTo>
                <a:cubicBezTo>
                  <a:pt x="7534" y="6031"/>
                  <a:pt x="7474" y="6038"/>
                  <a:pt x="7392" y="6052"/>
                </a:cubicBezTo>
                <a:cubicBezTo>
                  <a:pt x="7344" y="6060"/>
                  <a:pt x="7221" y="6082"/>
                  <a:pt x="7169" y="6102"/>
                </a:cubicBezTo>
                <a:cubicBezTo>
                  <a:pt x="7115" y="6123"/>
                  <a:pt x="7044" y="6171"/>
                  <a:pt x="6995" y="6201"/>
                </a:cubicBezTo>
                <a:cubicBezTo>
                  <a:pt x="6945" y="6231"/>
                  <a:pt x="6886" y="6258"/>
                  <a:pt x="6846" y="6300"/>
                </a:cubicBezTo>
                <a:cubicBezTo>
                  <a:pt x="6821" y="6326"/>
                  <a:pt x="6769" y="6391"/>
                  <a:pt x="6747" y="6424"/>
                </a:cubicBezTo>
                <a:cubicBezTo>
                  <a:pt x="6694" y="6505"/>
                  <a:pt x="6715" y="6561"/>
                  <a:pt x="6697" y="6648"/>
                </a:cubicBezTo>
                <a:cubicBezTo>
                  <a:pt x="6685" y="6704"/>
                  <a:pt x="6659" y="6749"/>
                  <a:pt x="6672" y="6821"/>
                </a:cubicBezTo>
                <a:cubicBezTo>
                  <a:pt x="6684" y="6885"/>
                  <a:pt x="6695" y="6925"/>
                  <a:pt x="6697" y="6995"/>
                </a:cubicBezTo>
                <a:cubicBezTo>
                  <a:pt x="6700" y="7076"/>
                  <a:pt x="6703" y="7143"/>
                  <a:pt x="6722" y="7218"/>
                </a:cubicBezTo>
                <a:cubicBezTo>
                  <a:pt x="6731" y="7254"/>
                  <a:pt x="6765" y="7336"/>
                  <a:pt x="6796" y="7367"/>
                </a:cubicBezTo>
                <a:cubicBezTo>
                  <a:pt x="6841" y="7412"/>
                  <a:pt x="6900" y="7416"/>
                  <a:pt x="6945" y="7441"/>
                </a:cubicBezTo>
                <a:cubicBezTo>
                  <a:pt x="7004" y="7474"/>
                  <a:pt x="7052" y="7499"/>
                  <a:pt x="7119" y="7516"/>
                </a:cubicBezTo>
                <a:cubicBezTo>
                  <a:pt x="7185" y="7533"/>
                  <a:pt x="7282" y="7560"/>
                  <a:pt x="7342" y="7565"/>
                </a:cubicBezTo>
                <a:cubicBezTo>
                  <a:pt x="7494" y="7578"/>
                  <a:pt x="7642" y="7554"/>
                  <a:pt x="7789" y="7541"/>
                </a:cubicBezTo>
                <a:cubicBezTo>
                  <a:pt x="7870" y="7534"/>
                  <a:pt x="7970" y="7522"/>
                  <a:pt x="8037" y="7516"/>
                </a:cubicBezTo>
                <a:cubicBezTo>
                  <a:pt x="8119" y="7508"/>
                  <a:pt x="8206" y="7497"/>
                  <a:pt x="8285" y="7491"/>
                </a:cubicBezTo>
                <a:cubicBezTo>
                  <a:pt x="8370" y="7484"/>
                  <a:pt x="8449" y="7474"/>
                  <a:pt x="8533" y="7466"/>
                </a:cubicBezTo>
                <a:cubicBezTo>
                  <a:pt x="8626" y="7457"/>
                  <a:pt x="8715" y="7449"/>
                  <a:pt x="8806" y="7441"/>
                </a:cubicBezTo>
                <a:cubicBezTo>
                  <a:pt x="8883" y="7434"/>
                  <a:pt x="8935" y="7424"/>
                  <a:pt x="9004" y="7417"/>
                </a:cubicBezTo>
                <a:cubicBezTo>
                  <a:pt x="9128" y="7405"/>
                  <a:pt x="9241" y="7347"/>
                  <a:pt x="9351" y="7317"/>
                </a:cubicBezTo>
                <a:cubicBezTo>
                  <a:pt x="9421" y="7298"/>
                  <a:pt x="9461" y="7282"/>
                  <a:pt x="9525" y="7243"/>
                </a:cubicBezTo>
                <a:cubicBezTo>
                  <a:pt x="9577" y="7211"/>
                  <a:pt x="9628" y="7184"/>
                  <a:pt x="9674" y="7144"/>
                </a:cubicBezTo>
                <a:cubicBezTo>
                  <a:pt x="9718" y="7106"/>
                  <a:pt x="9741" y="7066"/>
                  <a:pt x="9773" y="7020"/>
                </a:cubicBezTo>
                <a:cubicBezTo>
                  <a:pt x="9816" y="6959"/>
                  <a:pt x="9830" y="6924"/>
                  <a:pt x="9823" y="6846"/>
                </a:cubicBezTo>
                <a:cubicBezTo>
                  <a:pt x="9818" y="6788"/>
                  <a:pt x="9809" y="6730"/>
                  <a:pt x="9798" y="6672"/>
                </a:cubicBezTo>
                <a:cubicBezTo>
                  <a:pt x="9787" y="6615"/>
                  <a:pt x="9754" y="6542"/>
                  <a:pt x="9748" y="6474"/>
                </a:cubicBezTo>
                <a:cubicBezTo>
                  <a:pt x="9735" y="6323"/>
                  <a:pt x="9784" y="6135"/>
                  <a:pt x="9723" y="6003"/>
                </a:cubicBezTo>
                <a:cubicBezTo>
                  <a:pt x="9689" y="5929"/>
                  <a:pt x="9662" y="5926"/>
                  <a:pt x="9599" y="5904"/>
                </a:cubicBezTo>
                <a:cubicBezTo>
                  <a:pt x="9537" y="5882"/>
                  <a:pt x="9452" y="5850"/>
                  <a:pt x="9376" y="5854"/>
                </a:cubicBezTo>
                <a:cubicBezTo>
                  <a:pt x="9299" y="5858"/>
                  <a:pt x="9185" y="5868"/>
                  <a:pt x="9103" y="5879"/>
                </a:cubicBezTo>
                <a:cubicBezTo>
                  <a:pt x="9024" y="5890"/>
                  <a:pt x="8939" y="5917"/>
                  <a:pt x="8855" y="5928"/>
                </a:cubicBezTo>
                <a:cubicBezTo>
                  <a:pt x="8847" y="5928"/>
                  <a:pt x="8838" y="5928"/>
                  <a:pt x="8830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Ink 10"/>
          <p:cNvSpPr/>
          <p:nvPr/>
        </p:nvSpPr>
        <p:spPr>
          <a:xfrm>
            <a:off x="4562640" y="2143080"/>
            <a:ext cx="1322280" cy="492120"/>
          </a:xfrm>
          <a:custGeom>
            <a:avLst/>
            <a:gdLst/>
            <a:ahLst/>
            <a:rect l="l" t="t" r="r" b="b"/>
            <a:pathLst>
              <a:path w="3672" h="1365">
                <a:moveTo>
                  <a:pt x="13047" y="5953"/>
                </a:moveTo>
                <a:cubicBezTo>
                  <a:pt x="13086" y="6018"/>
                  <a:pt x="13072" y="6096"/>
                  <a:pt x="13072" y="6176"/>
                </a:cubicBezTo>
                <a:cubicBezTo>
                  <a:pt x="13072" y="6302"/>
                  <a:pt x="13029" y="6421"/>
                  <a:pt x="13047" y="6548"/>
                </a:cubicBezTo>
                <a:cubicBezTo>
                  <a:pt x="13061" y="6647"/>
                  <a:pt x="13085" y="6752"/>
                  <a:pt x="13097" y="6846"/>
                </a:cubicBezTo>
                <a:cubicBezTo>
                  <a:pt x="13105" y="6910"/>
                  <a:pt x="13139" y="6992"/>
                  <a:pt x="13097" y="7020"/>
                </a:cubicBezTo>
              </a:path>
              <a:path w="3672" h="1365">
                <a:moveTo>
                  <a:pt x="12675" y="6796"/>
                </a:moveTo>
                <a:cubicBezTo>
                  <a:pt x="12743" y="6915"/>
                  <a:pt x="12766" y="6928"/>
                  <a:pt x="12874" y="6995"/>
                </a:cubicBezTo>
                <a:cubicBezTo>
                  <a:pt x="12924" y="7026"/>
                  <a:pt x="13017" y="7079"/>
                  <a:pt x="13072" y="7094"/>
                </a:cubicBezTo>
                <a:cubicBezTo>
                  <a:pt x="13175" y="7121"/>
                  <a:pt x="13179" y="7035"/>
                  <a:pt x="13196" y="6970"/>
                </a:cubicBezTo>
                <a:cubicBezTo>
                  <a:pt x="13214" y="6901"/>
                  <a:pt x="13225" y="6779"/>
                  <a:pt x="13271" y="6722"/>
                </a:cubicBezTo>
                <a:cubicBezTo>
                  <a:pt x="13311" y="6722"/>
                  <a:pt x="13330" y="6711"/>
                  <a:pt x="13345" y="6672"/>
                </a:cubicBezTo>
              </a:path>
              <a:path w="3672" h="1365">
                <a:moveTo>
                  <a:pt x="14039" y="6722"/>
                </a:moveTo>
                <a:cubicBezTo>
                  <a:pt x="14064" y="6747"/>
                  <a:pt x="14089" y="6771"/>
                  <a:pt x="14114" y="6796"/>
                </a:cubicBezTo>
                <a:cubicBezTo>
                  <a:pt x="14080" y="6755"/>
                  <a:pt x="14052" y="6701"/>
                  <a:pt x="14015" y="6672"/>
                </a:cubicBezTo>
                <a:cubicBezTo>
                  <a:pt x="13954" y="6624"/>
                  <a:pt x="13889" y="6623"/>
                  <a:pt x="13816" y="6623"/>
                </a:cubicBezTo>
                <a:cubicBezTo>
                  <a:pt x="13734" y="6623"/>
                  <a:pt x="13648" y="6658"/>
                  <a:pt x="13593" y="6722"/>
                </a:cubicBezTo>
                <a:cubicBezTo>
                  <a:pt x="13527" y="6798"/>
                  <a:pt x="13581" y="6861"/>
                  <a:pt x="13618" y="6921"/>
                </a:cubicBezTo>
                <a:cubicBezTo>
                  <a:pt x="13672" y="7009"/>
                  <a:pt x="13740" y="7015"/>
                  <a:pt x="13841" y="7020"/>
                </a:cubicBezTo>
                <a:cubicBezTo>
                  <a:pt x="13919" y="7024"/>
                  <a:pt x="13993" y="7022"/>
                  <a:pt x="14039" y="6945"/>
                </a:cubicBezTo>
                <a:cubicBezTo>
                  <a:pt x="14087" y="6863"/>
                  <a:pt x="14111" y="6740"/>
                  <a:pt x="14114" y="6648"/>
                </a:cubicBezTo>
                <a:cubicBezTo>
                  <a:pt x="14119" y="6502"/>
                  <a:pt x="14111" y="6335"/>
                  <a:pt x="14064" y="6201"/>
                </a:cubicBezTo>
                <a:cubicBezTo>
                  <a:pt x="14056" y="6193"/>
                  <a:pt x="14047" y="6184"/>
                  <a:pt x="14039" y="6176"/>
                </a:cubicBezTo>
                <a:cubicBezTo>
                  <a:pt x="14000" y="6266"/>
                  <a:pt x="13974" y="6349"/>
                  <a:pt x="13990" y="6449"/>
                </a:cubicBezTo>
                <a:cubicBezTo>
                  <a:pt x="14008" y="6562"/>
                  <a:pt x="14010" y="6692"/>
                  <a:pt x="14064" y="6796"/>
                </a:cubicBezTo>
                <a:cubicBezTo>
                  <a:pt x="14109" y="6882"/>
                  <a:pt x="14154" y="6969"/>
                  <a:pt x="14213" y="7045"/>
                </a:cubicBezTo>
                <a:cubicBezTo>
                  <a:pt x="14237" y="7076"/>
                  <a:pt x="14255" y="7086"/>
                  <a:pt x="14288" y="7094"/>
                </a:cubicBezTo>
              </a:path>
              <a:path w="3672" h="1365">
                <a:moveTo>
                  <a:pt x="14362" y="6697"/>
                </a:moveTo>
                <a:cubicBezTo>
                  <a:pt x="14319" y="6761"/>
                  <a:pt x="14287" y="6833"/>
                  <a:pt x="14312" y="6921"/>
                </a:cubicBezTo>
                <a:cubicBezTo>
                  <a:pt x="14336" y="7008"/>
                  <a:pt x="14386" y="7032"/>
                  <a:pt x="14461" y="7069"/>
                </a:cubicBezTo>
                <a:cubicBezTo>
                  <a:pt x="14514" y="7095"/>
                  <a:pt x="14609" y="7120"/>
                  <a:pt x="14660" y="7069"/>
                </a:cubicBezTo>
                <a:cubicBezTo>
                  <a:pt x="14698" y="7031"/>
                  <a:pt x="14738" y="6918"/>
                  <a:pt x="14734" y="6871"/>
                </a:cubicBezTo>
                <a:cubicBezTo>
                  <a:pt x="14726" y="6779"/>
                  <a:pt x="14671" y="6687"/>
                  <a:pt x="14610" y="6623"/>
                </a:cubicBezTo>
                <a:cubicBezTo>
                  <a:pt x="14562" y="6572"/>
                  <a:pt x="14481" y="6503"/>
                  <a:pt x="14412" y="6573"/>
                </a:cubicBezTo>
                <a:cubicBezTo>
                  <a:pt x="14326" y="6660"/>
                  <a:pt x="14450" y="6717"/>
                  <a:pt x="14511" y="6747"/>
                </a:cubicBezTo>
              </a:path>
              <a:path w="3672" h="1365">
                <a:moveTo>
                  <a:pt x="14833" y="6796"/>
                </a:moveTo>
                <a:cubicBezTo>
                  <a:pt x="14944" y="6858"/>
                  <a:pt x="14884" y="6850"/>
                  <a:pt x="14932" y="6945"/>
                </a:cubicBezTo>
                <a:cubicBezTo>
                  <a:pt x="14956" y="6993"/>
                  <a:pt x="15058" y="7047"/>
                  <a:pt x="15106" y="7045"/>
                </a:cubicBezTo>
                <a:cubicBezTo>
                  <a:pt x="15174" y="7042"/>
                  <a:pt x="15220" y="6970"/>
                  <a:pt x="15230" y="6921"/>
                </a:cubicBezTo>
                <a:cubicBezTo>
                  <a:pt x="15241" y="6868"/>
                  <a:pt x="15229" y="6836"/>
                  <a:pt x="15205" y="6796"/>
                </a:cubicBezTo>
                <a:cubicBezTo>
                  <a:pt x="15235" y="6856"/>
                  <a:pt x="15313" y="6930"/>
                  <a:pt x="15404" y="6945"/>
                </a:cubicBezTo>
                <a:cubicBezTo>
                  <a:pt x="15550" y="6970"/>
                  <a:pt x="15509" y="6810"/>
                  <a:pt x="15478" y="6722"/>
                </a:cubicBezTo>
                <a:cubicBezTo>
                  <a:pt x="15445" y="6628"/>
                  <a:pt x="15374" y="6550"/>
                  <a:pt x="15354" y="6449"/>
                </a:cubicBezTo>
                <a:cubicBezTo>
                  <a:pt x="15354" y="6408"/>
                  <a:pt x="15354" y="6400"/>
                  <a:pt x="15354" y="6375"/>
                </a:cubicBezTo>
              </a:path>
              <a:path w="3672" h="1365">
                <a:moveTo>
                  <a:pt x="15627" y="6821"/>
                </a:moveTo>
                <a:cubicBezTo>
                  <a:pt x="15652" y="6821"/>
                  <a:pt x="15676" y="6821"/>
                  <a:pt x="15701" y="6821"/>
                </a:cubicBezTo>
                <a:cubicBezTo>
                  <a:pt x="15709" y="6765"/>
                  <a:pt x="15718" y="6700"/>
                  <a:pt x="15751" y="6648"/>
                </a:cubicBezTo>
                <a:cubicBezTo>
                  <a:pt x="15797" y="6574"/>
                  <a:pt x="15865" y="6557"/>
                  <a:pt x="15949" y="6573"/>
                </a:cubicBezTo>
                <a:cubicBezTo>
                  <a:pt x="16057" y="6594"/>
                  <a:pt x="16144" y="6706"/>
                  <a:pt x="16197" y="6796"/>
                </a:cubicBezTo>
                <a:cubicBezTo>
                  <a:pt x="16260" y="6902"/>
                  <a:pt x="16282" y="7027"/>
                  <a:pt x="16321" y="7144"/>
                </a:cubicBezTo>
                <a:cubicBezTo>
                  <a:pt x="16351" y="7234"/>
                  <a:pt x="16340" y="7243"/>
                  <a:pt x="16321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Ink 11"/>
          <p:cNvSpPr/>
          <p:nvPr/>
        </p:nvSpPr>
        <p:spPr>
          <a:xfrm>
            <a:off x="6661080" y="2259000"/>
            <a:ext cx="563760" cy="465120"/>
          </a:xfrm>
          <a:custGeom>
            <a:avLst/>
            <a:gdLst/>
            <a:ahLst/>
            <a:rect l="l" t="t" r="r" b="b"/>
            <a:pathLst>
              <a:path w="1564" h="1290">
                <a:moveTo>
                  <a:pt x="18554" y="6424"/>
                </a:moveTo>
                <a:cubicBezTo>
                  <a:pt x="18546" y="6513"/>
                  <a:pt x="18517" y="6584"/>
                  <a:pt x="18504" y="6672"/>
                </a:cubicBezTo>
                <a:cubicBezTo>
                  <a:pt x="18495" y="6732"/>
                  <a:pt x="18543" y="6824"/>
                  <a:pt x="18579" y="6871"/>
                </a:cubicBezTo>
                <a:cubicBezTo>
                  <a:pt x="18633" y="6941"/>
                  <a:pt x="18767" y="6983"/>
                  <a:pt x="18852" y="6995"/>
                </a:cubicBezTo>
                <a:cubicBezTo>
                  <a:pt x="18939" y="7007"/>
                  <a:pt x="19042" y="7001"/>
                  <a:pt x="19124" y="6970"/>
                </a:cubicBezTo>
                <a:cubicBezTo>
                  <a:pt x="19187" y="6946"/>
                  <a:pt x="19246" y="6858"/>
                  <a:pt x="19273" y="6796"/>
                </a:cubicBezTo>
                <a:cubicBezTo>
                  <a:pt x="19293" y="6736"/>
                  <a:pt x="19292" y="6721"/>
                  <a:pt x="19323" y="6697"/>
                </a:cubicBezTo>
                <a:cubicBezTo>
                  <a:pt x="19304" y="6767"/>
                  <a:pt x="19288" y="6792"/>
                  <a:pt x="19323" y="6871"/>
                </a:cubicBezTo>
                <a:cubicBezTo>
                  <a:pt x="19353" y="6938"/>
                  <a:pt x="19442" y="7024"/>
                  <a:pt x="19521" y="7020"/>
                </a:cubicBezTo>
                <a:cubicBezTo>
                  <a:pt x="19605" y="7016"/>
                  <a:pt x="19656" y="6967"/>
                  <a:pt x="19695" y="6896"/>
                </a:cubicBezTo>
                <a:cubicBezTo>
                  <a:pt x="19746" y="6805"/>
                  <a:pt x="19766" y="6725"/>
                  <a:pt x="19769" y="6623"/>
                </a:cubicBezTo>
                <a:cubicBezTo>
                  <a:pt x="19772" y="6540"/>
                  <a:pt x="19773" y="6476"/>
                  <a:pt x="19745" y="6400"/>
                </a:cubicBezTo>
                <a:cubicBezTo>
                  <a:pt x="19690" y="6508"/>
                  <a:pt x="19710" y="6579"/>
                  <a:pt x="19695" y="6697"/>
                </a:cubicBezTo>
                <a:cubicBezTo>
                  <a:pt x="19674" y="6871"/>
                  <a:pt x="19690" y="7018"/>
                  <a:pt x="19695" y="7193"/>
                </a:cubicBezTo>
                <a:cubicBezTo>
                  <a:pt x="19698" y="7307"/>
                  <a:pt x="19728" y="7409"/>
                  <a:pt x="19745" y="7516"/>
                </a:cubicBezTo>
                <a:cubicBezTo>
                  <a:pt x="19745" y="7532"/>
                  <a:pt x="19745" y="7549"/>
                  <a:pt x="19745" y="7565"/>
                </a:cubicBezTo>
                <a:cubicBezTo>
                  <a:pt x="19798" y="7457"/>
                  <a:pt x="19794" y="7392"/>
                  <a:pt x="19794" y="7268"/>
                </a:cubicBezTo>
                <a:cubicBezTo>
                  <a:pt x="19794" y="7036"/>
                  <a:pt x="19769" y="6806"/>
                  <a:pt x="19769" y="6573"/>
                </a:cubicBezTo>
                <a:cubicBezTo>
                  <a:pt x="19769" y="6476"/>
                  <a:pt x="19780" y="6376"/>
                  <a:pt x="19844" y="6300"/>
                </a:cubicBezTo>
                <a:cubicBezTo>
                  <a:pt x="19860" y="6292"/>
                  <a:pt x="19877" y="6284"/>
                  <a:pt x="19893" y="6276"/>
                </a:cubicBezTo>
                <a:cubicBezTo>
                  <a:pt x="19989" y="6327"/>
                  <a:pt x="20044" y="6381"/>
                  <a:pt x="20067" y="6499"/>
                </a:cubicBezTo>
                <a:cubicBezTo>
                  <a:pt x="20090" y="6619"/>
                  <a:pt x="20002" y="6690"/>
                  <a:pt x="19918" y="6722"/>
                </a:cubicBezTo>
                <a:cubicBezTo>
                  <a:pt x="19840" y="6751"/>
                  <a:pt x="19777" y="6747"/>
                  <a:pt x="19695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Ink 12"/>
          <p:cNvSpPr/>
          <p:nvPr/>
        </p:nvSpPr>
        <p:spPr>
          <a:xfrm>
            <a:off x="6340320" y="2071800"/>
            <a:ext cx="312840" cy="4921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18008" y="5953"/>
                </a:moveTo>
                <a:cubicBezTo>
                  <a:pt x="18017" y="6015"/>
                  <a:pt x="18016" y="6088"/>
                  <a:pt x="18033" y="6152"/>
                </a:cubicBezTo>
                <a:cubicBezTo>
                  <a:pt x="18060" y="6253"/>
                  <a:pt x="18080" y="6368"/>
                  <a:pt x="18083" y="6474"/>
                </a:cubicBezTo>
                <a:cubicBezTo>
                  <a:pt x="18088" y="6612"/>
                  <a:pt x="18076" y="6738"/>
                  <a:pt x="18058" y="6871"/>
                </a:cubicBezTo>
                <a:cubicBezTo>
                  <a:pt x="18048" y="6941"/>
                  <a:pt x="18037" y="7005"/>
                  <a:pt x="18033" y="7069"/>
                </a:cubicBezTo>
                <a:cubicBezTo>
                  <a:pt x="18033" y="7121"/>
                  <a:pt x="18032" y="7136"/>
                  <a:pt x="18008" y="7069"/>
                </a:cubicBezTo>
              </a:path>
              <a:path w="869" h="1365">
                <a:moveTo>
                  <a:pt x="17611" y="6226"/>
                </a:moveTo>
                <a:cubicBezTo>
                  <a:pt x="17697" y="6226"/>
                  <a:pt x="17696" y="6216"/>
                  <a:pt x="17760" y="6176"/>
                </a:cubicBezTo>
                <a:cubicBezTo>
                  <a:pt x="17821" y="6137"/>
                  <a:pt x="17856" y="6104"/>
                  <a:pt x="17909" y="6052"/>
                </a:cubicBezTo>
                <a:cubicBezTo>
                  <a:pt x="17969" y="5993"/>
                  <a:pt x="17996" y="5916"/>
                  <a:pt x="18058" y="5854"/>
                </a:cubicBezTo>
                <a:cubicBezTo>
                  <a:pt x="18107" y="5805"/>
                  <a:pt x="18117" y="5736"/>
                  <a:pt x="18207" y="5755"/>
                </a:cubicBezTo>
                <a:cubicBezTo>
                  <a:pt x="18270" y="5769"/>
                  <a:pt x="18299" y="5832"/>
                  <a:pt x="18331" y="5879"/>
                </a:cubicBezTo>
                <a:cubicBezTo>
                  <a:pt x="18380" y="5950"/>
                  <a:pt x="18417" y="6025"/>
                  <a:pt x="18455" y="6102"/>
                </a:cubicBezTo>
                <a:cubicBezTo>
                  <a:pt x="18474" y="6143"/>
                  <a:pt x="18482" y="6149"/>
                  <a:pt x="18479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Ink 13"/>
          <p:cNvSpPr/>
          <p:nvPr/>
        </p:nvSpPr>
        <p:spPr>
          <a:xfrm>
            <a:off x="7134120" y="2224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819" y="6176"/>
                </a:moveTo>
                <a:lnTo>
                  <a:pt x="19819" y="617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Ink 14"/>
          <p:cNvSpPr/>
          <p:nvPr/>
        </p:nvSpPr>
        <p:spPr>
          <a:xfrm>
            <a:off x="2394000" y="3205080"/>
            <a:ext cx="1241280" cy="849240"/>
          </a:xfrm>
          <a:custGeom>
            <a:avLst/>
            <a:gdLst/>
            <a:ahLst/>
            <a:rect l="l" t="t" r="r" b="b"/>
            <a:pathLst>
              <a:path w="3449" h="2357">
                <a:moveTo>
                  <a:pt x="6796" y="9252"/>
                </a:moveTo>
                <a:cubicBezTo>
                  <a:pt x="6796" y="9478"/>
                  <a:pt x="6804" y="9699"/>
                  <a:pt x="6821" y="9922"/>
                </a:cubicBezTo>
                <a:cubicBezTo>
                  <a:pt x="6833" y="10072"/>
                  <a:pt x="6839" y="10221"/>
                  <a:pt x="6871" y="10368"/>
                </a:cubicBezTo>
                <a:cubicBezTo>
                  <a:pt x="6894" y="10473"/>
                  <a:pt x="6929" y="10588"/>
                  <a:pt x="6945" y="10691"/>
                </a:cubicBezTo>
                <a:cubicBezTo>
                  <a:pt x="6945" y="10740"/>
                  <a:pt x="6945" y="10757"/>
                  <a:pt x="6945" y="10790"/>
                </a:cubicBezTo>
                <a:cubicBezTo>
                  <a:pt x="6959" y="10705"/>
                  <a:pt x="6968" y="10632"/>
                  <a:pt x="6970" y="10542"/>
                </a:cubicBezTo>
                <a:cubicBezTo>
                  <a:pt x="6972" y="10415"/>
                  <a:pt x="6991" y="10296"/>
                  <a:pt x="6995" y="10170"/>
                </a:cubicBezTo>
                <a:cubicBezTo>
                  <a:pt x="7000" y="9985"/>
                  <a:pt x="7017" y="9810"/>
                  <a:pt x="7020" y="9624"/>
                </a:cubicBezTo>
                <a:cubicBezTo>
                  <a:pt x="7022" y="9471"/>
                  <a:pt x="7023" y="9325"/>
                  <a:pt x="6995" y="9178"/>
                </a:cubicBezTo>
                <a:cubicBezTo>
                  <a:pt x="6980" y="9097"/>
                  <a:pt x="6963" y="9040"/>
                  <a:pt x="6945" y="8954"/>
                </a:cubicBezTo>
                <a:cubicBezTo>
                  <a:pt x="6993" y="8935"/>
                  <a:pt x="6998" y="8909"/>
                  <a:pt x="7094" y="8905"/>
                </a:cubicBezTo>
                <a:cubicBezTo>
                  <a:pt x="7240" y="8899"/>
                  <a:pt x="7397" y="8912"/>
                  <a:pt x="7541" y="8930"/>
                </a:cubicBezTo>
                <a:cubicBezTo>
                  <a:pt x="7812" y="8963"/>
                  <a:pt x="8088" y="9007"/>
                  <a:pt x="8359" y="9029"/>
                </a:cubicBezTo>
                <a:cubicBezTo>
                  <a:pt x="8628" y="9051"/>
                  <a:pt x="8890" y="9047"/>
                  <a:pt x="9153" y="9079"/>
                </a:cubicBezTo>
                <a:cubicBezTo>
                  <a:pt x="9294" y="9096"/>
                  <a:pt x="9460" y="9096"/>
                  <a:pt x="9599" y="9103"/>
                </a:cubicBezTo>
                <a:cubicBezTo>
                  <a:pt x="9726" y="9109"/>
                  <a:pt x="9809" y="9085"/>
                  <a:pt x="9897" y="9153"/>
                </a:cubicBezTo>
                <a:cubicBezTo>
                  <a:pt x="9971" y="9210"/>
                  <a:pt x="9952" y="9322"/>
                  <a:pt x="9947" y="9401"/>
                </a:cubicBezTo>
                <a:cubicBezTo>
                  <a:pt x="9941" y="9511"/>
                  <a:pt x="9925" y="9611"/>
                  <a:pt x="9922" y="9723"/>
                </a:cubicBezTo>
                <a:cubicBezTo>
                  <a:pt x="9918" y="9876"/>
                  <a:pt x="9936" y="10020"/>
                  <a:pt x="9947" y="10170"/>
                </a:cubicBezTo>
                <a:cubicBezTo>
                  <a:pt x="9959" y="10323"/>
                  <a:pt x="9988" y="10465"/>
                  <a:pt x="10021" y="10616"/>
                </a:cubicBezTo>
                <a:cubicBezTo>
                  <a:pt x="10050" y="10749"/>
                  <a:pt x="10084" y="10878"/>
                  <a:pt x="10096" y="11013"/>
                </a:cubicBezTo>
                <a:cubicBezTo>
                  <a:pt x="10104" y="11101"/>
                  <a:pt x="10082" y="11167"/>
                  <a:pt x="10071" y="11237"/>
                </a:cubicBezTo>
                <a:cubicBezTo>
                  <a:pt x="10005" y="11244"/>
                  <a:pt x="9995" y="11249"/>
                  <a:pt x="9922" y="11237"/>
                </a:cubicBezTo>
                <a:cubicBezTo>
                  <a:pt x="9826" y="11221"/>
                  <a:pt x="9746" y="11191"/>
                  <a:pt x="9649" y="11162"/>
                </a:cubicBezTo>
                <a:cubicBezTo>
                  <a:pt x="9506" y="11120"/>
                  <a:pt x="9373" y="11114"/>
                  <a:pt x="9227" y="11088"/>
                </a:cubicBezTo>
                <a:cubicBezTo>
                  <a:pt x="9052" y="11057"/>
                  <a:pt x="8883" y="11029"/>
                  <a:pt x="8706" y="11013"/>
                </a:cubicBezTo>
                <a:cubicBezTo>
                  <a:pt x="8424" y="10987"/>
                  <a:pt x="8145" y="10944"/>
                  <a:pt x="7863" y="10939"/>
                </a:cubicBezTo>
                <a:cubicBezTo>
                  <a:pt x="7671" y="10936"/>
                  <a:pt x="7484" y="10918"/>
                  <a:pt x="7293" y="10914"/>
                </a:cubicBezTo>
                <a:cubicBezTo>
                  <a:pt x="7121" y="10910"/>
                  <a:pt x="6908" y="10883"/>
                  <a:pt x="6747" y="10939"/>
                </a:cubicBezTo>
                <a:cubicBezTo>
                  <a:pt x="6672" y="10965"/>
                  <a:pt x="6694" y="10967"/>
                  <a:pt x="6648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Ink 15"/>
          <p:cNvSpPr/>
          <p:nvPr/>
        </p:nvSpPr>
        <p:spPr>
          <a:xfrm>
            <a:off x="4527720" y="2857680"/>
            <a:ext cx="928440" cy="607680"/>
          </a:xfrm>
          <a:custGeom>
            <a:avLst/>
            <a:gdLst/>
            <a:ahLst/>
            <a:rect l="l" t="t" r="r" b="b"/>
            <a:pathLst>
              <a:path w="2581" h="1687">
                <a:moveTo>
                  <a:pt x="13097" y="8830"/>
                </a:moveTo>
                <a:cubicBezTo>
                  <a:pt x="13072" y="8965"/>
                  <a:pt x="13072" y="9088"/>
                  <a:pt x="13072" y="9227"/>
                </a:cubicBezTo>
                <a:cubicBezTo>
                  <a:pt x="13072" y="9273"/>
                  <a:pt x="13113" y="9434"/>
                  <a:pt x="13072" y="9327"/>
                </a:cubicBezTo>
                <a:cubicBezTo>
                  <a:pt x="13048" y="9279"/>
                  <a:pt x="13040" y="9264"/>
                  <a:pt x="13047" y="9227"/>
                </a:cubicBezTo>
              </a:path>
              <a:path w="2581" h="1687">
                <a:moveTo>
                  <a:pt x="12576" y="8533"/>
                </a:moveTo>
                <a:cubicBezTo>
                  <a:pt x="12584" y="8549"/>
                  <a:pt x="12593" y="8566"/>
                  <a:pt x="12601" y="8582"/>
                </a:cubicBezTo>
                <a:cubicBezTo>
                  <a:pt x="12669" y="8544"/>
                  <a:pt x="12695" y="8509"/>
                  <a:pt x="12725" y="8434"/>
                </a:cubicBezTo>
                <a:cubicBezTo>
                  <a:pt x="12760" y="8344"/>
                  <a:pt x="12793" y="8253"/>
                  <a:pt x="12824" y="8161"/>
                </a:cubicBezTo>
                <a:cubicBezTo>
                  <a:pt x="12838" y="8120"/>
                  <a:pt x="12881" y="7962"/>
                  <a:pt x="12923" y="7938"/>
                </a:cubicBezTo>
                <a:cubicBezTo>
                  <a:pt x="12975" y="7909"/>
                  <a:pt x="13039" y="8049"/>
                  <a:pt x="13072" y="8086"/>
                </a:cubicBezTo>
                <a:cubicBezTo>
                  <a:pt x="13116" y="8136"/>
                  <a:pt x="13188" y="8209"/>
                  <a:pt x="13246" y="8235"/>
                </a:cubicBezTo>
                <a:cubicBezTo>
                  <a:pt x="13311" y="8257"/>
                  <a:pt x="13326" y="8265"/>
                  <a:pt x="13370" y="8260"/>
                </a:cubicBezTo>
              </a:path>
              <a:path w="2581" h="1687">
                <a:moveTo>
                  <a:pt x="13717" y="8855"/>
                </a:moveTo>
                <a:cubicBezTo>
                  <a:pt x="13729" y="8950"/>
                  <a:pt x="13755" y="8986"/>
                  <a:pt x="13791" y="9029"/>
                </a:cubicBezTo>
                <a:cubicBezTo>
                  <a:pt x="13839" y="9087"/>
                  <a:pt x="13875" y="9127"/>
                  <a:pt x="13965" y="9103"/>
                </a:cubicBezTo>
                <a:cubicBezTo>
                  <a:pt x="14022" y="9088"/>
                  <a:pt x="14094" y="8997"/>
                  <a:pt x="14139" y="8954"/>
                </a:cubicBezTo>
                <a:cubicBezTo>
                  <a:pt x="14185" y="8911"/>
                  <a:pt x="14173" y="8914"/>
                  <a:pt x="14188" y="8855"/>
                </a:cubicBezTo>
                <a:cubicBezTo>
                  <a:pt x="14206" y="8908"/>
                  <a:pt x="14242" y="8974"/>
                  <a:pt x="14263" y="9029"/>
                </a:cubicBezTo>
                <a:cubicBezTo>
                  <a:pt x="14291" y="9101"/>
                  <a:pt x="14309" y="9144"/>
                  <a:pt x="14387" y="9153"/>
                </a:cubicBezTo>
                <a:cubicBezTo>
                  <a:pt x="14474" y="9163"/>
                  <a:pt x="14600" y="9029"/>
                  <a:pt x="14635" y="8954"/>
                </a:cubicBezTo>
                <a:cubicBezTo>
                  <a:pt x="14669" y="8881"/>
                  <a:pt x="14661" y="8826"/>
                  <a:pt x="14635" y="8756"/>
                </a:cubicBezTo>
                <a:cubicBezTo>
                  <a:pt x="14602" y="8821"/>
                  <a:pt x="14568" y="8878"/>
                  <a:pt x="14585" y="8954"/>
                </a:cubicBezTo>
                <a:cubicBezTo>
                  <a:pt x="14610" y="9069"/>
                  <a:pt x="14612" y="9186"/>
                  <a:pt x="14635" y="9302"/>
                </a:cubicBezTo>
                <a:cubicBezTo>
                  <a:pt x="14655" y="9401"/>
                  <a:pt x="14611" y="9669"/>
                  <a:pt x="14684" y="9599"/>
                </a:cubicBezTo>
                <a:cubicBezTo>
                  <a:pt x="14745" y="9541"/>
                  <a:pt x="14663" y="9485"/>
                  <a:pt x="14660" y="9401"/>
                </a:cubicBezTo>
                <a:cubicBezTo>
                  <a:pt x="14656" y="9283"/>
                  <a:pt x="14655" y="9145"/>
                  <a:pt x="14635" y="9029"/>
                </a:cubicBezTo>
                <a:cubicBezTo>
                  <a:pt x="14615" y="8916"/>
                  <a:pt x="14609" y="8820"/>
                  <a:pt x="14635" y="8706"/>
                </a:cubicBezTo>
                <a:cubicBezTo>
                  <a:pt x="14668" y="8557"/>
                  <a:pt x="14732" y="8550"/>
                  <a:pt x="14883" y="8533"/>
                </a:cubicBezTo>
                <a:cubicBezTo>
                  <a:pt x="14985" y="8521"/>
                  <a:pt x="15073" y="8603"/>
                  <a:pt x="15131" y="8682"/>
                </a:cubicBezTo>
                <a:cubicBezTo>
                  <a:pt x="15167" y="8731"/>
                  <a:pt x="15162" y="8819"/>
                  <a:pt x="15106" y="8855"/>
                </a:cubicBezTo>
                <a:cubicBezTo>
                  <a:pt x="15053" y="8889"/>
                  <a:pt x="14922" y="8903"/>
                  <a:pt x="14858" y="8905"/>
                </a:cubicBezTo>
                <a:cubicBezTo>
                  <a:pt x="14776" y="8908"/>
                  <a:pt x="14692" y="8905"/>
                  <a:pt x="14610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Ink 16"/>
          <p:cNvSpPr/>
          <p:nvPr/>
        </p:nvSpPr>
        <p:spPr>
          <a:xfrm>
            <a:off x="2035080" y="5483160"/>
            <a:ext cx="972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5655" y="15329"/>
                </a:moveTo>
                <a:cubicBezTo>
                  <a:pt x="5655" y="15321"/>
                  <a:pt x="5655" y="15312"/>
                  <a:pt x="5655" y="15304"/>
                </a:cubicBezTo>
              </a:path>
              <a:path w="26" h="100">
                <a:moveTo>
                  <a:pt x="5655" y="15230"/>
                </a:moveTo>
                <a:cubicBezTo>
                  <a:pt x="5663" y="15230"/>
                  <a:pt x="5672" y="15230"/>
                  <a:pt x="5680" y="152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Ink 17"/>
          <p:cNvSpPr/>
          <p:nvPr/>
        </p:nvSpPr>
        <p:spPr>
          <a:xfrm>
            <a:off x="1830240" y="2660760"/>
            <a:ext cx="544680" cy="635040"/>
          </a:xfrm>
          <a:custGeom>
            <a:avLst/>
            <a:gdLst/>
            <a:ahLst/>
            <a:rect l="l" t="t" r="r" b="b"/>
            <a:pathLst>
              <a:path w="1514" h="1762">
                <a:moveTo>
                  <a:pt x="6350" y="7541"/>
                </a:moveTo>
                <a:cubicBezTo>
                  <a:pt x="6260" y="7491"/>
                  <a:pt x="6241" y="7491"/>
                  <a:pt x="6127" y="7491"/>
                </a:cubicBezTo>
                <a:cubicBezTo>
                  <a:pt x="6016" y="7491"/>
                  <a:pt x="5915" y="7513"/>
                  <a:pt x="5804" y="7516"/>
                </a:cubicBezTo>
                <a:cubicBezTo>
                  <a:pt x="5686" y="7519"/>
                  <a:pt x="5577" y="7491"/>
                  <a:pt x="5457" y="7491"/>
                </a:cubicBezTo>
                <a:cubicBezTo>
                  <a:pt x="5377" y="7491"/>
                  <a:pt x="5262" y="7495"/>
                  <a:pt x="5184" y="7516"/>
                </a:cubicBezTo>
                <a:cubicBezTo>
                  <a:pt x="5080" y="7545"/>
                  <a:pt x="5092" y="7567"/>
                  <a:pt x="5110" y="7640"/>
                </a:cubicBezTo>
                <a:cubicBezTo>
                  <a:pt x="5127" y="7710"/>
                  <a:pt x="5171" y="7762"/>
                  <a:pt x="5184" y="7838"/>
                </a:cubicBezTo>
                <a:cubicBezTo>
                  <a:pt x="5236" y="8147"/>
                  <a:pt x="5177" y="8498"/>
                  <a:pt x="5209" y="8806"/>
                </a:cubicBezTo>
                <a:cubicBezTo>
                  <a:pt x="5218" y="8890"/>
                  <a:pt x="5219" y="8888"/>
                  <a:pt x="5259" y="8954"/>
                </a:cubicBezTo>
                <a:cubicBezTo>
                  <a:pt x="5267" y="8971"/>
                  <a:pt x="5275" y="8987"/>
                  <a:pt x="5283" y="9004"/>
                </a:cubicBezTo>
                <a:cubicBezTo>
                  <a:pt x="5341" y="8934"/>
                  <a:pt x="5383" y="8954"/>
                  <a:pt x="5482" y="8954"/>
                </a:cubicBezTo>
                <a:cubicBezTo>
                  <a:pt x="5611" y="8954"/>
                  <a:pt x="5689" y="8964"/>
                  <a:pt x="5804" y="9004"/>
                </a:cubicBezTo>
                <a:cubicBezTo>
                  <a:pt x="5918" y="9043"/>
                  <a:pt x="6066" y="9054"/>
                  <a:pt x="6176" y="9079"/>
                </a:cubicBezTo>
                <a:cubicBezTo>
                  <a:pt x="6305" y="9108"/>
                  <a:pt x="6427" y="9133"/>
                  <a:pt x="6548" y="9153"/>
                </a:cubicBezTo>
                <a:cubicBezTo>
                  <a:pt x="6593" y="9048"/>
                  <a:pt x="6573" y="9144"/>
                  <a:pt x="6573" y="9029"/>
                </a:cubicBezTo>
                <a:cubicBezTo>
                  <a:pt x="6573" y="8948"/>
                  <a:pt x="6596" y="8926"/>
                  <a:pt x="6598" y="8855"/>
                </a:cubicBezTo>
                <a:cubicBezTo>
                  <a:pt x="6605" y="8613"/>
                  <a:pt x="6594" y="8374"/>
                  <a:pt x="6573" y="8136"/>
                </a:cubicBezTo>
                <a:cubicBezTo>
                  <a:pt x="6563" y="8022"/>
                  <a:pt x="6548" y="7901"/>
                  <a:pt x="6524" y="7789"/>
                </a:cubicBezTo>
                <a:cubicBezTo>
                  <a:pt x="6506" y="7703"/>
                  <a:pt x="6475" y="7597"/>
                  <a:pt x="6449" y="7516"/>
                </a:cubicBezTo>
                <a:cubicBezTo>
                  <a:pt x="6417" y="7418"/>
                  <a:pt x="6442" y="7392"/>
                  <a:pt x="6375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Ink 18"/>
          <p:cNvSpPr/>
          <p:nvPr/>
        </p:nvSpPr>
        <p:spPr>
          <a:xfrm>
            <a:off x="6340320" y="2919240"/>
            <a:ext cx="1062360" cy="795600"/>
          </a:xfrm>
          <a:custGeom>
            <a:avLst/>
            <a:gdLst/>
            <a:ahLst/>
            <a:rect l="l" t="t" r="r" b="b"/>
            <a:pathLst>
              <a:path w="2953" h="2209">
                <a:moveTo>
                  <a:pt x="18033" y="8458"/>
                </a:moveTo>
                <a:cubicBezTo>
                  <a:pt x="18033" y="8642"/>
                  <a:pt x="18018" y="8825"/>
                  <a:pt x="18058" y="9004"/>
                </a:cubicBezTo>
                <a:cubicBezTo>
                  <a:pt x="18088" y="9137"/>
                  <a:pt x="18141" y="9265"/>
                  <a:pt x="18157" y="9401"/>
                </a:cubicBezTo>
                <a:cubicBezTo>
                  <a:pt x="18165" y="9472"/>
                  <a:pt x="18182" y="9528"/>
                  <a:pt x="18182" y="9599"/>
                </a:cubicBezTo>
              </a:path>
              <a:path w="2953" h="2209">
                <a:moveTo>
                  <a:pt x="17636" y="8657"/>
                </a:moveTo>
                <a:cubicBezTo>
                  <a:pt x="17622" y="8594"/>
                  <a:pt x="17576" y="8468"/>
                  <a:pt x="17636" y="8409"/>
                </a:cubicBezTo>
                <a:cubicBezTo>
                  <a:pt x="17689" y="8356"/>
                  <a:pt x="17773" y="8280"/>
                  <a:pt x="17835" y="8235"/>
                </a:cubicBezTo>
                <a:cubicBezTo>
                  <a:pt x="17863" y="8214"/>
                  <a:pt x="17948" y="8109"/>
                  <a:pt x="17983" y="8111"/>
                </a:cubicBezTo>
                <a:cubicBezTo>
                  <a:pt x="18046" y="8115"/>
                  <a:pt x="18087" y="8263"/>
                  <a:pt x="18132" y="8310"/>
                </a:cubicBezTo>
                <a:cubicBezTo>
                  <a:pt x="18216" y="8399"/>
                  <a:pt x="18304" y="8465"/>
                  <a:pt x="18405" y="8533"/>
                </a:cubicBezTo>
              </a:path>
              <a:path w="2953" h="2209">
                <a:moveTo>
                  <a:pt x="18876" y="9079"/>
                </a:moveTo>
                <a:cubicBezTo>
                  <a:pt x="18876" y="9201"/>
                  <a:pt x="18867" y="9293"/>
                  <a:pt x="18926" y="9401"/>
                </a:cubicBezTo>
                <a:cubicBezTo>
                  <a:pt x="18994" y="9525"/>
                  <a:pt x="19046" y="9572"/>
                  <a:pt x="19149" y="9624"/>
                </a:cubicBezTo>
                <a:cubicBezTo>
                  <a:pt x="19269" y="9684"/>
                  <a:pt x="19284" y="9690"/>
                  <a:pt x="19397" y="9624"/>
                </a:cubicBezTo>
                <a:cubicBezTo>
                  <a:pt x="19461" y="9587"/>
                  <a:pt x="19467" y="9558"/>
                  <a:pt x="19496" y="9475"/>
                </a:cubicBezTo>
                <a:cubicBezTo>
                  <a:pt x="19532" y="9370"/>
                  <a:pt x="19521" y="9263"/>
                  <a:pt x="19521" y="9153"/>
                </a:cubicBezTo>
                <a:cubicBezTo>
                  <a:pt x="19521" y="9136"/>
                  <a:pt x="19521" y="9120"/>
                  <a:pt x="19521" y="9103"/>
                </a:cubicBezTo>
                <a:cubicBezTo>
                  <a:pt x="19518" y="9108"/>
                  <a:pt x="19494" y="9171"/>
                  <a:pt x="19571" y="9252"/>
                </a:cubicBezTo>
                <a:cubicBezTo>
                  <a:pt x="19640" y="9324"/>
                  <a:pt x="19680" y="9429"/>
                  <a:pt x="19769" y="9475"/>
                </a:cubicBezTo>
                <a:cubicBezTo>
                  <a:pt x="19813" y="9498"/>
                  <a:pt x="19960" y="9488"/>
                  <a:pt x="19993" y="9451"/>
                </a:cubicBezTo>
                <a:cubicBezTo>
                  <a:pt x="20001" y="9434"/>
                  <a:pt x="20009" y="9418"/>
                  <a:pt x="20017" y="9401"/>
                </a:cubicBezTo>
              </a:path>
              <a:path w="2953" h="2209">
                <a:moveTo>
                  <a:pt x="20092" y="9153"/>
                </a:moveTo>
                <a:cubicBezTo>
                  <a:pt x="20030" y="9077"/>
                  <a:pt x="20039" y="9107"/>
                  <a:pt x="20017" y="9252"/>
                </a:cubicBezTo>
                <a:cubicBezTo>
                  <a:pt x="19993" y="9416"/>
                  <a:pt x="20011" y="9613"/>
                  <a:pt x="20042" y="9773"/>
                </a:cubicBezTo>
                <a:cubicBezTo>
                  <a:pt x="20067" y="9904"/>
                  <a:pt x="20123" y="10039"/>
                  <a:pt x="20141" y="10170"/>
                </a:cubicBezTo>
                <a:cubicBezTo>
                  <a:pt x="20152" y="10248"/>
                  <a:pt x="20143" y="10259"/>
                  <a:pt x="20191" y="10319"/>
                </a:cubicBezTo>
                <a:cubicBezTo>
                  <a:pt x="20227" y="10140"/>
                  <a:pt x="20219" y="9984"/>
                  <a:pt x="20191" y="9798"/>
                </a:cubicBezTo>
                <a:cubicBezTo>
                  <a:pt x="20166" y="9632"/>
                  <a:pt x="20145" y="9470"/>
                  <a:pt x="20141" y="9302"/>
                </a:cubicBezTo>
                <a:cubicBezTo>
                  <a:pt x="20138" y="9170"/>
                  <a:pt x="20107" y="8989"/>
                  <a:pt x="20191" y="8905"/>
                </a:cubicBezTo>
                <a:cubicBezTo>
                  <a:pt x="20259" y="8837"/>
                  <a:pt x="20322" y="8860"/>
                  <a:pt x="20389" y="8930"/>
                </a:cubicBezTo>
                <a:cubicBezTo>
                  <a:pt x="20472" y="9017"/>
                  <a:pt x="20596" y="9186"/>
                  <a:pt x="20538" y="9302"/>
                </a:cubicBezTo>
                <a:cubicBezTo>
                  <a:pt x="20493" y="9391"/>
                  <a:pt x="20435" y="9398"/>
                  <a:pt x="20340" y="9401"/>
                </a:cubicBezTo>
                <a:cubicBezTo>
                  <a:pt x="20208" y="9405"/>
                  <a:pt x="20115" y="9369"/>
                  <a:pt x="19993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Ink 19"/>
          <p:cNvSpPr/>
          <p:nvPr/>
        </p:nvSpPr>
        <p:spPr>
          <a:xfrm>
            <a:off x="4589640" y="3670200"/>
            <a:ext cx="312480" cy="482760"/>
          </a:xfrm>
          <a:custGeom>
            <a:avLst/>
            <a:gdLst/>
            <a:ahLst/>
            <a:rect l="l" t="t" r="r" b="b"/>
            <a:pathLst>
              <a:path w="869" h="1340">
                <a:moveTo>
                  <a:pt x="13320" y="10740"/>
                </a:moveTo>
                <a:cubicBezTo>
                  <a:pt x="13298" y="10855"/>
                  <a:pt x="13258" y="10994"/>
                  <a:pt x="13271" y="11112"/>
                </a:cubicBezTo>
                <a:cubicBezTo>
                  <a:pt x="13284" y="11226"/>
                  <a:pt x="13287" y="11350"/>
                  <a:pt x="13320" y="11460"/>
                </a:cubicBezTo>
                <a:cubicBezTo>
                  <a:pt x="13339" y="11517"/>
                  <a:pt x="13348" y="11560"/>
                  <a:pt x="13345" y="11509"/>
                </a:cubicBezTo>
              </a:path>
              <a:path w="869" h="1340">
                <a:moveTo>
                  <a:pt x="12774" y="10740"/>
                </a:moveTo>
                <a:cubicBezTo>
                  <a:pt x="12751" y="10599"/>
                  <a:pt x="12772" y="10584"/>
                  <a:pt x="12874" y="10492"/>
                </a:cubicBezTo>
                <a:cubicBezTo>
                  <a:pt x="12941" y="10432"/>
                  <a:pt x="13007" y="10383"/>
                  <a:pt x="13072" y="10319"/>
                </a:cubicBezTo>
                <a:cubicBezTo>
                  <a:pt x="13113" y="10278"/>
                  <a:pt x="13155" y="10236"/>
                  <a:pt x="13196" y="10195"/>
                </a:cubicBezTo>
                <a:cubicBezTo>
                  <a:pt x="13247" y="10246"/>
                  <a:pt x="13242" y="10278"/>
                  <a:pt x="13271" y="10344"/>
                </a:cubicBezTo>
                <a:cubicBezTo>
                  <a:pt x="13312" y="10437"/>
                  <a:pt x="13388" y="10466"/>
                  <a:pt x="13469" y="10517"/>
                </a:cubicBezTo>
                <a:cubicBezTo>
                  <a:pt x="13540" y="10565"/>
                  <a:pt x="13562" y="10581"/>
                  <a:pt x="13618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Ink 20"/>
          <p:cNvSpPr/>
          <p:nvPr/>
        </p:nvSpPr>
        <p:spPr>
          <a:xfrm>
            <a:off x="5054760" y="3884760"/>
            <a:ext cx="500040" cy="490320"/>
          </a:xfrm>
          <a:custGeom>
            <a:avLst/>
            <a:gdLst/>
            <a:ahLst/>
            <a:rect l="l" t="t" r="r" b="b"/>
            <a:pathLst>
              <a:path w="1391" h="1365">
                <a:moveTo>
                  <a:pt x="14039" y="11013"/>
                </a:moveTo>
                <a:cubicBezTo>
                  <a:pt x="14086" y="11214"/>
                  <a:pt x="14081" y="11278"/>
                  <a:pt x="14213" y="11410"/>
                </a:cubicBezTo>
                <a:cubicBezTo>
                  <a:pt x="14283" y="11480"/>
                  <a:pt x="14317" y="11485"/>
                  <a:pt x="14412" y="11485"/>
                </a:cubicBezTo>
              </a:path>
              <a:path w="1391" h="1365">
                <a:moveTo>
                  <a:pt x="14511" y="11261"/>
                </a:moveTo>
                <a:cubicBezTo>
                  <a:pt x="14511" y="11203"/>
                  <a:pt x="14511" y="11146"/>
                  <a:pt x="14511" y="11088"/>
                </a:cubicBezTo>
                <a:cubicBezTo>
                  <a:pt x="14511" y="11170"/>
                  <a:pt x="14507" y="11242"/>
                  <a:pt x="14560" y="11311"/>
                </a:cubicBezTo>
                <a:cubicBezTo>
                  <a:pt x="14614" y="11381"/>
                  <a:pt x="14671" y="11431"/>
                  <a:pt x="14759" y="11435"/>
                </a:cubicBezTo>
                <a:cubicBezTo>
                  <a:pt x="14837" y="11438"/>
                  <a:pt x="14898" y="11411"/>
                  <a:pt x="14932" y="11336"/>
                </a:cubicBezTo>
                <a:cubicBezTo>
                  <a:pt x="14967" y="11258"/>
                  <a:pt x="14957" y="11167"/>
                  <a:pt x="14982" y="11088"/>
                </a:cubicBezTo>
                <a:cubicBezTo>
                  <a:pt x="15006" y="11040"/>
                  <a:pt x="15014" y="11025"/>
                  <a:pt x="15007" y="10988"/>
                </a:cubicBezTo>
                <a:cubicBezTo>
                  <a:pt x="14996" y="11078"/>
                  <a:pt x="14994" y="11169"/>
                  <a:pt x="14982" y="11261"/>
                </a:cubicBezTo>
                <a:cubicBezTo>
                  <a:pt x="14962" y="11409"/>
                  <a:pt x="14957" y="11535"/>
                  <a:pt x="14982" y="11683"/>
                </a:cubicBezTo>
                <a:cubicBezTo>
                  <a:pt x="15002" y="11802"/>
                  <a:pt x="15017" y="11943"/>
                  <a:pt x="15056" y="12055"/>
                </a:cubicBezTo>
                <a:cubicBezTo>
                  <a:pt x="15080" y="12103"/>
                  <a:pt x="15088" y="12117"/>
                  <a:pt x="15081" y="12154"/>
                </a:cubicBezTo>
                <a:cubicBezTo>
                  <a:pt x="15150" y="12068"/>
                  <a:pt x="15131" y="11992"/>
                  <a:pt x="15131" y="11881"/>
                </a:cubicBezTo>
                <a:cubicBezTo>
                  <a:pt x="15131" y="11736"/>
                  <a:pt x="15145" y="11602"/>
                  <a:pt x="15156" y="11460"/>
                </a:cubicBezTo>
                <a:cubicBezTo>
                  <a:pt x="15170" y="11278"/>
                  <a:pt x="15088" y="10978"/>
                  <a:pt x="15180" y="10815"/>
                </a:cubicBezTo>
                <a:cubicBezTo>
                  <a:pt x="15188" y="10807"/>
                  <a:pt x="15197" y="10798"/>
                  <a:pt x="15205" y="10790"/>
                </a:cubicBezTo>
                <a:cubicBezTo>
                  <a:pt x="15319" y="10847"/>
                  <a:pt x="15342" y="10886"/>
                  <a:pt x="15379" y="11013"/>
                </a:cubicBezTo>
                <a:cubicBezTo>
                  <a:pt x="15412" y="11128"/>
                  <a:pt x="15448" y="11222"/>
                  <a:pt x="15404" y="11336"/>
                </a:cubicBezTo>
                <a:cubicBezTo>
                  <a:pt x="15367" y="11431"/>
                  <a:pt x="15256" y="11498"/>
                  <a:pt x="15156" y="11485"/>
                </a:cubicBezTo>
                <a:cubicBezTo>
                  <a:pt x="15064" y="11462"/>
                  <a:pt x="15039" y="11456"/>
                  <a:pt x="14982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Ink 21"/>
          <p:cNvSpPr/>
          <p:nvPr/>
        </p:nvSpPr>
        <p:spPr>
          <a:xfrm>
            <a:off x="6215040" y="3830760"/>
            <a:ext cx="1214640" cy="492120"/>
          </a:xfrm>
          <a:custGeom>
            <a:avLst/>
            <a:gdLst/>
            <a:ahLst/>
            <a:rect l="l" t="t" r="r" b="b"/>
            <a:pathLst>
              <a:path w="3375" h="1365">
                <a:moveTo>
                  <a:pt x="17587" y="10641"/>
                </a:moveTo>
                <a:cubicBezTo>
                  <a:pt x="17587" y="10818"/>
                  <a:pt x="17597" y="10988"/>
                  <a:pt x="17611" y="11162"/>
                </a:cubicBezTo>
                <a:cubicBezTo>
                  <a:pt x="17621" y="11278"/>
                  <a:pt x="17632" y="11395"/>
                  <a:pt x="17636" y="11509"/>
                </a:cubicBezTo>
                <a:cubicBezTo>
                  <a:pt x="17639" y="11584"/>
                  <a:pt x="17688" y="11682"/>
                  <a:pt x="17661" y="11757"/>
                </a:cubicBezTo>
                <a:cubicBezTo>
                  <a:pt x="17638" y="11780"/>
                  <a:pt x="17630" y="11784"/>
                  <a:pt x="17636" y="11807"/>
                </a:cubicBezTo>
              </a:path>
              <a:path w="3375" h="1365">
                <a:moveTo>
                  <a:pt x="17264" y="11509"/>
                </a:moveTo>
                <a:cubicBezTo>
                  <a:pt x="17304" y="11549"/>
                  <a:pt x="17328" y="11591"/>
                  <a:pt x="17363" y="11633"/>
                </a:cubicBezTo>
                <a:cubicBezTo>
                  <a:pt x="17422" y="11704"/>
                  <a:pt x="17497" y="11767"/>
                  <a:pt x="17562" y="11832"/>
                </a:cubicBezTo>
                <a:cubicBezTo>
                  <a:pt x="17634" y="11904"/>
                  <a:pt x="17700" y="11959"/>
                  <a:pt x="17785" y="12005"/>
                </a:cubicBezTo>
                <a:cubicBezTo>
                  <a:pt x="17830" y="11939"/>
                  <a:pt x="17836" y="11877"/>
                  <a:pt x="17859" y="11807"/>
                </a:cubicBezTo>
                <a:cubicBezTo>
                  <a:pt x="17887" y="11723"/>
                  <a:pt x="17928" y="11642"/>
                  <a:pt x="17959" y="11559"/>
                </a:cubicBezTo>
              </a:path>
              <a:path w="3375" h="1365">
                <a:moveTo>
                  <a:pt x="18827" y="11460"/>
                </a:moveTo>
                <a:cubicBezTo>
                  <a:pt x="18827" y="11485"/>
                  <a:pt x="18827" y="11509"/>
                  <a:pt x="18827" y="11534"/>
                </a:cubicBezTo>
                <a:cubicBezTo>
                  <a:pt x="18790" y="11472"/>
                  <a:pt x="18788" y="11445"/>
                  <a:pt x="18728" y="11385"/>
                </a:cubicBezTo>
                <a:cubicBezTo>
                  <a:pt x="18672" y="11329"/>
                  <a:pt x="18625" y="11296"/>
                  <a:pt x="18554" y="11261"/>
                </a:cubicBezTo>
                <a:cubicBezTo>
                  <a:pt x="18484" y="11227"/>
                  <a:pt x="18401" y="11221"/>
                  <a:pt x="18331" y="11261"/>
                </a:cubicBezTo>
                <a:cubicBezTo>
                  <a:pt x="18254" y="11305"/>
                  <a:pt x="18212" y="11400"/>
                  <a:pt x="18231" y="11485"/>
                </a:cubicBezTo>
                <a:cubicBezTo>
                  <a:pt x="18248" y="11565"/>
                  <a:pt x="18292" y="11682"/>
                  <a:pt x="18355" y="11733"/>
                </a:cubicBezTo>
                <a:cubicBezTo>
                  <a:pt x="18415" y="11782"/>
                  <a:pt x="18488" y="11808"/>
                  <a:pt x="18554" y="11782"/>
                </a:cubicBezTo>
                <a:cubicBezTo>
                  <a:pt x="18628" y="11753"/>
                  <a:pt x="18628" y="11703"/>
                  <a:pt x="18653" y="11633"/>
                </a:cubicBezTo>
              </a:path>
              <a:path w="3375" h="1365">
                <a:moveTo>
                  <a:pt x="18728" y="11311"/>
                </a:moveTo>
                <a:cubicBezTo>
                  <a:pt x="18728" y="11175"/>
                  <a:pt x="18723" y="11064"/>
                  <a:pt x="18703" y="10939"/>
                </a:cubicBezTo>
                <a:cubicBezTo>
                  <a:pt x="18703" y="10922"/>
                  <a:pt x="18703" y="10906"/>
                  <a:pt x="18703" y="10889"/>
                </a:cubicBezTo>
                <a:cubicBezTo>
                  <a:pt x="18677" y="10991"/>
                  <a:pt x="18678" y="11081"/>
                  <a:pt x="18678" y="11187"/>
                </a:cubicBezTo>
                <a:cubicBezTo>
                  <a:pt x="18678" y="11302"/>
                  <a:pt x="18716" y="11401"/>
                  <a:pt x="18752" y="11509"/>
                </a:cubicBezTo>
                <a:cubicBezTo>
                  <a:pt x="18771" y="11566"/>
                  <a:pt x="18825" y="11753"/>
                  <a:pt x="18901" y="11683"/>
                </a:cubicBezTo>
                <a:cubicBezTo>
                  <a:pt x="18909" y="11666"/>
                  <a:pt x="18918" y="11650"/>
                  <a:pt x="18926" y="11633"/>
                </a:cubicBezTo>
              </a:path>
              <a:path w="3375" h="1365">
                <a:moveTo>
                  <a:pt x="19025" y="11261"/>
                </a:moveTo>
                <a:cubicBezTo>
                  <a:pt x="18957" y="11228"/>
                  <a:pt x="18971" y="11280"/>
                  <a:pt x="18951" y="11336"/>
                </a:cubicBezTo>
                <a:cubicBezTo>
                  <a:pt x="18930" y="11396"/>
                  <a:pt x="18916" y="11476"/>
                  <a:pt x="18951" y="11534"/>
                </a:cubicBezTo>
                <a:cubicBezTo>
                  <a:pt x="18993" y="11604"/>
                  <a:pt x="19099" y="11664"/>
                  <a:pt x="19174" y="11683"/>
                </a:cubicBezTo>
                <a:cubicBezTo>
                  <a:pt x="19237" y="11699"/>
                  <a:pt x="19308" y="11641"/>
                  <a:pt x="19323" y="11584"/>
                </a:cubicBezTo>
                <a:cubicBezTo>
                  <a:pt x="19344" y="11505"/>
                  <a:pt x="19346" y="11415"/>
                  <a:pt x="19323" y="11336"/>
                </a:cubicBezTo>
                <a:cubicBezTo>
                  <a:pt x="19300" y="11256"/>
                  <a:pt x="19243" y="11199"/>
                  <a:pt x="19174" y="11162"/>
                </a:cubicBezTo>
                <a:cubicBezTo>
                  <a:pt x="19107" y="11127"/>
                  <a:pt x="19032" y="11163"/>
                  <a:pt x="18976" y="11212"/>
                </a:cubicBezTo>
                <a:cubicBezTo>
                  <a:pt x="18908" y="11271"/>
                  <a:pt x="18903" y="11379"/>
                  <a:pt x="18951" y="11460"/>
                </a:cubicBezTo>
                <a:cubicBezTo>
                  <a:pt x="19000" y="11509"/>
                  <a:pt x="19017" y="11526"/>
                  <a:pt x="19050" y="11559"/>
                </a:cubicBezTo>
              </a:path>
              <a:path w="3375" h="1365">
                <a:moveTo>
                  <a:pt x="19447" y="11460"/>
                </a:moveTo>
                <a:cubicBezTo>
                  <a:pt x="19387" y="11519"/>
                  <a:pt x="19380" y="11554"/>
                  <a:pt x="19422" y="11633"/>
                </a:cubicBezTo>
                <a:cubicBezTo>
                  <a:pt x="19450" y="11685"/>
                  <a:pt x="19504" y="11745"/>
                  <a:pt x="19571" y="11733"/>
                </a:cubicBezTo>
                <a:cubicBezTo>
                  <a:pt x="19614" y="11725"/>
                  <a:pt x="19724" y="11673"/>
                  <a:pt x="19720" y="11609"/>
                </a:cubicBezTo>
                <a:cubicBezTo>
                  <a:pt x="19712" y="11592"/>
                  <a:pt x="19703" y="11576"/>
                  <a:pt x="19695" y="11559"/>
                </a:cubicBezTo>
                <a:cubicBezTo>
                  <a:pt x="19684" y="11616"/>
                  <a:pt x="19727" y="11645"/>
                  <a:pt x="19794" y="11658"/>
                </a:cubicBezTo>
                <a:cubicBezTo>
                  <a:pt x="19852" y="11670"/>
                  <a:pt x="19905" y="11614"/>
                  <a:pt x="19918" y="11559"/>
                </a:cubicBezTo>
                <a:cubicBezTo>
                  <a:pt x="19938" y="11472"/>
                  <a:pt x="19891" y="11381"/>
                  <a:pt x="19844" y="11311"/>
                </a:cubicBezTo>
                <a:cubicBezTo>
                  <a:pt x="19819" y="11286"/>
                  <a:pt x="19811" y="11278"/>
                  <a:pt x="19844" y="11261"/>
                </a:cubicBezTo>
              </a:path>
              <a:path w="3375" h="1365">
                <a:moveTo>
                  <a:pt x="20117" y="11435"/>
                </a:moveTo>
                <a:cubicBezTo>
                  <a:pt x="20124" y="11530"/>
                  <a:pt x="20133" y="11596"/>
                  <a:pt x="20166" y="11683"/>
                </a:cubicBezTo>
                <a:cubicBezTo>
                  <a:pt x="20209" y="11629"/>
                  <a:pt x="20231" y="11569"/>
                  <a:pt x="20265" y="11509"/>
                </a:cubicBezTo>
                <a:cubicBezTo>
                  <a:pt x="20298" y="11451"/>
                  <a:pt x="20391" y="11305"/>
                  <a:pt x="20489" y="11311"/>
                </a:cubicBezTo>
                <a:cubicBezTo>
                  <a:pt x="20575" y="11316"/>
                  <a:pt x="20596" y="11480"/>
                  <a:pt x="20613" y="11534"/>
                </a:cubicBezTo>
                <a:cubicBezTo>
                  <a:pt x="20652" y="11660"/>
                  <a:pt x="20629" y="11756"/>
                  <a:pt x="20613" y="11881"/>
                </a:cubicBezTo>
                <a:cubicBezTo>
                  <a:pt x="20613" y="11898"/>
                  <a:pt x="20613" y="11914"/>
                  <a:pt x="20613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Ink 22"/>
          <p:cNvSpPr/>
          <p:nvPr/>
        </p:nvSpPr>
        <p:spPr>
          <a:xfrm>
            <a:off x="5983200" y="1170000"/>
            <a:ext cx="133560" cy="4446720"/>
          </a:xfrm>
          <a:custGeom>
            <a:avLst/>
            <a:gdLst/>
            <a:ahLst/>
            <a:rect l="l" t="t" r="r" b="b"/>
            <a:pathLst>
              <a:path w="373" h="12354">
                <a:moveTo>
                  <a:pt x="16644" y="3249"/>
                </a:moveTo>
                <a:cubicBezTo>
                  <a:pt x="16648" y="3288"/>
                  <a:pt x="16665" y="3369"/>
                  <a:pt x="16669" y="3448"/>
                </a:cubicBezTo>
                <a:cubicBezTo>
                  <a:pt x="16679" y="3666"/>
                  <a:pt x="16675" y="3878"/>
                  <a:pt x="16694" y="4093"/>
                </a:cubicBezTo>
                <a:cubicBezTo>
                  <a:pt x="16710" y="4268"/>
                  <a:pt x="16745" y="4439"/>
                  <a:pt x="16768" y="4614"/>
                </a:cubicBezTo>
                <a:cubicBezTo>
                  <a:pt x="16798" y="4844"/>
                  <a:pt x="16812" y="5077"/>
                  <a:pt x="16842" y="5308"/>
                </a:cubicBezTo>
                <a:cubicBezTo>
                  <a:pt x="16871" y="5532"/>
                  <a:pt x="16891" y="5756"/>
                  <a:pt x="16917" y="5978"/>
                </a:cubicBezTo>
                <a:cubicBezTo>
                  <a:pt x="16954" y="6292"/>
                  <a:pt x="16964" y="6578"/>
                  <a:pt x="16966" y="6896"/>
                </a:cubicBezTo>
                <a:cubicBezTo>
                  <a:pt x="16968" y="7162"/>
                  <a:pt x="16945" y="7424"/>
                  <a:pt x="16942" y="7689"/>
                </a:cubicBezTo>
                <a:cubicBezTo>
                  <a:pt x="16927" y="8899"/>
                  <a:pt x="16894" y="10128"/>
                  <a:pt x="16966" y="11336"/>
                </a:cubicBezTo>
                <a:cubicBezTo>
                  <a:pt x="16991" y="11763"/>
                  <a:pt x="17012" y="12197"/>
                  <a:pt x="16991" y="12626"/>
                </a:cubicBezTo>
                <a:cubicBezTo>
                  <a:pt x="16972" y="13022"/>
                  <a:pt x="16966" y="13422"/>
                  <a:pt x="16917" y="13816"/>
                </a:cubicBezTo>
                <a:cubicBezTo>
                  <a:pt x="16864" y="14241"/>
                  <a:pt x="16796" y="14659"/>
                  <a:pt x="16718" y="15081"/>
                </a:cubicBezTo>
                <a:cubicBezTo>
                  <a:pt x="16685" y="15255"/>
                  <a:pt x="16652" y="15428"/>
                  <a:pt x="16619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Ink 23"/>
          <p:cNvSpPr/>
          <p:nvPr/>
        </p:nvSpPr>
        <p:spPr>
          <a:xfrm>
            <a:off x="4670280" y="1544760"/>
            <a:ext cx="3330720" cy="63360"/>
          </a:xfrm>
          <a:custGeom>
            <a:avLst/>
            <a:gdLst/>
            <a:ahLst/>
            <a:rect l="l" t="t" r="r" b="b"/>
            <a:pathLst>
              <a:path w="9253" h="175">
                <a:moveTo>
                  <a:pt x="12973" y="4465"/>
                </a:moveTo>
                <a:cubicBezTo>
                  <a:pt x="13028" y="4458"/>
                  <a:pt x="13101" y="4441"/>
                  <a:pt x="13171" y="4440"/>
                </a:cubicBezTo>
                <a:cubicBezTo>
                  <a:pt x="13817" y="4429"/>
                  <a:pt x="14460" y="4415"/>
                  <a:pt x="15106" y="4415"/>
                </a:cubicBezTo>
                <a:cubicBezTo>
                  <a:pt x="15339" y="4415"/>
                  <a:pt x="15567" y="4390"/>
                  <a:pt x="15801" y="4390"/>
                </a:cubicBezTo>
                <a:cubicBezTo>
                  <a:pt x="16116" y="4390"/>
                  <a:pt x="16428" y="4370"/>
                  <a:pt x="16743" y="4366"/>
                </a:cubicBezTo>
                <a:cubicBezTo>
                  <a:pt x="17224" y="4360"/>
                  <a:pt x="17703" y="4360"/>
                  <a:pt x="18182" y="4341"/>
                </a:cubicBezTo>
                <a:cubicBezTo>
                  <a:pt x="18536" y="4327"/>
                  <a:pt x="18894" y="4321"/>
                  <a:pt x="19248" y="4316"/>
                </a:cubicBezTo>
                <a:cubicBezTo>
                  <a:pt x="19860" y="4308"/>
                  <a:pt x="20474" y="4312"/>
                  <a:pt x="21084" y="4341"/>
                </a:cubicBezTo>
                <a:cubicBezTo>
                  <a:pt x="21290" y="4351"/>
                  <a:pt x="21499" y="4356"/>
                  <a:pt x="21704" y="4366"/>
                </a:cubicBezTo>
                <a:cubicBezTo>
                  <a:pt x="21824" y="4372"/>
                  <a:pt x="21934" y="4356"/>
                  <a:pt x="22051" y="4341"/>
                </a:cubicBezTo>
                <a:cubicBezTo>
                  <a:pt x="22122" y="4332"/>
                  <a:pt x="22136" y="4323"/>
                  <a:pt x="22200" y="4291"/>
                </a:cubicBezTo>
                <a:cubicBezTo>
                  <a:pt x="22184" y="4291"/>
                  <a:pt x="22167" y="4291"/>
                  <a:pt x="22151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ing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 graph, it is where it crosses the x-ax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ebraically, you solve the function equal to z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Ink 4"/>
          <p:cNvSpPr/>
          <p:nvPr/>
        </p:nvSpPr>
        <p:spPr>
          <a:xfrm>
            <a:off x="1035000" y="6518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77" y="18107"/>
                </a:moveTo>
                <a:lnTo>
                  <a:pt x="2877" y="18107"/>
                </a:lnTo>
              </a:path>
              <a:path w="1" h="1">
                <a:moveTo>
                  <a:pt x="2877" y="18107"/>
                </a:moveTo>
                <a:lnTo>
                  <a:pt x="2877" y="1810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10x +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Ink 4"/>
          <p:cNvSpPr/>
          <p:nvPr/>
        </p:nvSpPr>
        <p:spPr>
          <a:xfrm>
            <a:off x="1455840" y="2394000"/>
            <a:ext cx="1776240" cy="480960"/>
          </a:xfrm>
          <a:custGeom>
            <a:avLst/>
            <a:gdLst/>
            <a:ahLst/>
            <a:rect l="l" t="t" r="r" b="b"/>
            <a:pathLst>
              <a:path w="4937" h="1340">
                <a:moveTo>
                  <a:pt x="4043" y="7020"/>
                </a:moveTo>
                <a:cubicBezTo>
                  <a:pt x="4053" y="7109"/>
                  <a:pt x="4091" y="7240"/>
                  <a:pt x="4142" y="7317"/>
                </a:cubicBezTo>
                <a:cubicBezTo>
                  <a:pt x="4197" y="7399"/>
                  <a:pt x="4248" y="7488"/>
                  <a:pt x="4316" y="7565"/>
                </a:cubicBezTo>
                <a:cubicBezTo>
                  <a:pt x="4411" y="7673"/>
                  <a:pt x="4536" y="7741"/>
                  <a:pt x="4638" y="7838"/>
                </a:cubicBezTo>
                <a:cubicBezTo>
                  <a:pt x="4696" y="7893"/>
                  <a:pt x="4751" y="7938"/>
                  <a:pt x="4812" y="7987"/>
                </a:cubicBezTo>
              </a:path>
              <a:path w="4937" h="1340">
                <a:moveTo>
                  <a:pt x="4539" y="6995"/>
                </a:moveTo>
                <a:cubicBezTo>
                  <a:pt x="4501" y="7072"/>
                  <a:pt x="4451" y="7147"/>
                  <a:pt x="4415" y="7218"/>
                </a:cubicBezTo>
                <a:cubicBezTo>
                  <a:pt x="4361" y="7325"/>
                  <a:pt x="4326" y="7426"/>
                  <a:pt x="4291" y="7541"/>
                </a:cubicBezTo>
                <a:cubicBezTo>
                  <a:pt x="4266" y="7625"/>
                  <a:pt x="4230" y="7710"/>
                  <a:pt x="4192" y="7789"/>
                </a:cubicBezTo>
                <a:cubicBezTo>
                  <a:pt x="4176" y="7823"/>
                  <a:pt x="4128" y="7944"/>
                  <a:pt x="4093" y="7962"/>
                </a:cubicBezTo>
                <a:cubicBezTo>
                  <a:pt x="4093" y="7954"/>
                  <a:pt x="4093" y="7946"/>
                  <a:pt x="4093" y="7938"/>
                </a:cubicBezTo>
              </a:path>
              <a:path w="4937" h="1340">
                <a:moveTo>
                  <a:pt x="4663" y="6722"/>
                </a:moveTo>
                <a:cubicBezTo>
                  <a:pt x="4754" y="6664"/>
                  <a:pt x="4792" y="6624"/>
                  <a:pt x="4887" y="6672"/>
                </a:cubicBezTo>
                <a:cubicBezTo>
                  <a:pt x="4966" y="6712"/>
                  <a:pt x="4962" y="6749"/>
                  <a:pt x="4986" y="6821"/>
                </a:cubicBezTo>
                <a:cubicBezTo>
                  <a:pt x="5004" y="6875"/>
                  <a:pt x="5010" y="6993"/>
                  <a:pt x="4961" y="7045"/>
                </a:cubicBezTo>
                <a:cubicBezTo>
                  <a:pt x="4917" y="7091"/>
                  <a:pt x="4863" y="7124"/>
                  <a:pt x="4812" y="7169"/>
                </a:cubicBezTo>
                <a:cubicBezTo>
                  <a:pt x="4784" y="7194"/>
                  <a:pt x="4684" y="7223"/>
                  <a:pt x="4663" y="7169"/>
                </a:cubicBezTo>
                <a:cubicBezTo>
                  <a:pt x="4663" y="7152"/>
                  <a:pt x="4663" y="7136"/>
                  <a:pt x="4663" y="7119"/>
                </a:cubicBezTo>
                <a:cubicBezTo>
                  <a:pt x="4740" y="7080"/>
                  <a:pt x="4789" y="7105"/>
                  <a:pt x="4862" y="7119"/>
                </a:cubicBezTo>
                <a:cubicBezTo>
                  <a:pt x="4933" y="7133"/>
                  <a:pt x="5044" y="7118"/>
                  <a:pt x="5110" y="7144"/>
                </a:cubicBezTo>
                <a:cubicBezTo>
                  <a:pt x="5118" y="7152"/>
                  <a:pt x="5127" y="7161"/>
                  <a:pt x="5135" y="7169"/>
                </a:cubicBezTo>
              </a:path>
              <a:path w="4937" h="1340">
                <a:moveTo>
                  <a:pt x="5060" y="7441"/>
                </a:moveTo>
                <a:cubicBezTo>
                  <a:pt x="5141" y="7449"/>
                  <a:pt x="5196" y="7466"/>
                  <a:pt x="5283" y="7466"/>
                </a:cubicBezTo>
                <a:cubicBezTo>
                  <a:pt x="5338" y="7466"/>
                  <a:pt x="5378" y="7484"/>
                  <a:pt x="5432" y="7491"/>
                </a:cubicBezTo>
              </a:path>
              <a:path w="4937" h="1340">
                <a:moveTo>
                  <a:pt x="6003" y="7094"/>
                </a:moveTo>
                <a:cubicBezTo>
                  <a:pt x="6003" y="7178"/>
                  <a:pt x="5991" y="7196"/>
                  <a:pt x="5953" y="7268"/>
                </a:cubicBezTo>
                <a:cubicBezTo>
                  <a:pt x="5919" y="7331"/>
                  <a:pt x="5931" y="7365"/>
                  <a:pt x="5879" y="7417"/>
                </a:cubicBezTo>
                <a:cubicBezTo>
                  <a:pt x="5946" y="7469"/>
                  <a:pt x="5984" y="7440"/>
                  <a:pt x="6052" y="7466"/>
                </a:cubicBezTo>
                <a:cubicBezTo>
                  <a:pt x="6113" y="7490"/>
                  <a:pt x="6177" y="7512"/>
                  <a:pt x="6251" y="7516"/>
                </a:cubicBezTo>
                <a:cubicBezTo>
                  <a:pt x="6267" y="7516"/>
                  <a:pt x="6284" y="7516"/>
                  <a:pt x="6300" y="7516"/>
                </a:cubicBezTo>
              </a:path>
              <a:path w="4937" h="1340">
                <a:moveTo>
                  <a:pt x="6375" y="6896"/>
                </a:moveTo>
                <a:cubicBezTo>
                  <a:pt x="6326" y="7033"/>
                  <a:pt x="6346" y="7105"/>
                  <a:pt x="6325" y="7243"/>
                </a:cubicBezTo>
                <a:cubicBezTo>
                  <a:pt x="6307" y="7362"/>
                  <a:pt x="6300" y="7468"/>
                  <a:pt x="6300" y="7590"/>
                </a:cubicBezTo>
                <a:cubicBezTo>
                  <a:pt x="6300" y="7706"/>
                  <a:pt x="6300" y="7822"/>
                  <a:pt x="6300" y="7938"/>
                </a:cubicBezTo>
              </a:path>
              <a:path w="4937" h="1340">
                <a:moveTo>
                  <a:pt x="7119" y="7243"/>
                </a:moveTo>
                <a:cubicBezTo>
                  <a:pt x="7119" y="7160"/>
                  <a:pt x="7137" y="7069"/>
                  <a:pt x="7094" y="6995"/>
                </a:cubicBezTo>
                <a:cubicBezTo>
                  <a:pt x="7062" y="6940"/>
                  <a:pt x="7002" y="6899"/>
                  <a:pt x="6945" y="6896"/>
                </a:cubicBezTo>
                <a:cubicBezTo>
                  <a:pt x="6890" y="6893"/>
                  <a:pt x="6819" y="6938"/>
                  <a:pt x="6772" y="6970"/>
                </a:cubicBezTo>
                <a:cubicBezTo>
                  <a:pt x="6708" y="7015"/>
                  <a:pt x="6641" y="7119"/>
                  <a:pt x="6623" y="7193"/>
                </a:cubicBezTo>
                <a:cubicBezTo>
                  <a:pt x="6605" y="7270"/>
                  <a:pt x="6622" y="7316"/>
                  <a:pt x="6672" y="7367"/>
                </a:cubicBezTo>
                <a:cubicBezTo>
                  <a:pt x="6726" y="7422"/>
                  <a:pt x="6831" y="7391"/>
                  <a:pt x="6896" y="7367"/>
                </a:cubicBezTo>
                <a:cubicBezTo>
                  <a:pt x="6938" y="7352"/>
                  <a:pt x="7019" y="7280"/>
                  <a:pt x="7045" y="7243"/>
                </a:cubicBezTo>
                <a:cubicBezTo>
                  <a:pt x="7081" y="7192"/>
                  <a:pt x="7109" y="7129"/>
                  <a:pt x="7119" y="7069"/>
                </a:cubicBezTo>
                <a:cubicBezTo>
                  <a:pt x="7119" y="7053"/>
                  <a:pt x="7119" y="7036"/>
                  <a:pt x="7119" y="7020"/>
                </a:cubicBezTo>
                <a:cubicBezTo>
                  <a:pt x="7056" y="7101"/>
                  <a:pt x="7045" y="7141"/>
                  <a:pt x="7045" y="7243"/>
                </a:cubicBezTo>
                <a:cubicBezTo>
                  <a:pt x="7045" y="7452"/>
                  <a:pt x="7042" y="7659"/>
                  <a:pt x="7069" y="7863"/>
                </a:cubicBezTo>
                <a:cubicBezTo>
                  <a:pt x="7080" y="7946"/>
                  <a:pt x="7068" y="7941"/>
                  <a:pt x="7144" y="7962"/>
                </a:cubicBezTo>
              </a:path>
              <a:path w="4937" h="1340">
                <a:moveTo>
                  <a:pt x="7367" y="7441"/>
                </a:moveTo>
                <a:cubicBezTo>
                  <a:pt x="7451" y="7423"/>
                  <a:pt x="7531" y="7401"/>
                  <a:pt x="7615" y="7392"/>
                </a:cubicBezTo>
              </a:path>
              <a:path w="4937" h="1340">
                <a:moveTo>
                  <a:pt x="7367" y="7590"/>
                </a:moveTo>
                <a:cubicBezTo>
                  <a:pt x="7462" y="7625"/>
                  <a:pt x="7514" y="7640"/>
                  <a:pt x="7615" y="7640"/>
                </a:cubicBezTo>
                <a:cubicBezTo>
                  <a:pt x="7632" y="7640"/>
                  <a:pt x="7648" y="7640"/>
                  <a:pt x="7665" y="7640"/>
                </a:cubicBezTo>
              </a:path>
              <a:path w="4937" h="1340">
                <a:moveTo>
                  <a:pt x="8260" y="7069"/>
                </a:moveTo>
                <a:cubicBezTo>
                  <a:pt x="8251" y="7139"/>
                  <a:pt x="8238" y="7203"/>
                  <a:pt x="8210" y="7268"/>
                </a:cubicBezTo>
                <a:cubicBezTo>
                  <a:pt x="8178" y="7342"/>
                  <a:pt x="8186" y="7410"/>
                  <a:pt x="8186" y="7491"/>
                </a:cubicBezTo>
                <a:cubicBezTo>
                  <a:pt x="8186" y="7559"/>
                  <a:pt x="8221" y="7633"/>
                  <a:pt x="8260" y="7689"/>
                </a:cubicBezTo>
                <a:cubicBezTo>
                  <a:pt x="8316" y="7769"/>
                  <a:pt x="8343" y="7774"/>
                  <a:pt x="8434" y="7813"/>
                </a:cubicBezTo>
                <a:cubicBezTo>
                  <a:pt x="8515" y="7848"/>
                  <a:pt x="8594" y="7838"/>
                  <a:pt x="8682" y="7838"/>
                </a:cubicBezTo>
                <a:cubicBezTo>
                  <a:pt x="8766" y="7838"/>
                  <a:pt x="8821" y="7795"/>
                  <a:pt x="8880" y="7739"/>
                </a:cubicBezTo>
                <a:cubicBezTo>
                  <a:pt x="9002" y="7624"/>
                  <a:pt x="8975" y="7542"/>
                  <a:pt x="8979" y="7367"/>
                </a:cubicBezTo>
                <a:cubicBezTo>
                  <a:pt x="8981" y="7264"/>
                  <a:pt x="8946" y="7175"/>
                  <a:pt x="8880" y="7094"/>
                </a:cubicBezTo>
                <a:cubicBezTo>
                  <a:pt x="8808" y="7006"/>
                  <a:pt x="8711" y="6940"/>
                  <a:pt x="8607" y="6896"/>
                </a:cubicBezTo>
                <a:cubicBezTo>
                  <a:pt x="8541" y="6868"/>
                  <a:pt x="8430" y="6852"/>
                  <a:pt x="8359" y="6871"/>
                </a:cubicBezTo>
                <a:cubicBezTo>
                  <a:pt x="8280" y="6892"/>
                  <a:pt x="8233" y="6941"/>
                  <a:pt x="8186" y="6995"/>
                </a:cubicBezTo>
                <a:cubicBezTo>
                  <a:pt x="8169" y="7012"/>
                  <a:pt x="8153" y="7028"/>
                  <a:pt x="8136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Ink 5"/>
          <p:cNvSpPr/>
          <p:nvPr/>
        </p:nvSpPr>
        <p:spPr>
          <a:xfrm>
            <a:off x="1973160" y="3000240"/>
            <a:ext cx="615960" cy="330480"/>
          </a:xfrm>
          <a:custGeom>
            <a:avLst/>
            <a:gdLst/>
            <a:ahLst/>
            <a:rect l="l" t="t" r="r" b="b"/>
            <a:pathLst>
              <a:path w="1712" h="919">
                <a:moveTo>
                  <a:pt x="5755" y="8334"/>
                </a:moveTo>
                <a:cubicBezTo>
                  <a:pt x="5799" y="8403"/>
                  <a:pt x="5818" y="8473"/>
                  <a:pt x="5804" y="8558"/>
                </a:cubicBezTo>
                <a:cubicBezTo>
                  <a:pt x="5787" y="8662"/>
                  <a:pt x="5779" y="8749"/>
                  <a:pt x="5779" y="8855"/>
                </a:cubicBezTo>
                <a:cubicBezTo>
                  <a:pt x="5779" y="8930"/>
                  <a:pt x="5779" y="9004"/>
                  <a:pt x="5779" y="9079"/>
                </a:cubicBezTo>
              </a:path>
              <a:path w="1712" h="919">
                <a:moveTo>
                  <a:pt x="5482" y="8731"/>
                </a:moveTo>
                <a:cubicBezTo>
                  <a:pt x="5602" y="8705"/>
                  <a:pt x="5640" y="8727"/>
                  <a:pt x="5755" y="8731"/>
                </a:cubicBezTo>
                <a:cubicBezTo>
                  <a:pt x="5827" y="8734"/>
                  <a:pt x="5881" y="8713"/>
                  <a:pt x="5953" y="8706"/>
                </a:cubicBezTo>
              </a:path>
              <a:path w="1712" h="919">
                <a:moveTo>
                  <a:pt x="6300" y="8458"/>
                </a:moveTo>
                <a:cubicBezTo>
                  <a:pt x="6271" y="8539"/>
                  <a:pt x="6255" y="8618"/>
                  <a:pt x="6251" y="8706"/>
                </a:cubicBezTo>
                <a:cubicBezTo>
                  <a:pt x="6249" y="8750"/>
                  <a:pt x="6274" y="8862"/>
                  <a:pt x="6325" y="8880"/>
                </a:cubicBezTo>
                <a:cubicBezTo>
                  <a:pt x="6376" y="8898"/>
                  <a:pt x="6471" y="8880"/>
                  <a:pt x="6524" y="8880"/>
                </a:cubicBezTo>
              </a:path>
              <a:path w="1712" h="919">
                <a:moveTo>
                  <a:pt x="6548" y="8409"/>
                </a:moveTo>
                <a:cubicBezTo>
                  <a:pt x="6525" y="8528"/>
                  <a:pt x="6524" y="8634"/>
                  <a:pt x="6524" y="8756"/>
                </a:cubicBezTo>
                <a:cubicBezTo>
                  <a:pt x="6524" y="8900"/>
                  <a:pt x="6535" y="9035"/>
                  <a:pt x="6548" y="9178"/>
                </a:cubicBezTo>
                <a:cubicBezTo>
                  <a:pt x="6553" y="9237"/>
                  <a:pt x="6545" y="9239"/>
                  <a:pt x="6598" y="9252"/>
                </a:cubicBezTo>
              </a:path>
              <a:path w="1712" h="919">
                <a:moveTo>
                  <a:pt x="7069" y="8508"/>
                </a:moveTo>
                <a:cubicBezTo>
                  <a:pt x="7030" y="8409"/>
                  <a:pt x="6985" y="8361"/>
                  <a:pt x="6871" y="8434"/>
                </a:cubicBezTo>
                <a:cubicBezTo>
                  <a:pt x="6811" y="8473"/>
                  <a:pt x="6739" y="8532"/>
                  <a:pt x="6722" y="8607"/>
                </a:cubicBezTo>
                <a:cubicBezTo>
                  <a:pt x="6710" y="8662"/>
                  <a:pt x="6714" y="8740"/>
                  <a:pt x="6747" y="8781"/>
                </a:cubicBezTo>
                <a:cubicBezTo>
                  <a:pt x="6776" y="8817"/>
                  <a:pt x="6825" y="8869"/>
                  <a:pt x="6871" y="8880"/>
                </a:cubicBezTo>
                <a:cubicBezTo>
                  <a:pt x="6947" y="8898"/>
                  <a:pt x="6994" y="8881"/>
                  <a:pt x="7045" y="8830"/>
                </a:cubicBezTo>
                <a:cubicBezTo>
                  <a:pt x="7095" y="8780"/>
                  <a:pt x="7092" y="8760"/>
                  <a:pt x="7119" y="8706"/>
                </a:cubicBezTo>
                <a:cubicBezTo>
                  <a:pt x="7148" y="8678"/>
                  <a:pt x="7156" y="8665"/>
                  <a:pt x="7144" y="8632"/>
                </a:cubicBezTo>
                <a:cubicBezTo>
                  <a:pt x="7136" y="8719"/>
                  <a:pt x="7119" y="8790"/>
                  <a:pt x="7119" y="8880"/>
                </a:cubicBezTo>
                <a:cubicBezTo>
                  <a:pt x="7119" y="8942"/>
                  <a:pt x="7095" y="9167"/>
                  <a:pt x="7144" y="9178"/>
                </a:cubicBezTo>
                <a:cubicBezTo>
                  <a:pt x="7160" y="9178"/>
                  <a:pt x="7177" y="9178"/>
                  <a:pt x="7193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Ink 6"/>
          <p:cNvSpPr/>
          <p:nvPr/>
        </p:nvSpPr>
        <p:spPr>
          <a:xfrm>
            <a:off x="3036960" y="2973240"/>
            <a:ext cx="598320" cy="357480"/>
          </a:xfrm>
          <a:custGeom>
            <a:avLst/>
            <a:gdLst/>
            <a:ahLst/>
            <a:rect l="l" t="t" r="r" b="b"/>
            <a:pathLst>
              <a:path w="1663" h="993">
                <a:moveTo>
                  <a:pt x="8632" y="8558"/>
                </a:moveTo>
                <a:cubicBezTo>
                  <a:pt x="8632" y="8640"/>
                  <a:pt x="8631" y="8730"/>
                  <a:pt x="8607" y="8806"/>
                </a:cubicBezTo>
                <a:cubicBezTo>
                  <a:pt x="8590" y="8860"/>
                  <a:pt x="8559" y="8944"/>
                  <a:pt x="8582" y="9004"/>
                </a:cubicBezTo>
                <a:cubicBezTo>
                  <a:pt x="8602" y="9056"/>
                  <a:pt x="8620" y="9118"/>
                  <a:pt x="8632" y="9178"/>
                </a:cubicBezTo>
              </a:path>
              <a:path w="1663" h="993">
                <a:moveTo>
                  <a:pt x="8434" y="8806"/>
                </a:moveTo>
                <a:cubicBezTo>
                  <a:pt x="8493" y="8770"/>
                  <a:pt x="8558" y="8781"/>
                  <a:pt x="8632" y="8781"/>
                </a:cubicBezTo>
                <a:cubicBezTo>
                  <a:pt x="8698" y="8781"/>
                  <a:pt x="8764" y="8781"/>
                  <a:pt x="8830" y="8781"/>
                </a:cubicBezTo>
              </a:path>
              <a:path w="1663" h="993">
                <a:moveTo>
                  <a:pt x="9153" y="8558"/>
                </a:moveTo>
                <a:cubicBezTo>
                  <a:pt x="9141" y="8650"/>
                  <a:pt x="9107" y="8708"/>
                  <a:pt x="9103" y="8806"/>
                </a:cubicBezTo>
                <a:cubicBezTo>
                  <a:pt x="9101" y="8865"/>
                  <a:pt x="9141" y="8915"/>
                  <a:pt x="9203" y="8930"/>
                </a:cubicBezTo>
                <a:cubicBezTo>
                  <a:pt x="9254" y="8942"/>
                  <a:pt x="9323" y="8930"/>
                  <a:pt x="9376" y="8930"/>
                </a:cubicBezTo>
              </a:path>
              <a:path w="1663" h="993">
                <a:moveTo>
                  <a:pt x="9426" y="8384"/>
                </a:moveTo>
                <a:cubicBezTo>
                  <a:pt x="9402" y="8494"/>
                  <a:pt x="9380" y="8593"/>
                  <a:pt x="9376" y="8706"/>
                </a:cubicBezTo>
                <a:cubicBezTo>
                  <a:pt x="9372" y="8813"/>
                  <a:pt x="9383" y="8902"/>
                  <a:pt x="9401" y="9004"/>
                </a:cubicBezTo>
                <a:cubicBezTo>
                  <a:pt x="9413" y="9073"/>
                  <a:pt x="9411" y="9192"/>
                  <a:pt x="9451" y="9252"/>
                </a:cubicBezTo>
                <a:cubicBezTo>
                  <a:pt x="9475" y="9252"/>
                  <a:pt x="9484" y="9252"/>
                  <a:pt x="9500" y="9252"/>
                </a:cubicBezTo>
              </a:path>
              <a:path w="1663" h="993">
                <a:moveTo>
                  <a:pt x="9971" y="8384"/>
                </a:moveTo>
                <a:cubicBezTo>
                  <a:pt x="9912" y="8275"/>
                  <a:pt x="9877" y="8231"/>
                  <a:pt x="9748" y="8285"/>
                </a:cubicBezTo>
                <a:cubicBezTo>
                  <a:pt x="9661" y="8321"/>
                  <a:pt x="9570" y="8370"/>
                  <a:pt x="9599" y="8483"/>
                </a:cubicBezTo>
                <a:cubicBezTo>
                  <a:pt x="9607" y="8516"/>
                  <a:pt x="9666" y="8586"/>
                  <a:pt x="9699" y="8607"/>
                </a:cubicBezTo>
                <a:cubicBezTo>
                  <a:pt x="9741" y="8634"/>
                  <a:pt x="9822" y="8694"/>
                  <a:pt x="9872" y="8682"/>
                </a:cubicBezTo>
                <a:cubicBezTo>
                  <a:pt x="9941" y="8666"/>
                  <a:pt x="9987" y="8614"/>
                  <a:pt x="10021" y="8558"/>
                </a:cubicBezTo>
                <a:cubicBezTo>
                  <a:pt x="10045" y="8518"/>
                  <a:pt x="10103" y="8430"/>
                  <a:pt x="10096" y="8384"/>
                </a:cubicBezTo>
                <a:cubicBezTo>
                  <a:pt x="10088" y="8376"/>
                  <a:pt x="10079" y="8367"/>
                  <a:pt x="10071" y="8359"/>
                </a:cubicBezTo>
                <a:cubicBezTo>
                  <a:pt x="10027" y="8425"/>
                  <a:pt x="10015" y="8485"/>
                  <a:pt x="9996" y="8558"/>
                </a:cubicBezTo>
                <a:cubicBezTo>
                  <a:pt x="9971" y="8652"/>
                  <a:pt x="9970" y="8735"/>
                  <a:pt x="9996" y="8830"/>
                </a:cubicBezTo>
                <a:cubicBezTo>
                  <a:pt x="10019" y="8913"/>
                  <a:pt x="10046" y="8994"/>
                  <a:pt x="10071" y="9079"/>
                </a:cubicBezTo>
                <a:cubicBezTo>
                  <a:pt x="10071" y="9114"/>
                  <a:pt x="10076" y="9131"/>
                  <a:pt x="10096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Ink 7"/>
          <p:cNvSpPr/>
          <p:nvPr/>
        </p:nvSpPr>
        <p:spPr>
          <a:xfrm>
            <a:off x="1741320" y="3348000"/>
            <a:ext cx="1581480" cy="716040"/>
          </a:xfrm>
          <a:custGeom>
            <a:avLst/>
            <a:gdLst/>
            <a:ahLst/>
            <a:rect l="l" t="t" r="r" b="b"/>
            <a:pathLst>
              <a:path w="4391" h="1985">
                <a:moveTo>
                  <a:pt x="5705" y="9947"/>
                </a:moveTo>
                <a:cubicBezTo>
                  <a:pt x="5744" y="10034"/>
                  <a:pt x="5760" y="10136"/>
                  <a:pt x="5804" y="10220"/>
                </a:cubicBezTo>
                <a:cubicBezTo>
                  <a:pt x="5857" y="10321"/>
                  <a:pt x="5894" y="10446"/>
                  <a:pt x="5953" y="10542"/>
                </a:cubicBezTo>
                <a:cubicBezTo>
                  <a:pt x="6027" y="10664"/>
                  <a:pt x="6117" y="10777"/>
                  <a:pt x="6201" y="10889"/>
                </a:cubicBezTo>
                <a:cubicBezTo>
                  <a:pt x="6273" y="10985"/>
                  <a:pt x="6343" y="11038"/>
                  <a:pt x="6449" y="11088"/>
                </a:cubicBezTo>
                <a:cubicBezTo>
                  <a:pt x="6503" y="11114"/>
                  <a:pt x="6523" y="11119"/>
                  <a:pt x="6548" y="11063"/>
                </a:cubicBezTo>
              </a:path>
              <a:path w="4391" h="1985">
                <a:moveTo>
                  <a:pt x="6300" y="10046"/>
                </a:moveTo>
                <a:cubicBezTo>
                  <a:pt x="6228" y="10133"/>
                  <a:pt x="6168" y="10235"/>
                  <a:pt x="6127" y="10344"/>
                </a:cubicBezTo>
                <a:cubicBezTo>
                  <a:pt x="6077" y="10477"/>
                  <a:pt x="6029" y="10608"/>
                  <a:pt x="5978" y="10740"/>
                </a:cubicBezTo>
                <a:cubicBezTo>
                  <a:pt x="5944" y="10827"/>
                  <a:pt x="5917" y="10925"/>
                  <a:pt x="5904" y="11013"/>
                </a:cubicBezTo>
                <a:cubicBezTo>
                  <a:pt x="5904" y="11054"/>
                  <a:pt x="5895" y="11071"/>
                  <a:pt x="5928" y="11063"/>
                </a:cubicBezTo>
              </a:path>
              <a:path w="4391" h="1985">
                <a:moveTo>
                  <a:pt x="6449" y="9798"/>
                </a:moveTo>
                <a:cubicBezTo>
                  <a:pt x="6500" y="9789"/>
                  <a:pt x="6599" y="9764"/>
                  <a:pt x="6623" y="9847"/>
                </a:cubicBezTo>
                <a:cubicBezTo>
                  <a:pt x="6642" y="9913"/>
                  <a:pt x="6610" y="9993"/>
                  <a:pt x="6573" y="10046"/>
                </a:cubicBezTo>
                <a:cubicBezTo>
                  <a:pt x="6549" y="10080"/>
                  <a:pt x="6525" y="10113"/>
                  <a:pt x="6499" y="10145"/>
                </a:cubicBezTo>
                <a:cubicBezTo>
                  <a:pt x="6550" y="10186"/>
                  <a:pt x="6584" y="10217"/>
                  <a:pt x="6648" y="10220"/>
                </a:cubicBezTo>
                <a:cubicBezTo>
                  <a:pt x="6714" y="10220"/>
                  <a:pt x="6731" y="10220"/>
                  <a:pt x="6772" y="10220"/>
                </a:cubicBezTo>
              </a:path>
              <a:path w="4391" h="1985">
                <a:moveTo>
                  <a:pt x="6796" y="10468"/>
                </a:moveTo>
                <a:cubicBezTo>
                  <a:pt x="6866" y="10493"/>
                  <a:pt x="6920" y="10492"/>
                  <a:pt x="6995" y="10492"/>
                </a:cubicBezTo>
                <a:cubicBezTo>
                  <a:pt x="7012" y="10492"/>
                  <a:pt x="7028" y="10492"/>
                  <a:pt x="7045" y="10492"/>
                </a:cubicBezTo>
              </a:path>
              <a:path w="4391" h="1985">
                <a:moveTo>
                  <a:pt x="6921" y="10616"/>
                </a:moveTo>
                <a:cubicBezTo>
                  <a:pt x="7016" y="10642"/>
                  <a:pt x="7094" y="10641"/>
                  <a:pt x="7193" y="10641"/>
                </a:cubicBezTo>
                <a:cubicBezTo>
                  <a:pt x="7218" y="10641"/>
                  <a:pt x="7243" y="10641"/>
                  <a:pt x="7268" y="10641"/>
                </a:cubicBezTo>
              </a:path>
              <a:path w="4391" h="1985">
                <a:moveTo>
                  <a:pt x="8037" y="10170"/>
                </a:moveTo>
                <a:cubicBezTo>
                  <a:pt x="8004" y="10282"/>
                  <a:pt x="7979" y="10329"/>
                  <a:pt x="7913" y="10418"/>
                </a:cubicBezTo>
                <a:cubicBezTo>
                  <a:pt x="7871" y="10473"/>
                  <a:pt x="7839" y="10506"/>
                  <a:pt x="7888" y="10567"/>
                </a:cubicBezTo>
                <a:cubicBezTo>
                  <a:pt x="7925" y="10614"/>
                  <a:pt x="8010" y="10598"/>
                  <a:pt x="8062" y="10616"/>
                </a:cubicBezTo>
                <a:cubicBezTo>
                  <a:pt x="8149" y="10645"/>
                  <a:pt x="8200" y="10648"/>
                  <a:pt x="8285" y="10616"/>
                </a:cubicBezTo>
              </a:path>
              <a:path w="4391" h="1985">
                <a:moveTo>
                  <a:pt x="8359" y="9947"/>
                </a:moveTo>
                <a:cubicBezTo>
                  <a:pt x="8334" y="10047"/>
                  <a:pt x="8329" y="10144"/>
                  <a:pt x="8310" y="10244"/>
                </a:cubicBezTo>
                <a:cubicBezTo>
                  <a:pt x="8286" y="10370"/>
                  <a:pt x="8240" y="10485"/>
                  <a:pt x="8260" y="10616"/>
                </a:cubicBezTo>
                <a:cubicBezTo>
                  <a:pt x="8278" y="10731"/>
                  <a:pt x="8297" y="10850"/>
                  <a:pt x="8310" y="10964"/>
                </a:cubicBezTo>
                <a:cubicBezTo>
                  <a:pt x="8313" y="10990"/>
                  <a:pt x="8300" y="11184"/>
                  <a:pt x="8334" y="11112"/>
                </a:cubicBezTo>
              </a:path>
              <a:path w="4391" h="1985">
                <a:moveTo>
                  <a:pt x="9079" y="10170"/>
                </a:moveTo>
                <a:cubicBezTo>
                  <a:pt x="9059" y="10089"/>
                  <a:pt x="9053" y="9968"/>
                  <a:pt x="8930" y="9996"/>
                </a:cubicBezTo>
                <a:cubicBezTo>
                  <a:pt x="8847" y="10015"/>
                  <a:pt x="8767" y="10063"/>
                  <a:pt x="8706" y="10120"/>
                </a:cubicBezTo>
                <a:cubicBezTo>
                  <a:pt x="8654" y="10168"/>
                  <a:pt x="8641" y="10251"/>
                  <a:pt x="8657" y="10319"/>
                </a:cubicBezTo>
                <a:cubicBezTo>
                  <a:pt x="8669" y="10370"/>
                  <a:pt x="8731" y="10431"/>
                  <a:pt x="8781" y="10443"/>
                </a:cubicBezTo>
                <a:cubicBezTo>
                  <a:pt x="8857" y="10461"/>
                  <a:pt x="8904" y="10444"/>
                  <a:pt x="8954" y="10393"/>
                </a:cubicBezTo>
                <a:cubicBezTo>
                  <a:pt x="8993" y="10353"/>
                  <a:pt x="9066" y="10251"/>
                  <a:pt x="9079" y="10195"/>
                </a:cubicBezTo>
                <a:cubicBezTo>
                  <a:pt x="9079" y="10178"/>
                  <a:pt x="9079" y="10162"/>
                  <a:pt x="9079" y="10145"/>
                </a:cubicBezTo>
                <a:cubicBezTo>
                  <a:pt x="9053" y="10214"/>
                  <a:pt x="9015" y="10345"/>
                  <a:pt x="9029" y="10418"/>
                </a:cubicBezTo>
                <a:cubicBezTo>
                  <a:pt x="9052" y="10540"/>
                  <a:pt x="9069" y="10664"/>
                  <a:pt x="9103" y="10790"/>
                </a:cubicBezTo>
                <a:cubicBezTo>
                  <a:pt x="9135" y="10907"/>
                  <a:pt x="9144" y="11024"/>
                  <a:pt x="9178" y="11137"/>
                </a:cubicBezTo>
                <a:cubicBezTo>
                  <a:pt x="9196" y="11196"/>
                  <a:pt x="9200" y="11239"/>
                  <a:pt x="9227" y="11286"/>
                </a:cubicBezTo>
              </a:path>
              <a:path w="4391" h="1985">
                <a:moveTo>
                  <a:pt x="4837" y="9847"/>
                </a:moveTo>
                <a:cubicBezTo>
                  <a:pt x="4909" y="9766"/>
                  <a:pt x="4895" y="9745"/>
                  <a:pt x="4986" y="9773"/>
                </a:cubicBezTo>
                <a:cubicBezTo>
                  <a:pt x="5085" y="9803"/>
                  <a:pt x="5151" y="9933"/>
                  <a:pt x="5184" y="10021"/>
                </a:cubicBezTo>
                <a:cubicBezTo>
                  <a:pt x="5236" y="10161"/>
                  <a:pt x="5293" y="10318"/>
                  <a:pt x="5308" y="10468"/>
                </a:cubicBezTo>
                <a:cubicBezTo>
                  <a:pt x="5319" y="10578"/>
                  <a:pt x="5305" y="10709"/>
                  <a:pt x="5283" y="10815"/>
                </a:cubicBezTo>
                <a:cubicBezTo>
                  <a:pt x="5283" y="10859"/>
                  <a:pt x="5286" y="10872"/>
                  <a:pt x="5259" y="10889"/>
                </a:cubicBezTo>
                <a:cubicBezTo>
                  <a:pt x="5264" y="10781"/>
                  <a:pt x="5267" y="10673"/>
                  <a:pt x="5283" y="10567"/>
                </a:cubicBezTo>
                <a:cubicBezTo>
                  <a:pt x="5306" y="10412"/>
                  <a:pt x="5344" y="10252"/>
                  <a:pt x="5358" y="10096"/>
                </a:cubicBezTo>
                <a:cubicBezTo>
                  <a:pt x="5372" y="9936"/>
                  <a:pt x="5379" y="9751"/>
                  <a:pt x="5432" y="9599"/>
                </a:cubicBezTo>
                <a:cubicBezTo>
                  <a:pt x="5470" y="9491"/>
                  <a:pt x="5486" y="9438"/>
                  <a:pt x="5581" y="9376"/>
                </a:cubicBezTo>
                <a:cubicBezTo>
                  <a:pt x="5709" y="9293"/>
                  <a:pt x="5802" y="9302"/>
                  <a:pt x="5953" y="9302"/>
                </a:cubicBezTo>
                <a:cubicBezTo>
                  <a:pt x="6110" y="9302"/>
                  <a:pt x="6297" y="9290"/>
                  <a:pt x="6449" y="9327"/>
                </a:cubicBezTo>
                <a:cubicBezTo>
                  <a:pt x="6490" y="9343"/>
                  <a:pt x="6532" y="9360"/>
                  <a:pt x="6573" y="9376"/>
                </a:cubicBezTo>
              </a:path>
              <a:path w="4391" h="1985">
                <a:moveTo>
                  <a:pt x="7466" y="10145"/>
                </a:moveTo>
                <a:cubicBezTo>
                  <a:pt x="7485" y="10327"/>
                  <a:pt x="7502" y="10510"/>
                  <a:pt x="7516" y="10691"/>
                </a:cubicBezTo>
                <a:cubicBezTo>
                  <a:pt x="7524" y="10798"/>
                  <a:pt x="7526" y="10914"/>
                  <a:pt x="7565" y="11013"/>
                </a:cubicBezTo>
                <a:cubicBezTo>
                  <a:pt x="7589" y="11061"/>
                  <a:pt x="7597" y="11075"/>
                  <a:pt x="7590" y="11112"/>
                </a:cubicBezTo>
                <a:cubicBezTo>
                  <a:pt x="7590" y="11008"/>
                  <a:pt x="7568" y="10918"/>
                  <a:pt x="7565" y="10815"/>
                </a:cubicBezTo>
                <a:cubicBezTo>
                  <a:pt x="7560" y="10678"/>
                  <a:pt x="7586" y="10553"/>
                  <a:pt x="7590" y="10418"/>
                </a:cubicBezTo>
                <a:cubicBezTo>
                  <a:pt x="7593" y="10302"/>
                  <a:pt x="7591" y="10184"/>
                  <a:pt x="7615" y="10071"/>
                </a:cubicBezTo>
                <a:cubicBezTo>
                  <a:pt x="7635" y="9978"/>
                  <a:pt x="7680" y="9894"/>
                  <a:pt x="7739" y="9823"/>
                </a:cubicBezTo>
                <a:cubicBezTo>
                  <a:pt x="7827" y="9718"/>
                  <a:pt x="7892" y="9722"/>
                  <a:pt x="8012" y="9674"/>
                </a:cubicBezTo>
                <a:cubicBezTo>
                  <a:pt x="8203" y="9597"/>
                  <a:pt x="8398" y="9624"/>
                  <a:pt x="8607" y="9624"/>
                </a:cubicBezTo>
                <a:cubicBezTo>
                  <a:pt x="8772" y="9624"/>
                  <a:pt x="8938" y="9624"/>
                  <a:pt x="9103" y="9624"/>
                </a:cubicBezTo>
              </a:path>
              <a:path w="4391" h="1985">
                <a:moveTo>
                  <a:pt x="7268" y="9475"/>
                </a:moveTo>
                <a:cubicBezTo>
                  <a:pt x="7300" y="9604"/>
                  <a:pt x="7327" y="9742"/>
                  <a:pt x="7342" y="9872"/>
                </a:cubicBezTo>
                <a:cubicBezTo>
                  <a:pt x="7349" y="9931"/>
                  <a:pt x="7356" y="9966"/>
                  <a:pt x="7367" y="10021"/>
                </a:cubicBezTo>
              </a:path>
              <a:path w="4391" h="1985">
                <a:moveTo>
                  <a:pt x="7069" y="9798"/>
                </a:moveTo>
                <a:cubicBezTo>
                  <a:pt x="7154" y="9734"/>
                  <a:pt x="7206" y="9748"/>
                  <a:pt x="7317" y="9748"/>
                </a:cubicBezTo>
                <a:cubicBezTo>
                  <a:pt x="7385" y="9748"/>
                  <a:pt x="7404" y="9745"/>
                  <a:pt x="7441" y="9773"/>
                </a:cubicBezTo>
              </a:path>
              <a:path w="4391" h="1985">
                <a:moveTo>
                  <a:pt x="7193" y="10021"/>
                </a:moveTo>
                <a:cubicBezTo>
                  <a:pt x="7284" y="10032"/>
                  <a:pt x="7372" y="10063"/>
                  <a:pt x="7466" y="10071"/>
                </a:cubicBezTo>
                <a:cubicBezTo>
                  <a:pt x="7558" y="10071"/>
                  <a:pt x="7585" y="10073"/>
                  <a:pt x="7640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Ink 8"/>
          <p:cNvSpPr/>
          <p:nvPr/>
        </p:nvSpPr>
        <p:spPr>
          <a:xfrm>
            <a:off x="2367000" y="4037040"/>
            <a:ext cx="1293840" cy="1098360"/>
          </a:xfrm>
          <a:custGeom>
            <a:avLst/>
            <a:gdLst/>
            <a:ahLst/>
            <a:rect l="l" t="t" r="r" b="b"/>
            <a:pathLst>
              <a:path w="3598" h="3052">
                <a:moveTo>
                  <a:pt x="6573" y="12204"/>
                </a:moveTo>
                <a:cubicBezTo>
                  <a:pt x="6665" y="12426"/>
                  <a:pt x="6746" y="12674"/>
                  <a:pt x="6921" y="12849"/>
                </a:cubicBezTo>
                <a:cubicBezTo>
                  <a:pt x="6996" y="12924"/>
                  <a:pt x="7079" y="12978"/>
                  <a:pt x="7169" y="13022"/>
                </a:cubicBezTo>
              </a:path>
              <a:path w="3598" h="3052">
                <a:moveTo>
                  <a:pt x="6970" y="12105"/>
                </a:moveTo>
                <a:cubicBezTo>
                  <a:pt x="6882" y="12274"/>
                  <a:pt x="6806" y="12443"/>
                  <a:pt x="6747" y="12626"/>
                </a:cubicBezTo>
                <a:cubicBezTo>
                  <a:pt x="6705" y="12757"/>
                  <a:pt x="6680" y="12874"/>
                  <a:pt x="6623" y="12998"/>
                </a:cubicBezTo>
                <a:cubicBezTo>
                  <a:pt x="6595" y="13053"/>
                  <a:pt x="6587" y="13076"/>
                  <a:pt x="6598" y="13122"/>
                </a:cubicBezTo>
              </a:path>
              <a:path w="3598" h="3052">
                <a:moveTo>
                  <a:pt x="7169" y="12551"/>
                </a:moveTo>
                <a:cubicBezTo>
                  <a:pt x="7293" y="12551"/>
                  <a:pt x="7417" y="12551"/>
                  <a:pt x="7541" y="12551"/>
                </a:cubicBezTo>
              </a:path>
              <a:path w="3598" h="3052">
                <a:moveTo>
                  <a:pt x="7466" y="12675"/>
                </a:moveTo>
                <a:cubicBezTo>
                  <a:pt x="7591" y="12654"/>
                  <a:pt x="7617" y="12653"/>
                  <a:pt x="7689" y="12626"/>
                </a:cubicBezTo>
              </a:path>
              <a:path w="3598" h="3052">
                <a:moveTo>
                  <a:pt x="8086" y="11807"/>
                </a:moveTo>
                <a:cubicBezTo>
                  <a:pt x="8080" y="11988"/>
                  <a:pt x="8064" y="12153"/>
                  <a:pt x="8086" y="12328"/>
                </a:cubicBezTo>
                <a:cubicBezTo>
                  <a:pt x="8094" y="12391"/>
                  <a:pt x="8088" y="12417"/>
                  <a:pt x="8111" y="12477"/>
                </a:cubicBezTo>
              </a:path>
              <a:path w="3598" h="3052">
                <a:moveTo>
                  <a:pt x="7913" y="12303"/>
                </a:moveTo>
                <a:cubicBezTo>
                  <a:pt x="8026" y="12311"/>
                  <a:pt x="8125" y="12338"/>
                  <a:pt x="8235" y="12353"/>
                </a:cubicBezTo>
                <a:cubicBezTo>
                  <a:pt x="8285" y="12353"/>
                  <a:pt x="8301" y="12353"/>
                  <a:pt x="8334" y="12353"/>
                </a:cubicBezTo>
              </a:path>
              <a:path w="3598" h="3052">
                <a:moveTo>
                  <a:pt x="8012" y="12774"/>
                </a:moveTo>
                <a:cubicBezTo>
                  <a:pt x="8189" y="12838"/>
                  <a:pt x="8258" y="12868"/>
                  <a:pt x="8434" y="12824"/>
                </a:cubicBezTo>
              </a:path>
              <a:path w="3598" h="3052">
                <a:moveTo>
                  <a:pt x="8731" y="12080"/>
                </a:moveTo>
                <a:cubicBezTo>
                  <a:pt x="8855" y="12035"/>
                  <a:pt x="8914" y="12055"/>
                  <a:pt x="9054" y="12055"/>
                </a:cubicBezTo>
                <a:cubicBezTo>
                  <a:pt x="9098" y="12055"/>
                  <a:pt x="9232" y="12027"/>
                  <a:pt x="9252" y="12080"/>
                </a:cubicBezTo>
                <a:cubicBezTo>
                  <a:pt x="9279" y="12149"/>
                  <a:pt x="9239" y="12285"/>
                  <a:pt x="9227" y="12353"/>
                </a:cubicBezTo>
                <a:cubicBezTo>
                  <a:pt x="9195" y="12526"/>
                  <a:pt x="9203" y="12697"/>
                  <a:pt x="9203" y="12874"/>
                </a:cubicBezTo>
                <a:cubicBezTo>
                  <a:pt x="9203" y="13067"/>
                  <a:pt x="9196" y="13255"/>
                  <a:pt x="9227" y="13444"/>
                </a:cubicBezTo>
              </a:path>
              <a:path w="3598" h="3052">
                <a:moveTo>
                  <a:pt x="10145" y="11460"/>
                </a:moveTo>
                <a:cubicBezTo>
                  <a:pt x="10095" y="11435"/>
                  <a:pt x="10046" y="11410"/>
                  <a:pt x="9996" y="11385"/>
                </a:cubicBezTo>
              </a:path>
              <a:path w="3598" h="3052">
                <a:moveTo>
                  <a:pt x="9897" y="11361"/>
                </a:moveTo>
                <a:cubicBezTo>
                  <a:pt x="9802" y="11337"/>
                  <a:pt x="9719" y="11305"/>
                  <a:pt x="9624" y="11286"/>
                </a:cubicBezTo>
                <a:cubicBezTo>
                  <a:pt x="9522" y="11266"/>
                  <a:pt x="9406" y="11248"/>
                  <a:pt x="9302" y="11237"/>
                </a:cubicBezTo>
                <a:cubicBezTo>
                  <a:pt x="9099" y="11216"/>
                  <a:pt x="8884" y="11227"/>
                  <a:pt x="8682" y="11212"/>
                </a:cubicBezTo>
                <a:cubicBezTo>
                  <a:pt x="8485" y="11198"/>
                  <a:pt x="8279" y="11207"/>
                  <a:pt x="8086" y="11237"/>
                </a:cubicBezTo>
                <a:cubicBezTo>
                  <a:pt x="7803" y="11282"/>
                  <a:pt x="7543" y="11361"/>
                  <a:pt x="7268" y="11435"/>
                </a:cubicBezTo>
                <a:cubicBezTo>
                  <a:pt x="7131" y="11472"/>
                  <a:pt x="6976" y="11471"/>
                  <a:pt x="6846" y="11509"/>
                </a:cubicBezTo>
                <a:cubicBezTo>
                  <a:pt x="6789" y="11526"/>
                  <a:pt x="6735" y="11565"/>
                  <a:pt x="6697" y="11609"/>
                </a:cubicBezTo>
                <a:cubicBezTo>
                  <a:pt x="6598" y="11724"/>
                  <a:pt x="6584" y="11942"/>
                  <a:pt x="6573" y="12080"/>
                </a:cubicBezTo>
                <a:cubicBezTo>
                  <a:pt x="6555" y="12297"/>
                  <a:pt x="6594" y="12510"/>
                  <a:pt x="6598" y="12725"/>
                </a:cubicBezTo>
                <a:cubicBezTo>
                  <a:pt x="6602" y="12941"/>
                  <a:pt x="6636" y="13155"/>
                  <a:pt x="6648" y="13370"/>
                </a:cubicBezTo>
                <a:cubicBezTo>
                  <a:pt x="6659" y="13578"/>
                  <a:pt x="6686" y="13785"/>
                  <a:pt x="6722" y="13990"/>
                </a:cubicBezTo>
                <a:cubicBezTo>
                  <a:pt x="6731" y="14039"/>
                  <a:pt x="6742" y="14208"/>
                  <a:pt x="6796" y="14238"/>
                </a:cubicBezTo>
                <a:cubicBezTo>
                  <a:pt x="6860" y="14274"/>
                  <a:pt x="6931" y="14242"/>
                  <a:pt x="6995" y="14213"/>
                </a:cubicBezTo>
                <a:cubicBezTo>
                  <a:pt x="7183" y="14126"/>
                  <a:pt x="7331" y="14056"/>
                  <a:pt x="7541" y="14015"/>
                </a:cubicBezTo>
                <a:cubicBezTo>
                  <a:pt x="7681" y="13988"/>
                  <a:pt x="7797" y="13947"/>
                  <a:pt x="7938" y="13940"/>
                </a:cubicBezTo>
                <a:cubicBezTo>
                  <a:pt x="8173" y="13928"/>
                  <a:pt x="8384" y="13959"/>
                  <a:pt x="8607" y="13990"/>
                </a:cubicBezTo>
                <a:cubicBezTo>
                  <a:pt x="8757" y="14011"/>
                  <a:pt x="8928" y="14003"/>
                  <a:pt x="9079" y="14015"/>
                </a:cubicBezTo>
                <a:cubicBezTo>
                  <a:pt x="9190" y="14024"/>
                  <a:pt x="9290" y="14020"/>
                  <a:pt x="9401" y="14039"/>
                </a:cubicBezTo>
              </a:path>
              <a:path w="3598" h="3052">
                <a:moveTo>
                  <a:pt x="9798" y="13940"/>
                </a:moveTo>
                <a:cubicBezTo>
                  <a:pt x="9844" y="13800"/>
                  <a:pt x="9847" y="13714"/>
                  <a:pt x="9847" y="13568"/>
                </a:cubicBezTo>
                <a:cubicBezTo>
                  <a:pt x="9847" y="13254"/>
                  <a:pt x="9830" y="12937"/>
                  <a:pt x="9872" y="12626"/>
                </a:cubicBezTo>
                <a:cubicBezTo>
                  <a:pt x="9920" y="12278"/>
                  <a:pt x="9954" y="11923"/>
                  <a:pt x="10046" y="11584"/>
                </a:cubicBezTo>
                <a:cubicBezTo>
                  <a:pt x="10095" y="11415"/>
                  <a:pt x="10109" y="11361"/>
                  <a:pt x="10170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Ink 9"/>
          <p:cNvSpPr/>
          <p:nvPr/>
        </p:nvSpPr>
        <p:spPr>
          <a:xfrm>
            <a:off x="4714920" y="2660760"/>
            <a:ext cx="2779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3866" y="7615"/>
                </a:moveTo>
                <a:cubicBezTo>
                  <a:pt x="13801" y="7708"/>
                  <a:pt x="13637" y="7918"/>
                  <a:pt x="13717" y="7838"/>
                </a:cubicBezTo>
              </a:path>
              <a:path w="770" h="646">
                <a:moveTo>
                  <a:pt x="13295" y="7516"/>
                </a:moveTo>
                <a:cubicBezTo>
                  <a:pt x="13255" y="7685"/>
                  <a:pt x="13165" y="7878"/>
                  <a:pt x="13345" y="8012"/>
                </a:cubicBezTo>
                <a:cubicBezTo>
                  <a:pt x="13370" y="8020"/>
                  <a:pt x="13394" y="8029"/>
                  <a:pt x="13419" y="8037"/>
                </a:cubicBezTo>
              </a:path>
              <a:path w="770" h="646">
                <a:moveTo>
                  <a:pt x="13271" y="7764"/>
                </a:moveTo>
                <a:cubicBezTo>
                  <a:pt x="13319" y="7743"/>
                  <a:pt x="13378" y="7687"/>
                  <a:pt x="13395" y="7615"/>
                </a:cubicBezTo>
                <a:cubicBezTo>
                  <a:pt x="13404" y="7578"/>
                  <a:pt x="13450" y="7420"/>
                  <a:pt x="13419" y="7392"/>
                </a:cubicBezTo>
                <a:cubicBezTo>
                  <a:pt x="13366" y="7344"/>
                  <a:pt x="13285" y="7490"/>
                  <a:pt x="13271" y="7516"/>
                </a:cubicBezTo>
                <a:cubicBezTo>
                  <a:pt x="13238" y="7575"/>
                  <a:pt x="13200" y="7626"/>
                  <a:pt x="13196" y="7689"/>
                </a:cubicBezTo>
                <a:cubicBezTo>
                  <a:pt x="13196" y="7706"/>
                  <a:pt x="13196" y="7722"/>
                  <a:pt x="13196" y="7739"/>
                </a:cubicBezTo>
                <a:cubicBezTo>
                  <a:pt x="13204" y="7747"/>
                  <a:pt x="13213" y="7756"/>
                  <a:pt x="13221" y="7764"/>
                </a:cubicBezTo>
                <a:cubicBezTo>
                  <a:pt x="13284" y="7739"/>
                  <a:pt x="13352" y="7717"/>
                  <a:pt x="13370" y="7640"/>
                </a:cubicBezTo>
                <a:cubicBezTo>
                  <a:pt x="13385" y="7575"/>
                  <a:pt x="13353" y="7524"/>
                  <a:pt x="13345" y="7466"/>
                </a:cubicBezTo>
                <a:cubicBezTo>
                  <a:pt x="13281" y="7442"/>
                  <a:pt x="13224" y="7429"/>
                  <a:pt x="13171" y="7491"/>
                </a:cubicBezTo>
                <a:cubicBezTo>
                  <a:pt x="13128" y="7542"/>
                  <a:pt x="13119" y="7611"/>
                  <a:pt x="13146" y="7665"/>
                </a:cubicBezTo>
                <a:cubicBezTo>
                  <a:pt x="13172" y="7717"/>
                  <a:pt x="13244" y="7728"/>
                  <a:pt x="13295" y="7714"/>
                </a:cubicBezTo>
                <a:cubicBezTo>
                  <a:pt x="13376" y="7691"/>
                  <a:pt x="13386" y="7636"/>
                  <a:pt x="13395" y="7565"/>
                </a:cubicBezTo>
                <a:cubicBezTo>
                  <a:pt x="13347" y="7519"/>
                  <a:pt x="13338" y="7477"/>
                  <a:pt x="13271" y="7516"/>
                </a:cubicBezTo>
                <a:cubicBezTo>
                  <a:pt x="13230" y="7540"/>
                  <a:pt x="13188" y="7598"/>
                  <a:pt x="13171" y="7640"/>
                </a:cubicBezTo>
                <a:cubicBezTo>
                  <a:pt x="13139" y="7717"/>
                  <a:pt x="13135" y="7771"/>
                  <a:pt x="13171" y="7838"/>
                </a:cubicBezTo>
                <a:cubicBezTo>
                  <a:pt x="13179" y="7855"/>
                  <a:pt x="13188" y="7871"/>
                  <a:pt x="13196" y="7888"/>
                </a:cubicBezTo>
                <a:cubicBezTo>
                  <a:pt x="13288" y="7879"/>
                  <a:pt x="13283" y="7874"/>
                  <a:pt x="13345" y="7813"/>
                </a:cubicBezTo>
                <a:cubicBezTo>
                  <a:pt x="13406" y="7754"/>
                  <a:pt x="13395" y="7695"/>
                  <a:pt x="13395" y="7615"/>
                </a:cubicBezTo>
                <a:cubicBezTo>
                  <a:pt x="13395" y="7536"/>
                  <a:pt x="13360" y="7510"/>
                  <a:pt x="13295" y="7491"/>
                </a:cubicBezTo>
                <a:cubicBezTo>
                  <a:pt x="13264" y="7547"/>
                  <a:pt x="13229" y="7601"/>
                  <a:pt x="13221" y="7665"/>
                </a:cubicBezTo>
                <a:cubicBezTo>
                  <a:pt x="13211" y="7739"/>
                  <a:pt x="13229" y="7762"/>
                  <a:pt x="13271" y="7813"/>
                </a:cubicBezTo>
                <a:cubicBezTo>
                  <a:pt x="13316" y="7808"/>
                  <a:pt x="13403" y="7798"/>
                  <a:pt x="13419" y="7739"/>
                </a:cubicBezTo>
                <a:cubicBezTo>
                  <a:pt x="13438" y="7669"/>
                  <a:pt x="13431" y="7651"/>
                  <a:pt x="13419" y="7590"/>
                </a:cubicBezTo>
                <a:cubicBezTo>
                  <a:pt x="13410" y="7546"/>
                  <a:pt x="13406" y="7458"/>
                  <a:pt x="13345" y="7441"/>
                </a:cubicBezTo>
                <a:cubicBezTo>
                  <a:pt x="13298" y="7428"/>
                  <a:pt x="13201" y="7481"/>
                  <a:pt x="13171" y="7516"/>
                </a:cubicBezTo>
                <a:cubicBezTo>
                  <a:pt x="13127" y="7567"/>
                  <a:pt x="13102" y="7615"/>
                  <a:pt x="13122" y="7665"/>
                </a:cubicBezTo>
                <a:cubicBezTo>
                  <a:pt x="13209" y="7708"/>
                  <a:pt x="13276" y="7671"/>
                  <a:pt x="13370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Ink 10"/>
          <p:cNvSpPr/>
          <p:nvPr/>
        </p:nvSpPr>
        <p:spPr>
          <a:xfrm>
            <a:off x="5205240" y="2741760"/>
            <a:ext cx="460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14585" y="7615"/>
                </a:moveTo>
                <a:cubicBezTo>
                  <a:pt x="14544" y="7681"/>
                  <a:pt x="14502" y="7747"/>
                  <a:pt x="14461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Ink 11"/>
          <p:cNvSpPr/>
          <p:nvPr/>
        </p:nvSpPr>
        <p:spPr>
          <a:xfrm>
            <a:off x="5367240" y="2741760"/>
            <a:ext cx="17640" cy="80640"/>
          </a:xfrm>
          <a:custGeom>
            <a:avLst/>
            <a:gdLst/>
            <a:ahLst/>
            <a:rect l="l" t="t" r="r" b="b"/>
            <a:pathLst>
              <a:path w="50" h="224">
                <a:moveTo>
                  <a:pt x="14957" y="7615"/>
                </a:moveTo>
                <a:cubicBezTo>
                  <a:pt x="14914" y="7736"/>
                  <a:pt x="14932" y="7724"/>
                  <a:pt x="14932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Ink 12"/>
          <p:cNvSpPr/>
          <p:nvPr/>
        </p:nvSpPr>
        <p:spPr>
          <a:xfrm>
            <a:off x="5607000" y="2724120"/>
            <a:ext cx="54000" cy="115920"/>
          </a:xfrm>
          <a:custGeom>
            <a:avLst/>
            <a:gdLst/>
            <a:ahLst/>
            <a:rect l="l" t="t" r="r" b="b"/>
            <a:pathLst>
              <a:path w="150" h="324">
                <a:moveTo>
                  <a:pt x="15726" y="7565"/>
                </a:moveTo>
                <a:cubicBezTo>
                  <a:pt x="15700" y="7608"/>
                  <a:pt x="15515" y="7830"/>
                  <a:pt x="15602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Ink 13"/>
          <p:cNvSpPr/>
          <p:nvPr/>
        </p:nvSpPr>
        <p:spPr>
          <a:xfrm>
            <a:off x="5796000" y="2705040"/>
            <a:ext cx="172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16148" y="7516"/>
                </a:moveTo>
                <a:cubicBezTo>
                  <a:pt x="16115" y="7604"/>
                  <a:pt x="16075" y="7691"/>
                  <a:pt x="16098" y="7789"/>
                </a:cubicBezTo>
                <a:cubicBezTo>
                  <a:pt x="16111" y="7846"/>
                  <a:pt x="16141" y="7878"/>
                  <a:pt x="1614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Ink 14"/>
          <p:cNvSpPr/>
          <p:nvPr/>
        </p:nvSpPr>
        <p:spPr>
          <a:xfrm>
            <a:off x="5991120" y="2732040"/>
            <a:ext cx="36720" cy="169920"/>
          </a:xfrm>
          <a:custGeom>
            <a:avLst/>
            <a:gdLst/>
            <a:ahLst/>
            <a:rect l="l" t="t" r="r" b="b"/>
            <a:pathLst>
              <a:path w="100" h="473">
                <a:moveTo>
                  <a:pt x="16743" y="7590"/>
                </a:moveTo>
                <a:cubicBezTo>
                  <a:pt x="16688" y="7723"/>
                  <a:pt x="16608" y="7861"/>
                  <a:pt x="16644" y="8012"/>
                </a:cubicBezTo>
                <a:cubicBezTo>
                  <a:pt x="16652" y="8029"/>
                  <a:pt x="16661" y="8045"/>
                  <a:pt x="16669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Ink 15"/>
          <p:cNvSpPr/>
          <p:nvPr/>
        </p:nvSpPr>
        <p:spPr>
          <a:xfrm>
            <a:off x="6323040" y="2633760"/>
            <a:ext cx="27000" cy="215640"/>
          </a:xfrm>
          <a:custGeom>
            <a:avLst/>
            <a:gdLst/>
            <a:ahLst/>
            <a:rect l="l" t="t" r="r" b="b"/>
            <a:pathLst>
              <a:path w="75" h="597">
                <a:moveTo>
                  <a:pt x="17636" y="7317"/>
                </a:moveTo>
                <a:cubicBezTo>
                  <a:pt x="17565" y="7377"/>
                  <a:pt x="17566" y="7436"/>
                  <a:pt x="17562" y="7541"/>
                </a:cubicBezTo>
                <a:cubicBezTo>
                  <a:pt x="17557" y="7676"/>
                  <a:pt x="17573" y="7785"/>
                  <a:pt x="17611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Ink 16"/>
          <p:cNvSpPr/>
          <p:nvPr/>
        </p:nvSpPr>
        <p:spPr>
          <a:xfrm>
            <a:off x="6500880" y="2670120"/>
            <a:ext cx="27000" cy="179280"/>
          </a:xfrm>
          <a:custGeom>
            <a:avLst/>
            <a:gdLst/>
            <a:ahLst/>
            <a:rect l="l" t="t" r="r" b="b"/>
            <a:pathLst>
              <a:path w="75" h="497">
                <a:moveTo>
                  <a:pt x="18132" y="7417"/>
                </a:moveTo>
                <a:cubicBezTo>
                  <a:pt x="18097" y="7522"/>
                  <a:pt x="18068" y="7631"/>
                  <a:pt x="18058" y="7739"/>
                </a:cubicBezTo>
                <a:cubicBezTo>
                  <a:pt x="18050" y="7822"/>
                  <a:pt x="18069" y="7844"/>
                  <a:pt x="18083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Ink 17"/>
          <p:cNvSpPr/>
          <p:nvPr/>
        </p:nvSpPr>
        <p:spPr>
          <a:xfrm>
            <a:off x="6670800" y="2687760"/>
            <a:ext cx="17280" cy="161640"/>
          </a:xfrm>
          <a:custGeom>
            <a:avLst/>
            <a:gdLst/>
            <a:ahLst/>
            <a:rect l="l" t="t" r="r" b="b"/>
            <a:pathLst>
              <a:path w="51" h="448">
                <a:moveTo>
                  <a:pt x="18579" y="7466"/>
                </a:moveTo>
                <a:cubicBezTo>
                  <a:pt x="18554" y="7604"/>
                  <a:pt x="18489" y="7783"/>
                  <a:pt x="18554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Ink 18"/>
          <p:cNvSpPr/>
          <p:nvPr/>
        </p:nvSpPr>
        <p:spPr>
          <a:xfrm>
            <a:off x="6804000" y="271476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8926" y="7541"/>
                </a:moveTo>
                <a:cubicBezTo>
                  <a:pt x="18905" y="7765"/>
                  <a:pt x="18888" y="7808"/>
                  <a:pt x="18926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Ink 19"/>
          <p:cNvSpPr/>
          <p:nvPr/>
        </p:nvSpPr>
        <p:spPr>
          <a:xfrm>
            <a:off x="6991200" y="2714760"/>
            <a:ext cx="46080" cy="13464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19472" y="7541"/>
                </a:moveTo>
                <a:cubicBezTo>
                  <a:pt x="19468" y="7559"/>
                  <a:pt x="19360" y="7872"/>
                  <a:pt x="19447" y="7913"/>
                </a:cubicBezTo>
                <a:cubicBezTo>
                  <a:pt x="19498" y="7913"/>
                  <a:pt x="19517" y="7912"/>
                  <a:pt x="19546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Ink 20"/>
          <p:cNvSpPr/>
          <p:nvPr/>
        </p:nvSpPr>
        <p:spPr>
          <a:xfrm>
            <a:off x="7232760" y="2678040"/>
            <a:ext cx="54000" cy="152640"/>
          </a:xfrm>
          <a:custGeom>
            <a:avLst/>
            <a:gdLst/>
            <a:ahLst/>
            <a:rect l="l" t="t" r="r" b="b"/>
            <a:pathLst>
              <a:path w="150" h="423">
                <a:moveTo>
                  <a:pt x="20141" y="7441"/>
                </a:moveTo>
                <a:cubicBezTo>
                  <a:pt x="20126" y="7558"/>
                  <a:pt x="20073" y="7728"/>
                  <a:pt x="20117" y="7838"/>
                </a:cubicBezTo>
                <a:cubicBezTo>
                  <a:pt x="20134" y="7881"/>
                  <a:pt x="20211" y="7825"/>
                  <a:pt x="20241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Ink 21"/>
          <p:cNvSpPr/>
          <p:nvPr/>
        </p:nvSpPr>
        <p:spPr>
          <a:xfrm>
            <a:off x="7473960" y="2652840"/>
            <a:ext cx="214200" cy="204840"/>
          </a:xfrm>
          <a:custGeom>
            <a:avLst/>
            <a:gdLst/>
            <a:ahLst/>
            <a:rect l="l" t="t" r="r" b="b"/>
            <a:pathLst>
              <a:path w="596" h="572">
                <a:moveTo>
                  <a:pt x="21059" y="7367"/>
                </a:moveTo>
                <a:cubicBezTo>
                  <a:pt x="21073" y="7552"/>
                  <a:pt x="21050" y="7734"/>
                  <a:pt x="21158" y="7888"/>
                </a:cubicBezTo>
                <a:cubicBezTo>
                  <a:pt x="21181" y="7911"/>
                  <a:pt x="21189" y="7915"/>
                  <a:pt x="21183" y="7938"/>
                </a:cubicBezTo>
              </a:path>
              <a:path w="596" h="572">
                <a:moveTo>
                  <a:pt x="21084" y="7739"/>
                </a:moveTo>
                <a:cubicBezTo>
                  <a:pt x="21148" y="7707"/>
                  <a:pt x="21217" y="7678"/>
                  <a:pt x="21258" y="7615"/>
                </a:cubicBezTo>
                <a:cubicBezTo>
                  <a:pt x="21299" y="7553"/>
                  <a:pt x="21321" y="7525"/>
                  <a:pt x="21357" y="7466"/>
                </a:cubicBezTo>
                <a:cubicBezTo>
                  <a:pt x="21288" y="7409"/>
                  <a:pt x="21221" y="7454"/>
                  <a:pt x="21134" y="7516"/>
                </a:cubicBezTo>
                <a:cubicBezTo>
                  <a:pt x="21078" y="7556"/>
                  <a:pt x="20999" y="7641"/>
                  <a:pt x="20960" y="7689"/>
                </a:cubicBezTo>
                <a:cubicBezTo>
                  <a:pt x="20936" y="7737"/>
                  <a:pt x="20928" y="7752"/>
                  <a:pt x="20935" y="7789"/>
                </a:cubicBezTo>
                <a:cubicBezTo>
                  <a:pt x="21016" y="7836"/>
                  <a:pt x="21057" y="7790"/>
                  <a:pt x="21134" y="7739"/>
                </a:cubicBezTo>
                <a:cubicBezTo>
                  <a:pt x="21189" y="7703"/>
                  <a:pt x="21265" y="7637"/>
                  <a:pt x="21282" y="7565"/>
                </a:cubicBezTo>
                <a:cubicBezTo>
                  <a:pt x="21282" y="7514"/>
                  <a:pt x="21281" y="7496"/>
                  <a:pt x="21258" y="7466"/>
                </a:cubicBezTo>
                <a:cubicBezTo>
                  <a:pt x="21191" y="7476"/>
                  <a:pt x="21130" y="7505"/>
                  <a:pt x="21084" y="7565"/>
                </a:cubicBezTo>
                <a:cubicBezTo>
                  <a:pt x="21049" y="7611"/>
                  <a:pt x="20934" y="7731"/>
                  <a:pt x="21010" y="7789"/>
                </a:cubicBezTo>
                <a:cubicBezTo>
                  <a:pt x="21026" y="7789"/>
                  <a:pt x="21043" y="7789"/>
                  <a:pt x="21059" y="7789"/>
                </a:cubicBezTo>
                <a:cubicBezTo>
                  <a:pt x="21115" y="7781"/>
                  <a:pt x="21149" y="7767"/>
                  <a:pt x="21183" y="7714"/>
                </a:cubicBezTo>
                <a:cubicBezTo>
                  <a:pt x="21219" y="7658"/>
                  <a:pt x="21208" y="7604"/>
                  <a:pt x="21208" y="7541"/>
                </a:cubicBezTo>
                <a:cubicBezTo>
                  <a:pt x="21120" y="7467"/>
                  <a:pt x="21110" y="7534"/>
                  <a:pt x="21034" y="7615"/>
                </a:cubicBezTo>
                <a:cubicBezTo>
                  <a:pt x="20989" y="7663"/>
                  <a:pt x="20861" y="7752"/>
                  <a:pt x="20910" y="7838"/>
                </a:cubicBezTo>
                <a:cubicBezTo>
                  <a:pt x="20941" y="7893"/>
                  <a:pt x="21094" y="7857"/>
                  <a:pt x="21134" y="7838"/>
                </a:cubicBezTo>
                <a:cubicBezTo>
                  <a:pt x="21200" y="7807"/>
                  <a:pt x="21272" y="7748"/>
                  <a:pt x="21307" y="7689"/>
                </a:cubicBezTo>
                <a:cubicBezTo>
                  <a:pt x="21343" y="7629"/>
                  <a:pt x="21355" y="7572"/>
                  <a:pt x="21332" y="7516"/>
                </a:cubicBezTo>
                <a:cubicBezTo>
                  <a:pt x="21324" y="7499"/>
                  <a:pt x="21315" y="7483"/>
                  <a:pt x="21307" y="7466"/>
                </a:cubicBezTo>
                <a:cubicBezTo>
                  <a:pt x="21205" y="7531"/>
                  <a:pt x="21162" y="7575"/>
                  <a:pt x="21084" y="7665"/>
                </a:cubicBezTo>
                <a:cubicBezTo>
                  <a:pt x="21030" y="7727"/>
                  <a:pt x="20981" y="7767"/>
                  <a:pt x="21010" y="7838"/>
                </a:cubicBezTo>
                <a:cubicBezTo>
                  <a:pt x="21059" y="7824"/>
                  <a:pt x="21122" y="7791"/>
                  <a:pt x="21158" y="7739"/>
                </a:cubicBezTo>
                <a:cubicBezTo>
                  <a:pt x="21193" y="7690"/>
                  <a:pt x="21205" y="7599"/>
                  <a:pt x="21208" y="7541"/>
                </a:cubicBezTo>
                <a:cubicBezTo>
                  <a:pt x="21208" y="7496"/>
                  <a:pt x="21211" y="7483"/>
                  <a:pt x="21183" y="7466"/>
                </a:cubicBezTo>
                <a:cubicBezTo>
                  <a:pt x="21062" y="7510"/>
                  <a:pt x="20948" y="7607"/>
                  <a:pt x="20861" y="7714"/>
                </a:cubicBezTo>
                <a:cubicBezTo>
                  <a:pt x="20810" y="7777"/>
                  <a:pt x="20779" y="7818"/>
                  <a:pt x="20762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Ink 22"/>
          <p:cNvSpPr/>
          <p:nvPr/>
        </p:nvSpPr>
        <p:spPr>
          <a:xfrm>
            <a:off x="4241880" y="1643040"/>
            <a:ext cx="419040" cy="295200"/>
          </a:xfrm>
          <a:custGeom>
            <a:avLst/>
            <a:gdLst/>
            <a:ahLst/>
            <a:rect l="l" t="t" r="r" b="b"/>
            <a:pathLst>
              <a:path w="1167" h="820">
                <a:moveTo>
                  <a:pt x="11807" y="5383"/>
                </a:moveTo>
                <a:cubicBezTo>
                  <a:pt x="11791" y="5250"/>
                  <a:pt x="11789" y="5222"/>
                  <a:pt x="11857" y="5110"/>
                </a:cubicBezTo>
                <a:cubicBezTo>
                  <a:pt x="11914" y="5015"/>
                  <a:pt x="11983" y="4921"/>
                  <a:pt x="12055" y="4837"/>
                </a:cubicBezTo>
                <a:cubicBezTo>
                  <a:pt x="12131" y="4749"/>
                  <a:pt x="12225" y="4643"/>
                  <a:pt x="12328" y="4589"/>
                </a:cubicBezTo>
                <a:cubicBezTo>
                  <a:pt x="12405" y="4548"/>
                  <a:pt x="12447" y="4583"/>
                  <a:pt x="12502" y="4638"/>
                </a:cubicBezTo>
                <a:cubicBezTo>
                  <a:pt x="12566" y="4703"/>
                  <a:pt x="12625" y="4787"/>
                  <a:pt x="12675" y="4862"/>
                </a:cubicBezTo>
                <a:cubicBezTo>
                  <a:pt x="12725" y="4937"/>
                  <a:pt x="12784" y="4995"/>
                  <a:pt x="12849" y="5060"/>
                </a:cubicBezTo>
                <a:cubicBezTo>
                  <a:pt x="12898" y="5110"/>
                  <a:pt x="12914" y="5127"/>
                  <a:pt x="12948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Ink 23"/>
          <p:cNvSpPr/>
          <p:nvPr/>
        </p:nvSpPr>
        <p:spPr>
          <a:xfrm>
            <a:off x="1027080" y="6465960"/>
            <a:ext cx="44640" cy="52200"/>
          </a:xfrm>
          <a:custGeom>
            <a:avLst/>
            <a:gdLst/>
            <a:ahLst/>
            <a:rect l="l" t="t" r="r" b="b"/>
            <a:pathLst>
              <a:path w="125" h="149">
                <a:moveTo>
                  <a:pt x="2977" y="18083"/>
                </a:moveTo>
                <a:lnTo>
                  <a:pt x="2977" y="18083"/>
                </a:lnTo>
              </a:path>
              <a:path w="125" h="149">
                <a:moveTo>
                  <a:pt x="2977" y="18083"/>
                </a:moveTo>
                <a:cubicBezTo>
                  <a:pt x="2969" y="18091"/>
                  <a:pt x="2960" y="18099"/>
                  <a:pt x="2952" y="18107"/>
                </a:cubicBezTo>
              </a:path>
              <a:path w="125" h="149">
                <a:moveTo>
                  <a:pt x="2952" y="18107"/>
                </a:moveTo>
                <a:cubicBezTo>
                  <a:pt x="2952" y="18091"/>
                  <a:pt x="2952" y="18074"/>
                  <a:pt x="2952" y="18058"/>
                </a:cubicBezTo>
              </a:path>
              <a:path w="125" h="149">
                <a:moveTo>
                  <a:pt x="2952" y="18058"/>
                </a:moveTo>
                <a:cubicBezTo>
                  <a:pt x="2944" y="18050"/>
                  <a:pt x="2935" y="18041"/>
                  <a:pt x="2927" y="18033"/>
                </a:cubicBezTo>
              </a:path>
              <a:path w="125" h="149">
                <a:moveTo>
                  <a:pt x="2927" y="18033"/>
                </a:moveTo>
                <a:lnTo>
                  <a:pt x="2927" y="18033"/>
                </a:lnTo>
              </a:path>
              <a:path w="125" h="149">
                <a:moveTo>
                  <a:pt x="2927" y="18033"/>
                </a:moveTo>
                <a:lnTo>
                  <a:pt x="2927" y="18033"/>
                </a:lnTo>
              </a:path>
              <a:path w="125" h="149">
                <a:moveTo>
                  <a:pt x="2952" y="18008"/>
                </a:moveTo>
                <a:cubicBezTo>
                  <a:pt x="2960" y="18016"/>
                  <a:pt x="2969" y="18025"/>
                  <a:pt x="2977" y="18033"/>
                </a:cubicBezTo>
              </a:path>
              <a:path w="125" h="149">
                <a:moveTo>
                  <a:pt x="2977" y="17959"/>
                </a:moveTo>
                <a:lnTo>
                  <a:pt x="2977" y="17959"/>
                </a:lnTo>
              </a:path>
              <a:path w="125" h="149">
                <a:moveTo>
                  <a:pt x="2977" y="17959"/>
                </a:moveTo>
                <a:cubicBezTo>
                  <a:pt x="2960" y="17967"/>
                  <a:pt x="2944" y="17975"/>
                  <a:pt x="2927" y="17983"/>
                </a:cubicBezTo>
              </a:path>
              <a:path w="125" h="149">
                <a:moveTo>
                  <a:pt x="2927" y="17983"/>
                </a:moveTo>
                <a:cubicBezTo>
                  <a:pt x="2910" y="17983"/>
                  <a:pt x="2894" y="17983"/>
                  <a:pt x="2877" y="17983"/>
                </a:cubicBezTo>
              </a:path>
              <a:path w="125" h="149">
                <a:moveTo>
                  <a:pt x="2877" y="17983"/>
                </a:moveTo>
                <a:lnTo>
                  <a:pt x="2877" y="17983"/>
                </a:lnTo>
              </a:path>
              <a:path w="125" h="149">
                <a:moveTo>
                  <a:pt x="2877" y="17983"/>
                </a:moveTo>
                <a:cubicBezTo>
                  <a:pt x="2869" y="17983"/>
                  <a:pt x="2861" y="17983"/>
                  <a:pt x="2853" y="179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Ink 24"/>
          <p:cNvSpPr/>
          <p:nvPr/>
        </p:nvSpPr>
        <p:spPr>
          <a:xfrm>
            <a:off x="4081320" y="2714760"/>
            <a:ext cx="4205520" cy="142920"/>
          </a:xfrm>
          <a:custGeom>
            <a:avLst/>
            <a:gdLst/>
            <a:ahLst/>
            <a:rect l="l" t="t" r="r" b="b"/>
            <a:pathLst>
              <a:path w="11684" h="398">
                <a:moveTo>
                  <a:pt x="11336" y="7565"/>
                </a:moveTo>
                <a:cubicBezTo>
                  <a:pt x="11396" y="7567"/>
                  <a:pt x="11470" y="7560"/>
                  <a:pt x="11534" y="7565"/>
                </a:cubicBezTo>
                <a:cubicBezTo>
                  <a:pt x="11642" y="7573"/>
                  <a:pt x="11727" y="7599"/>
                  <a:pt x="11832" y="7615"/>
                </a:cubicBezTo>
                <a:cubicBezTo>
                  <a:pt x="12036" y="7645"/>
                  <a:pt x="12246" y="7670"/>
                  <a:pt x="12452" y="7689"/>
                </a:cubicBezTo>
                <a:cubicBezTo>
                  <a:pt x="12750" y="7716"/>
                  <a:pt x="13047" y="7694"/>
                  <a:pt x="13345" y="7714"/>
                </a:cubicBezTo>
                <a:cubicBezTo>
                  <a:pt x="13750" y="7741"/>
                  <a:pt x="14153" y="7739"/>
                  <a:pt x="14560" y="7739"/>
                </a:cubicBezTo>
                <a:cubicBezTo>
                  <a:pt x="16024" y="7739"/>
                  <a:pt x="17490" y="7758"/>
                  <a:pt x="18951" y="7739"/>
                </a:cubicBezTo>
                <a:cubicBezTo>
                  <a:pt x="19531" y="7731"/>
                  <a:pt x="20107" y="7714"/>
                  <a:pt x="20687" y="7714"/>
                </a:cubicBezTo>
                <a:cubicBezTo>
                  <a:pt x="21148" y="7714"/>
                  <a:pt x="21596" y="7778"/>
                  <a:pt x="22051" y="7838"/>
                </a:cubicBezTo>
                <a:cubicBezTo>
                  <a:pt x="22390" y="7883"/>
                  <a:pt x="22677" y="7929"/>
                  <a:pt x="23019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Ink 25"/>
          <p:cNvSpPr/>
          <p:nvPr/>
        </p:nvSpPr>
        <p:spPr>
          <a:xfrm>
            <a:off x="6180120" y="1751040"/>
            <a:ext cx="187200" cy="3348000"/>
          </a:xfrm>
          <a:custGeom>
            <a:avLst/>
            <a:gdLst/>
            <a:ahLst/>
            <a:rect l="l" t="t" r="r" b="b"/>
            <a:pathLst>
              <a:path w="522" h="9302">
                <a:moveTo>
                  <a:pt x="17363" y="4862"/>
                </a:moveTo>
                <a:cubicBezTo>
                  <a:pt x="17363" y="5219"/>
                  <a:pt x="17360" y="5573"/>
                  <a:pt x="17338" y="5928"/>
                </a:cubicBezTo>
                <a:cubicBezTo>
                  <a:pt x="17315" y="6301"/>
                  <a:pt x="17308" y="6673"/>
                  <a:pt x="17289" y="7045"/>
                </a:cubicBezTo>
                <a:cubicBezTo>
                  <a:pt x="17264" y="7525"/>
                  <a:pt x="17224" y="8003"/>
                  <a:pt x="17214" y="8483"/>
                </a:cubicBezTo>
                <a:cubicBezTo>
                  <a:pt x="17198" y="9244"/>
                  <a:pt x="17144" y="10003"/>
                  <a:pt x="17165" y="10765"/>
                </a:cubicBezTo>
                <a:cubicBezTo>
                  <a:pt x="17197" y="11967"/>
                  <a:pt x="17385" y="12995"/>
                  <a:pt x="17686" y="141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Ink 26"/>
          <p:cNvSpPr/>
          <p:nvPr/>
        </p:nvSpPr>
        <p:spPr>
          <a:xfrm>
            <a:off x="4527720" y="1731960"/>
            <a:ext cx="3643200" cy="2581200"/>
          </a:xfrm>
          <a:custGeom>
            <a:avLst/>
            <a:gdLst/>
            <a:ahLst/>
            <a:rect l="l" t="t" r="r" b="b"/>
            <a:pathLst>
              <a:path w="10121" h="7170">
                <a:moveTo>
                  <a:pt x="12576" y="4812"/>
                </a:moveTo>
                <a:cubicBezTo>
                  <a:pt x="12589" y="4899"/>
                  <a:pt x="12589" y="4980"/>
                  <a:pt x="12601" y="5060"/>
                </a:cubicBezTo>
                <a:cubicBezTo>
                  <a:pt x="12631" y="5255"/>
                  <a:pt x="12647" y="5459"/>
                  <a:pt x="12675" y="5655"/>
                </a:cubicBezTo>
                <a:cubicBezTo>
                  <a:pt x="12685" y="5724"/>
                  <a:pt x="12714" y="5787"/>
                  <a:pt x="12725" y="5854"/>
                </a:cubicBezTo>
                <a:cubicBezTo>
                  <a:pt x="12739" y="5941"/>
                  <a:pt x="12755" y="6015"/>
                  <a:pt x="12774" y="6102"/>
                </a:cubicBezTo>
                <a:cubicBezTo>
                  <a:pt x="12788" y="6166"/>
                  <a:pt x="12783" y="6236"/>
                  <a:pt x="12799" y="6300"/>
                </a:cubicBezTo>
                <a:cubicBezTo>
                  <a:pt x="12816" y="6369"/>
                  <a:pt x="12859" y="6430"/>
                  <a:pt x="12874" y="6499"/>
                </a:cubicBezTo>
                <a:cubicBezTo>
                  <a:pt x="12888" y="6564"/>
                  <a:pt x="12879" y="6633"/>
                  <a:pt x="12898" y="6697"/>
                </a:cubicBezTo>
                <a:cubicBezTo>
                  <a:pt x="12913" y="6749"/>
                  <a:pt x="12933" y="6813"/>
                  <a:pt x="12948" y="6871"/>
                </a:cubicBezTo>
                <a:cubicBezTo>
                  <a:pt x="12976" y="6979"/>
                  <a:pt x="13018" y="7087"/>
                  <a:pt x="13047" y="7193"/>
                </a:cubicBezTo>
                <a:cubicBezTo>
                  <a:pt x="13064" y="7254"/>
                  <a:pt x="13077" y="7303"/>
                  <a:pt x="13097" y="7367"/>
                </a:cubicBezTo>
                <a:cubicBezTo>
                  <a:pt x="13136" y="7492"/>
                  <a:pt x="13178" y="7626"/>
                  <a:pt x="13221" y="7739"/>
                </a:cubicBezTo>
                <a:cubicBezTo>
                  <a:pt x="13251" y="7818"/>
                  <a:pt x="13293" y="7880"/>
                  <a:pt x="13320" y="7962"/>
                </a:cubicBezTo>
                <a:cubicBezTo>
                  <a:pt x="13348" y="8046"/>
                  <a:pt x="13367" y="8124"/>
                  <a:pt x="13395" y="8210"/>
                </a:cubicBezTo>
                <a:cubicBezTo>
                  <a:pt x="13419" y="8284"/>
                  <a:pt x="13444" y="8358"/>
                  <a:pt x="13469" y="8434"/>
                </a:cubicBezTo>
                <a:cubicBezTo>
                  <a:pt x="13649" y="8983"/>
                  <a:pt x="13831" y="9505"/>
                  <a:pt x="14089" y="10021"/>
                </a:cubicBezTo>
                <a:cubicBezTo>
                  <a:pt x="14220" y="10283"/>
                  <a:pt x="14353" y="10534"/>
                  <a:pt x="14536" y="10765"/>
                </a:cubicBezTo>
                <a:cubicBezTo>
                  <a:pt x="14676" y="10942"/>
                  <a:pt x="14842" y="11085"/>
                  <a:pt x="15007" y="11237"/>
                </a:cubicBezTo>
                <a:cubicBezTo>
                  <a:pt x="15198" y="11413"/>
                  <a:pt x="15390" y="11585"/>
                  <a:pt x="15627" y="11708"/>
                </a:cubicBezTo>
                <a:cubicBezTo>
                  <a:pt x="15752" y="11773"/>
                  <a:pt x="15890" y="11815"/>
                  <a:pt x="16024" y="11857"/>
                </a:cubicBezTo>
                <a:cubicBezTo>
                  <a:pt x="16173" y="11904"/>
                  <a:pt x="16346" y="11964"/>
                  <a:pt x="16495" y="11981"/>
                </a:cubicBezTo>
                <a:cubicBezTo>
                  <a:pt x="16698" y="12004"/>
                  <a:pt x="16879" y="11961"/>
                  <a:pt x="17066" y="11931"/>
                </a:cubicBezTo>
                <a:cubicBezTo>
                  <a:pt x="17269" y="11898"/>
                  <a:pt x="17489" y="11857"/>
                  <a:pt x="17686" y="11782"/>
                </a:cubicBezTo>
                <a:cubicBezTo>
                  <a:pt x="17853" y="11718"/>
                  <a:pt x="18030" y="11627"/>
                  <a:pt x="18182" y="11534"/>
                </a:cubicBezTo>
                <a:cubicBezTo>
                  <a:pt x="18413" y="11393"/>
                  <a:pt x="18617" y="11230"/>
                  <a:pt x="18827" y="11063"/>
                </a:cubicBezTo>
                <a:cubicBezTo>
                  <a:pt x="18929" y="10982"/>
                  <a:pt x="19029" y="10904"/>
                  <a:pt x="19124" y="10815"/>
                </a:cubicBezTo>
                <a:cubicBezTo>
                  <a:pt x="19216" y="10729"/>
                  <a:pt x="19311" y="10640"/>
                  <a:pt x="19397" y="10542"/>
                </a:cubicBezTo>
                <a:cubicBezTo>
                  <a:pt x="19501" y="10422"/>
                  <a:pt x="19626" y="10277"/>
                  <a:pt x="19720" y="10145"/>
                </a:cubicBezTo>
                <a:cubicBezTo>
                  <a:pt x="19814" y="10014"/>
                  <a:pt x="19890" y="9864"/>
                  <a:pt x="19968" y="9723"/>
                </a:cubicBezTo>
                <a:cubicBezTo>
                  <a:pt x="20046" y="9583"/>
                  <a:pt x="20110" y="9421"/>
                  <a:pt x="20191" y="9277"/>
                </a:cubicBezTo>
                <a:cubicBezTo>
                  <a:pt x="20271" y="9135"/>
                  <a:pt x="20345" y="8999"/>
                  <a:pt x="20414" y="8855"/>
                </a:cubicBezTo>
                <a:cubicBezTo>
                  <a:pt x="20473" y="8732"/>
                  <a:pt x="20534" y="8609"/>
                  <a:pt x="20588" y="8483"/>
                </a:cubicBezTo>
                <a:cubicBezTo>
                  <a:pt x="20635" y="8372"/>
                  <a:pt x="20684" y="8267"/>
                  <a:pt x="20737" y="8161"/>
                </a:cubicBezTo>
                <a:cubicBezTo>
                  <a:pt x="20903" y="7830"/>
                  <a:pt x="21084" y="7502"/>
                  <a:pt x="21233" y="7169"/>
                </a:cubicBezTo>
                <a:cubicBezTo>
                  <a:pt x="21302" y="7014"/>
                  <a:pt x="21380" y="6870"/>
                  <a:pt x="21456" y="6722"/>
                </a:cubicBezTo>
                <a:cubicBezTo>
                  <a:pt x="21561" y="6517"/>
                  <a:pt x="21652" y="6309"/>
                  <a:pt x="21754" y="6102"/>
                </a:cubicBezTo>
                <a:cubicBezTo>
                  <a:pt x="21894" y="5818"/>
                  <a:pt x="22047" y="5549"/>
                  <a:pt x="22175" y="5259"/>
                </a:cubicBezTo>
                <a:cubicBezTo>
                  <a:pt x="22208" y="5185"/>
                  <a:pt x="22243" y="5110"/>
                  <a:pt x="22275" y="5035"/>
                </a:cubicBezTo>
                <a:cubicBezTo>
                  <a:pt x="22269" y="5039"/>
                  <a:pt x="22188" y="5078"/>
                  <a:pt x="22151" y="5110"/>
                </a:cubicBezTo>
                <a:cubicBezTo>
                  <a:pt x="22078" y="5173"/>
                  <a:pt x="21999" y="5246"/>
                  <a:pt x="21927" y="5308"/>
                </a:cubicBezTo>
                <a:cubicBezTo>
                  <a:pt x="21846" y="5377"/>
                  <a:pt x="21764" y="5501"/>
                  <a:pt x="21679" y="5556"/>
                </a:cubicBezTo>
                <a:cubicBezTo>
                  <a:pt x="21596" y="5609"/>
                  <a:pt x="21503" y="5616"/>
                  <a:pt x="21431" y="5655"/>
                </a:cubicBezTo>
                <a:cubicBezTo>
                  <a:pt x="21514" y="5497"/>
                  <a:pt x="21540" y="5351"/>
                  <a:pt x="21679" y="5209"/>
                </a:cubicBezTo>
                <a:cubicBezTo>
                  <a:pt x="21769" y="5116"/>
                  <a:pt x="21869" y="5012"/>
                  <a:pt x="22002" y="4986"/>
                </a:cubicBezTo>
                <a:cubicBezTo>
                  <a:pt x="22177" y="4951"/>
                  <a:pt x="22401" y="5032"/>
                  <a:pt x="22523" y="5159"/>
                </a:cubicBezTo>
                <a:cubicBezTo>
                  <a:pt x="22605" y="5245"/>
                  <a:pt x="22622" y="5329"/>
                  <a:pt x="22671" y="5432"/>
                </a:cubicBezTo>
                <a:cubicBezTo>
                  <a:pt x="22695" y="5505"/>
                  <a:pt x="22704" y="5529"/>
                  <a:pt x="22696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10x +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Ink 2"/>
          <p:cNvSpPr/>
          <p:nvPr/>
        </p:nvSpPr>
        <p:spPr>
          <a:xfrm>
            <a:off x="1919160" y="1527120"/>
            <a:ext cx="492120" cy="598680"/>
          </a:xfrm>
          <a:custGeom>
            <a:avLst/>
            <a:gdLst/>
            <a:ahLst/>
            <a:rect l="l" t="t" r="r" b="b"/>
            <a:pathLst>
              <a:path w="1365" h="1663">
                <a:moveTo>
                  <a:pt x="5507" y="5904"/>
                </a:moveTo>
                <a:cubicBezTo>
                  <a:pt x="5583" y="5896"/>
                  <a:pt x="5626" y="5879"/>
                  <a:pt x="5705" y="5879"/>
                </a:cubicBezTo>
                <a:cubicBezTo>
                  <a:pt x="5771" y="5879"/>
                  <a:pt x="5788" y="5879"/>
                  <a:pt x="5829" y="5879"/>
                </a:cubicBezTo>
              </a:path>
              <a:path w="1365" h="1663">
                <a:moveTo>
                  <a:pt x="6449" y="5779"/>
                </a:moveTo>
                <a:cubicBezTo>
                  <a:pt x="6469" y="5691"/>
                  <a:pt x="6475" y="5590"/>
                  <a:pt x="6499" y="5507"/>
                </a:cubicBezTo>
                <a:cubicBezTo>
                  <a:pt x="6525" y="5418"/>
                  <a:pt x="6528" y="5325"/>
                  <a:pt x="6548" y="5234"/>
                </a:cubicBezTo>
                <a:cubicBezTo>
                  <a:pt x="6572" y="5125"/>
                  <a:pt x="6588" y="5019"/>
                  <a:pt x="6623" y="4911"/>
                </a:cubicBezTo>
                <a:cubicBezTo>
                  <a:pt x="6657" y="4807"/>
                  <a:pt x="6648" y="4695"/>
                  <a:pt x="6672" y="4589"/>
                </a:cubicBezTo>
                <a:cubicBezTo>
                  <a:pt x="6697" y="4478"/>
                  <a:pt x="6688" y="4451"/>
                  <a:pt x="6672" y="4341"/>
                </a:cubicBezTo>
                <a:cubicBezTo>
                  <a:pt x="6663" y="4279"/>
                  <a:pt x="6652" y="4232"/>
                  <a:pt x="6573" y="4242"/>
                </a:cubicBezTo>
                <a:cubicBezTo>
                  <a:pt x="6489" y="4252"/>
                  <a:pt x="6427" y="4286"/>
                  <a:pt x="6350" y="4316"/>
                </a:cubicBezTo>
                <a:cubicBezTo>
                  <a:pt x="6197" y="4376"/>
                  <a:pt x="6036" y="4418"/>
                  <a:pt x="5879" y="4465"/>
                </a:cubicBezTo>
                <a:cubicBezTo>
                  <a:pt x="5792" y="4491"/>
                  <a:pt x="5697" y="4509"/>
                  <a:pt x="5606" y="4514"/>
                </a:cubicBezTo>
                <a:cubicBezTo>
                  <a:pt x="5525" y="4518"/>
                  <a:pt x="5450" y="4502"/>
                  <a:pt x="5383" y="4490"/>
                </a:cubicBezTo>
                <a:cubicBezTo>
                  <a:pt x="5375" y="4490"/>
                  <a:pt x="5366" y="4490"/>
                  <a:pt x="5358" y="4490"/>
                </a:cubicBezTo>
                <a:cubicBezTo>
                  <a:pt x="5383" y="4556"/>
                  <a:pt x="5399" y="4642"/>
                  <a:pt x="5407" y="4713"/>
                </a:cubicBezTo>
                <a:cubicBezTo>
                  <a:pt x="5416" y="4793"/>
                  <a:pt x="5397" y="4853"/>
                  <a:pt x="5407" y="4936"/>
                </a:cubicBezTo>
                <a:cubicBezTo>
                  <a:pt x="5418" y="5023"/>
                  <a:pt x="5383" y="5117"/>
                  <a:pt x="5383" y="5209"/>
                </a:cubicBezTo>
                <a:cubicBezTo>
                  <a:pt x="5383" y="5300"/>
                  <a:pt x="5403" y="5369"/>
                  <a:pt x="5407" y="5457"/>
                </a:cubicBezTo>
                <a:cubicBezTo>
                  <a:pt x="5411" y="5553"/>
                  <a:pt x="5413" y="5642"/>
                  <a:pt x="5383" y="5730"/>
                </a:cubicBezTo>
                <a:cubicBezTo>
                  <a:pt x="5369" y="5770"/>
                  <a:pt x="5348" y="5813"/>
                  <a:pt x="5333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Ink 3"/>
          <p:cNvSpPr/>
          <p:nvPr/>
        </p:nvSpPr>
        <p:spPr>
          <a:xfrm>
            <a:off x="1187280" y="2384280"/>
            <a:ext cx="2670480" cy="509760"/>
          </a:xfrm>
          <a:custGeom>
            <a:avLst/>
            <a:gdLst/>
            <a:ahLst/>
            <a:rect l="l" t="t" r="r" b="b"/>
            <a:pathLst>
              <a:path w="7418" h="1415">
                <a:moveTo>
                  <a:pt x="3299" y="6796"/>
                </a:moveTo>
                <a:cubicBezTo>
                  <a:pt x="3299" y="6880"/>
                  <a:pt x="3312" y="6919"/>
                  <a:pt x="3349" y="6995"/>
                </a:cubicBezTo>
                <a:cubicBezTo>
                  <a:pt x="3400" y="7099"/>
                  <a:pt x="3429" y="7211"/>
                  <a:pt x="3473" y="7317"/>
                </a:cubicBezTo>
                <a:cubicBezTo>
                  <a:pt x="3528" y="7451"/>
                  <a:pt x="3573" y="7588"/>
                  <a:pt x="3646" y="7714"/>
                </a:cubicBezTo>
                <a:cubicBezTo>
                  <a:pt x="3694" y="7796"/>
                  <a:pt x="3772" y="7902"/>
                  <a:pt x="3845" y="7962"/>
                </a:cubicBezTo>
                <a:cubicBezTo>
                  <a:pt x="3900" y="8007"/>
                  <a:pt x="3938" y="8013"/>
                  <a:pt x="3994" y="8037"/>
                </a:cubicBezTo>
              </a:path>
              <a:path w="7418" h="1415">
                <a:moveTo>
                  <a:pt x="3894" y="6921"/>
                </a:moveTo>
                <a:cubicBezTo>
                  <a:pt x="3824" y="7002"/>
                  <a:pt x="3778" y="7078"/>
                  <a:pt x="3721" y="7169"/>
                </a:cubicBezTo>
                <a:cubicBezTo>
                  <a:pt x="3601" y="7362"/>
                  <a:pt x="3515" y="7557"/>
                  <a:pt x="3423" y="7764"/>
                </a:cubicBezTo>
                <a:cubicBezTo>
                  <a:pt x="3397" y="7822"/>
                  <a:pt x="3381" y="7851"/>
                  <a:pt x="3373" y="7913"/>
                </a:cubicBezTo>
              </a:path>
              <a:path w="7418" h="1415">
                <a:moveTo>
                  <a:pt x="4118" y="6648"/>
                </a:moveTo>
                <a:cubicBezTo>
                  <a:pt x="4270" y="6635"/>
                  <a:pt x="4325" y="6581"/>
                  <a:pt x="4366" y="6722"/>
                </a:cubicBezTo>
                <a:cubicBezTo>
                  <a:pt x="4399" y="6834"/>
                  <a:pt x="4360" y="6903"/>
                  <a:pt x="4291" y="6995"/>
                </a:cubicBezTo>
                <a:cubicBezTo>
                  <a:pt x="4253" y="7045"/>
                  <a:pt x="4178" y="7081"/>
                  <a:pt x="4118" y="7069"/>
                </a:cubicBezTo>
                <a:cubicBezTo>
                  <a:pt x="4046" y="7055"/>
                  <a:pt x="4026" y="7003"/>
                  <a:pt x="4018" y="6945"/>
                </a:cubicBezTo>
                <a:cubicBezTo>
                  <a:pt x="4095" y="6954"/>
                  <a:pt x="4172" y="6963"/>
                  <a:pt x="4242" y="6995"/>
                </a:cubicBezTo>
                <a:cubicBezTo>
                  <a:pt x="4294" y="7019"/>
                  <a:pt x="4336" y="7025"/>
                  <a:pt x="4390" y="7045"/>
                </a:cubicBezTo>
              </a:path>
              <a:path w="7418" h="1415">
                <a:moveTo>
                  <a:pt x="4812" y="7020"/>
                </a:moveTo>
                <a:cubicBezTo>
                  <a:pt x="4831" y="7193"/>
                  <a:pt x="4830" y="7282"/>
                  <a:pt x="4812" y="7441"/>
                </a:cubicBezTo>
                <a:cubicBezTo>
                  <a:pt x="4802" y="7527"/>
                  <a:pt x="4833" y="7585"/>
                  <a:pt x="4837" y="7665"/>
                </a:cubicBezTo>
                <a:cubicBezTo>
                  <a:pt x="4837" y="7706"/>
                  <a:pt x="4837" y="7714"/>
                  <a:pt x="4837" y="7739"/>
                </a:cubicBezTo>
              </a:path>
              <a:path w="7418" h="1415">
                <a:moveTo>
                  <a:pt x="4514" y="7342"/>
                </a:moveTo>
                <a:cubicBezTo>
                  <a:pt x="4602" y="7350"/>
                  <a:pt x="4699" y="7351"/>
                  <a:pt x="4787" y="7367"/>
                </a:cubicBezTo>
                <a:cubicBezTo>
                  <a:pt x="4860" y="7391"/>
                  <a:pt x="4884" y="7400"/>
                  <a:pt x="4936" y="7392"/>
                </a:cubicBezTo>
              </a:path>
              <a:path w="7418" h="1415">
                <a:moveTo>
                  <a:pt x="5457" y="7119"/>
                </a:moveTo>
                <a:cubicBezTo>
                  <a:pt x="5457" y="7207"/>
                  <a:pt x="5438" y="7284"/>
                  <a:pt x="5432" y="7367"/>
                </a:cubicBezTo>
                <a:cubicBezTo>
                  <a:pt x="5421" y="7520"/>
                  <a:pt x="5437" y="7666"/>
                  <a:pt x="5457" y="7813"/>
                </a:cubicBezTo>
                <a:cubicBezTo>
                  <a:pt x="5464" y="7866"/>
                  <a:pt x="5450" y="7970"/>
                  <a:pt x="5482" y="8012"/>
                </a:cubicBezTo>
                <a:cubicBezTo>
                  <a:pt x="5490" y="8012"/>
                  <a:pt x="5499" y="8012"/>
                  <a:pt x="5507" y="8012"/>
                </a:cubicBezTo>
              </a:path>
              <a:path w="7418" h="1415">
                <a:moveTo>
                  <a:pt x="5705" y="7268"/>
                </a:moveTo>
                <a:cubicBezTo>
                  <a:pt x="5696" y="7362"/>
                  <a:pt x="5666" y="7447"/>
                  <a:pt x="5655" y="7541"/>
                </a:cubicBezTo>
                <a:cubicBezTo>
                  <a:pt x="5642" y="7654"/>
                  <a:pt x="5638" y="7778"/>
                  <a:pt x="5705" y="7863"/>
                </a:cubicBezTo>
                <a:cubicBezTo>
                  <a:pt x="5767" y="7941"/>
                  <a:pt x="5809" y="7958"/>
                  <a:pt x="5904" y="7962"/>
                </a:cubicBezTo>
                <a:cubicBezTo>
                  <a:pt x="5981" y="7966"/>
                  <a:pt x="6062" y="7961"/>
                  <a:pt x="6127" y="7913"/>
                </a:cubicBezTo>
                <a:cubicBezTo>
                  <a:pt x="6193" y="7864"/>
                  <a:pt x="6246" y="7791"/>
                  <a:pt x="6276" y="7714"/>
                </a:cubicBezTo>
                <a:cubicBezTo>
                  <a:pt x="6315" y="7613"/>
                  <a:pt x="6301" y="7513"/>
                  <a:pt x="6251" y="7417"/>
                </a:cubicBezTo>
                <a:cubicBezTo>
                  <a:pt x="6210" y="7339"/>
                  <a:pt x="6134" y="7254"/>
                  <a:pt x="6052" y="7218"/>
                </a:cubicBezTo>
                <a:cubicBezTo>
                  <a:pt x="5982" y="7187"/>
                  <a:pt x="5845" y="7166"/>
                  <a:pt x="5779" y="7218"/>
                </a:cubicBezTo>
                <a:cubicBezTo>
                  <a:pt x="5705" y="7276"/>
                  <a:pt x="5739" y="7367"/>
                  <a:pt x="5755" y="7441"/>
                </a:cubicBezTo>
              </a:path>
              <a:path w="7418" h="1415">
                <a:moveTo>
                  <a:pt x="6548" y="7367"/>
                </a:moveTo>
                <a:cubicBezTo>
                  <a:pt x="6613" y="7484"/>
                  <a:pt x="6673" y="7582"/>
                  <a:pt x="6747" y="7689"/>
                </a:cubicBezTo>
                <a:cubicBezTo>
                  <a:pt x="6801" y="7768"/>
                  <a:pt x="6865" y="7834"/>
                  <a:pt x="6945" y="7888"/>
                </a:cubicBezTo>
                <a:cubicBezTo>
                  <a:pt x="7009" y="7920"/>
                  <a:pt x="7040" y="7932"/>
                  <a:pt x="7094" y="7938"/>
                </a:cubicBezTo>
              </a:path>
              <a:path w="7418" h="1415">
                <a:moveTo>
                  <a:pt x="6921" y="7293"/>
                </a:moveTo>
                <a:cubicBezTo>
                  <a:pt x="6801" y="7428"/>
                  <a:pt x="6692" y="7540"/>
                  <a:pt x="6598" y="7689"/>
                </a:cubicBezTo>
                <a:cubicBezTo>
                  <a:pt x="6552" y="7763"/>
                  <a:pt x="6520" y="7844"/>
                  <a:pt x="6474" y="7913"/>
                </a:cubicBezTo>
              </a:path>
              <a:path w="7418" h="1415">
                <a:moveTo>
                  <a:pt x="7293" y="7193"/>
                </a:moveTo>
                <a:cubicBezTo>
                  <a:pt x="7318" y="7299"/>
                  <a:pt x="7311" y="7371"/>
                  <a:pt x="7317" y="7466"/>
                </a:cubicBezTo>
                <a:cubicBezTo>
                  <a:pt x="7323" y="7564"/>
                  <a:pt x="7332" y="7696"/>
                  <a:pt x="7367" y="7789"/>
                </a:cubicBezTo>
              </a:path>
              <a:path w="7418" h="1415">
                <a:moveTo>
                  <a:pt x="7144" y="7491"/>
                </a:moveTo>
                <a:cubicBezTo>
                  <a:pt x="7207" y="7427"/>
                  <a:pt x="7252" y="7441"/>
                  <a:pt x="7342" y="7441"/>
                </a:cubicBezTo>
                <a:cubicBezTo>
                  <a:pt x="7409" y="7441"/>
                  <a:pt x="7443" y="7437"/>
                  <a:pt x="7491" y="7417"/>
                </a:cubicBezTo>
              </a:path>
              <a:path w="7418" h="1415">
                <a:moveTo>
                  <a:pt x="7665" y="7144"/>
                </a:moveTo>
                <a:cubicBezTo>
                  <a:pt x="7718" y="7090"/>
                  <a:pt x="7739" y="7048"/>
                  <a:pt x="7813" y="7045"/>
                </a:cubicBezTo>
                <a:cubicBezTo>
                  <a:pt x="7901" y="7041"/>
                  <a:pt x="7978" y="7082"/>
                  <a:pt x="8012" y="7169"/>
                </a:cubicBezTo>
                <a:cubicBezTo>
                  <a:pt x="8050" y="7265"/>
                  <a:pt x="8044" y="7370"/>
                  <a:pt x="8037" y="7466"/>
                </a:cubicBezTo>
                <a:cubicBezTo>
                  <a:pt x="8028" y="7586"/>
                  <a:pt x="8000" y="7620"/>
                  <a:pt x="7938" y="7714"/>
                </a:cubicBezTo>
                <a:cubicBezTo>
                  <a:pt x="7905" y="7764"/>
                  <a:pt x="7885" y="7777"/>
                  <a:pt x="7838" y="7813"/>
                </a:cubicBezTo>
                <a:cubicBezTo>
                  <a:pt x="7780" y="7755"/>
                  <a:pt x="7772" y="7718"/>
                  <a:pt x="7813" y="7640"/>
                </a:cubicBezTo>
                <a:cubicBezTo>
                  <a:pt x="7837" y="7595"/>
                  <a:pt x="7852" y="7576"/>
                  <a:pt x="7888" y="7541"/>
                </a:cubicBezTo>
                <a:cubicBezTo>
                  <a:pt x="7954" y="7581"/>
                  <a:pt x="7997" y="7623"/>
                  <a:pt x="8037" y="7689"/>
                </a:cubicBezTo>
                <a:cubicBezTo>
                  <a:pt x="8075" y="7752"/>
                  <a:pt x="8121" y="7779"/>
                  <a:pt x="8186" y="7813"/>
                </a:cubicBezTo>
                <a:cubicBezTo>
                  <a:pt x="8246" y="7845"/>
                  <a:pt x="8246" y="7854"/>
                  <a:pt x="8310" y="7863"/>
                </a:cubicBezTo>
              </a:path>
              <a:path w="7418" h="1415">
                <a:moveTo>
                  <a:pt x="8508" y="7094"/>
                </a:moveTo>
                <a:cubicBezTo>
                  <a:pt x="8609" y="7061"/>
                  <a:pt x="8706" y="7037"/>
                  <a:pt x="8806" y="7020"/>
                </a:cubicBezTo>
                <a:cubicBezTo>
                  <a:pt x="8822" y="7020"/>
                  <a:pt x="8839" y="7020"/>
                  <a:pt x="8855" y="7020"/>
                </a:cubicBezTo>
              </a:path>
              <a:path w="7418" h="1415">
                <a:moveTo>
                  <a:pt x="8458" y="7020"/>
                </a:moveTo>
                <a:cubicBezTo>
                  <a:pt x="8419" y="7081"/>
                  <a:pt x="8338" y="7165"/>
                  <a:pt x="8359" y="7243"/>
                </a:cubicBezTo>
                <a:cubicBezTo>
                  <a:pt x="8384" y="7268"/>
                  <a:pt x="8392" y="7276"/>
                  <a:pt x="8409" y="7293"/>
                </a:cubicBezTo>
                <a:cubicBezTo>
                  <a:pt x="8454" y="7257"/>
                  <a:pt x="8523" y="7206"/>
                  <a:pt x="8582" y="7193"/>
                </a:cubicBezTo>
                <a:cubicBezTo>
                  <a:pt x="8669" y="7173"/>
                  <a:pt x="8720" y="7253"/>
                  <a:pt x="8756" y="7317"/>
                </a:cubicBezTo>
                <a:cubicBezTo>
                  <a:pt x="8800" y="7396"/>
                  <a:pt x="8827" y="7476"/>
                  <a:pt x="8830" y="7565"/>
                </a:cubicBezTo>
                <a:cubicBezTo>
                  <a:pt x="8834" y="7680"/>
                  <a:pt x="8810" y="7735"/>
                  <a:pt x="8731" y="7813"/>
                </a:cubicBezTo>
                <a:cubicBezTo>
                  <a:pt x="8688" y="7855"/>
                  <a:pt x="8580" y="7857"/>
                  <a:pt x="8533" y="7813"/>
                </a:cubicBezTo>
                <a:cubicBezTo>
                  <a:pt x="8469" y="7754"/>
                  <a:pt x="8468" y="7714"/>
                  <a:pt x="8483" y="7640"/>
                </a:cubicBezTo>
              </a:path>
              <a:path w="7418" h="1415">
                <a:moveTo>
                  <a:pt x="9054" y="7367"/>
                </a:moveTo>
                <a:cubicBezTo>
                  <a:pt x="9193" y="7383"/>
                  <a:pt x="9280" y="7413"/>
                  <a:pt x="9401" y="7367"/>
                </a:cubicBezTo>
              </a:path>
              <a:path w="7418" h="1415">
                <a:moveTo>
                  <a:pt x="9103" y="7541"/>
                </a:moveTo>
                <a:cubicBezTo>
                  <a:pt x="9160" y="7581"/>
                  <a:pt x="9266" y="7684"/>
                  <a:pt x="9351" y="7665"/>
                </a:cubicBezTo>
                <a:cubicBezTo>
                  <a:pt x="9368" y="7657"/>
                  <a:pt x="9384" y="7648"/>
                  <a:pt x="9401" y="7640"/>
                </a:cubicBezTo>
              </a:path>
              <a:path w="7418" h="1415">
                <a:moveTo>
                  <a:pt x="9897" y="7144"/>
                </a:moveTo>
                <a:cubicBezTo>
                  <a:pt x="9863" y="7237"/>
                  <a:pt x="9789" y="7345"/>
                  <a:pt x="9773" y="7441"/>
                </a:cubicBezTo>
                <a:cubicBezTo>
                  <a:pt x="9755" y="7549"/>
                  <a:pt x="9820" y="7694"/>
                  <a:pt x="9897" y="7764"/>
                </a:cubicBezTo>
                <a:cubicBezTo>
                  <a:pt x="9963" y="7824"/>
                  <a:pt x="10110" y="7916"/>
                  <a:pt x="10195" y="7938"/>
                </a:cubicBezTo>
                <a:cubicBezTo>
                  <a:pt x="10291" y="7963"/>
                  <a:pt x="10430" y="7933"/>
                  <a:pt x="10517" y="7888"/>
                </a:cubicBezTo>
                <a:cubicBezTo>
                  <a:pt x="10608" y="7841"/>
                  <a:pt x="10700" y="7718"/>
                  <a:pt x="10716" y="7615"/>
                </a:cubicBezTo>
                <a:cubicBezTo>
                  <a:pt x="10735" y="7496"/>
                  <a:pt x="10700" y="7380"/>
                  <a:pt x="10666" y="7268"/>
                </a:cubicBezTo>
                <a:cubicBezTo>
                  <a:pt x="10643" y="7193"/>
                  <a:pt x="10578" y="7088"/>
                  <a:pt x="10492" y="7069"/>
                </a:cubicBezTo>
                <a:cubicBezTo>
                  <a:pt x="10373" y="7043"/>
                  <a:pt x="10232" y="7085"/>
                  <a:pt x="10120" y="7119"/>
                </a:cubicBezTo>
                <a:cubicBezTo>
                  <a:pt x="10034" y="7145"/>
                  <a:pt x="9971" y="7193"/>
                  <a:pt x="9897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Ink 4"/>
          <p:cNvSpPr/>
          <p:nvPr/>
        </p:nvSpPr>
        <p:spPr>
          <a:xfrm>
            <a:off x="5106960" y="1509840"/>
            <a:ext cx="3305160" cy="3071520"/>
          </a:xfrm>
          <a:custGeom>
            <a:avLst/>
            <a:gdLst/>
            <a:ahLst/>
            <a:rect l="l" t="t" r="r" b="b"/>
            <a:pathLst>
              <a:path w="9179" h="8534">
                <a:moveTo>
                  <a:pt x="14188" y="7665"/>
                </a:moveTo>
                <a:cubicBezTo>
                  <a:pt x="14252" y="7655"/>
                  <a:pt x="14307" y="7614"/>
                  <a:pt x="14387" y="7615"/>
                </a:cubicBezTo>
                <a:cubicBezTo>
                  <a:pt x="14466" y="7616"/>
                  <a:pt x="14553" y="7632"/>
                  <a:pt x="14635" y="7640"/>
                </a:cubicBezTo>
                <a:cubicBezTo>
                  <a:pt x="14768" y="7653"/>
                  <a:pt x="14899" y="7676"/>
                  <a:pt x="15032" y="7689"/>
                </a:cubicBezTo>
                <a:cubicBezTo>
                  <a:pt x="15221" y="7708"/>
                  <a:pt x="15413" y="7718"/>
                  <a:pt x="15602" y="7739"/>
                </a:cubicBezTo>
                <a:cubicBezTo>
                  <a:pt x="15834" y="7765"/>
                  <a:pt x="16063" y="7786"/>
                  <a:pt x="16297" y="7789"/>
                </a:cubicBezTo>
                <a:cubicBezTo>
                  <a:pt x="16663" y="7794"/>
                  <a:pt x="17024" y="7768"/>
                  <a:pt x="17388" y="7764"/>
                </a:cubicBezTo>
                <a:cubicBezTo>
                  <a:pt x="17828" y="7759"/>
                  <a:pt x="18263" y="7743"/>
                  <a:pt x="18703" y="7714"/>
                </a:cubicBezTo>
                <a:cubicBezTo>
                  <a:pt x="19091" y="7688"/>
                  <a:pt x="19480" y="7668"/>
                  <a:pt x="19869" y="7665"/>
                </a:cubicBezTo>
                <a:cubicBezTo>
                  <a:pt x="20661" y="7658"/>
                  <a:pt x="21437" y="7688"/>
                  <a:pt x="22225" y="7764"/>
                </a:cubicBezTo>
                <a:cubicBezTo>
                  <a:pt x="22541" y="7794"/>
                  <a:pt x="22859" y="7842"/>
                  <a:pt x="23168" y="7913"/>
                </a:cubicBezTo>
                <a:cubicBezTo>
                  <a:pt x="23234" y="7929"/>
                  <a:pt x="23300" y="7946"/>
                  <a:pt x="23366" y="7962"/>
                </a:cubicBezTo>
              </a:path>
              <a:path w="9179" h="8534">
                <a:moveTo>
                  <a:pt x="18256" y="4266"/>
                </a:moveTo>
                <a:cubicBezTo>
                  <a:pt x="18269" y="4382"/>
                  <a:pt x="18293" y="4496"/>
                  <a:pt x="18306" y="4614"/>
                </a:cubicBezTo>
                <a:cubicBezTo>
                  <a:pt x="18327" y="4801"/>
                  <a:pt x="18346" y="4996"/>
                  <a:pt x="18355" y="5184"/>
                </a:cubicBezTo>
                <a:cubicBezTo>
                  <a:pt x="18372" y="5550"/>
                  <a:pt x="18405" y="5908"/>
                  <a:pt x="18405" y="6276"/>
                </a:cubicBezTo>
                <a:cubicBezTo>
                  <a:pt x="18405" y="6738"/>
                  <a:pt x="18418" y="7206"/>
                  <a:pt x="18405" y="7665"/>
                </a:cubicBezTo>
                <a:cubicBezTo>
                  <a:pt x="18393" y="8110"/>
                  <a:pt x="18397" y="8559"/>
                  <a:pt x="18380" y="9004"/>
                </a:cubicBezTo>
                <a:cubicBezTo>
                  <a:pt x="18356" y="9649"/>
                  <a:pt x="18317" y="10293"/>
                  <a:pt x="18331" y="10939"/>
                </a:cubicBezTo>
                <a:cubicBezTo>
                  <a:pt x="18341" y="11424"/>
                  <a:pt x="18387" y="11925"/>
                  <a:pt x="18479" y="12402"/>
                </a:cubicBezTo>
                <a:cubicBezTo>
                  <a:pt x="18504" y="12510"/>
                  <a:pt x="18529" y="12617"/>
                  <a:pt x="18554" y="12725"/>
                </a:cubicBezTo>
              </a:path>
              <a:path w="9179" h="8534">
                <a:moveTo>
                  <a:pt x="15131" y="4663"/>
                </a:moveTo>
                <a:cubicBezTo>
                  <a:pt x="15291" y="4655"/>
                  <a:pt x="15239" y="4587"/>
                  <a:pt x="15354" y="4738"/>
                </a:cubicBezTo>
                <a:cubicBezTo>
                  <a:pt x="15393" y="4789"/>
                  <a:pt x="15429" y="4823"/>
                  <a:pt x="15453" y="4887"/>
                </a:cubicBezTo>
                <a:cubicBezTo>
                  <a:pt x="15483" y="4966"/>
                  <a:pt x="15496" y="5076"/>
                  <a:pt x="15503" y="5159"/>
                </a:cubicBezTo>
                <a:cubicBezTo>
                  <a:pt x="15513" y="5288"/>
                  <a:pt x="15486" y="5409"/>
                  <a:pt x="15478" y="5531"/>
                </a:cubicBezTo>
                <a:cubicBezTo>
                  <a:pt x="15472" y="5629"/>
                  <a:pt x="15449" y="5767"/>
                  <a:pt x="15453" y="5854"/>
                </a:cubicBezTo>
                <a:cubicBezTo>
                  <a:pt x="15457" y="5950"/>
                  <a:pt x="15467" y="6079"/>
                  <a:pt x="15478" y="6176"/>
                </a:cubicBezTo>
                <a:cubicBezTo>
                  <a:pt x="15486" y="6251"/>
                  <a:pt x="15511" y="6347"/>
                  <a:pt x="15528" y="6424"/>
                </a:cubicBezTo>
                <a:cubicBezTo>
                  <a:pt x="15543" y="6490"/>
                  <a:pt x="15562" y="6564"/>
                  <a:pt x="15577" y="6623"/>
                </a:cubicBezTo>
                <a:cubicBezTo>
                  <a:pt x="15595" y="6696"/>
                  <a:pt x="15610" y="6772"/>
                  <a:pt x="15627" y="6846"/>
                </a:cubicBezTo>
                <a:cubicBezTo>
                  <a:pt x="15642" y="6913"/>
                  <a:pt x="15660" y="6960"/>
                  <a:pt x="15677" y="7020"/>
                </a:cubicBezTo>
                <a:cubicBezTo>
                  <a:pt x="15692" y="7073"/>
                  <a:pt x="15710" y="7120"/>
                  <a:pt x="15726" y="7169"/>
                </a:cubicBezTo>
                <a:cubicBezTo>
                  <a:pt x="15746" y="7231"/>
                  <a:pt x="15732" y="7306"/>
                  <a:pt x="15751" y="7367"/>
                </a:cubicBezTo>
                <a:cubicBezTo>
                  <a:pt x="15768" y="7422"/>
                  <a:pt x="15797" y="7498"/>
                  <a:pt x="15825" y="7541"/>
                </a:cubicBezTo>
                <a:cubicBezTo>
                  <a:pt x="15871" y="7613"/>
                  <a:pt x="15960" y="7665"/>
                  <a:pt x="16024" y="7714"/>
                </a:cubicBezTo>
                <a:cubicBezTo>
                  <a:pt x="16075" y="7753"/>
                  <a:pt x="16145" y="7831"/>
                  <a:pt x="16222" y="7789"/>
                </a:cubicBezTo>
                <a:cubicBezTo>
                  <a:pt x="16264" y="7766"/>
                  <a:pt x="16297" y="7702"/>
                  <a:pt x="16321" y="7665"/>
                </a:cubicBezTo>
                <a:cubicBezTo>
                  <a:pt x="16368" y="7590"/>
                  <a:pt x="16384" y="7497"/>
                  <a:pt x="16421" y="7417"/>
                </a:cubicBezTo>
                <a:cubicBezTo>
                  <a:pt x="16470" y="7310"/>
                  <a:pt x="16502" y="7204"/>
                  <a:pt x="16545" y="7094"/>
                </a:cubicBezTo>
                <a:cubicBezTo>
                  <a:pt x="16594" y="6970"/>
                  <a:pt x="16672" y="6850"/>
                  <a:pt x="16718" y="6722"/>
                </a:cubicBezTo>
                <a:cubicBezTo>
                  <a:pt x="16783" y="6541"/>
                  <a:pt x="16852" y="6358"/>
                  <a:pt x="16917" y="6176"/>
                </a:cubicBezTo>
                <a:cubicBezTo>
                  <a:pt x="16982" y="5994"/>
                  <a:pt x="17065" y="5832"/>
                  <a:pt x="17140" y="5655"/>
                </a:cubicBezTo>
                <a:cubicBezTo>
                  <a:pt x="17280" y="5324"/>
                  <a:pt x="17424" y="4990"/>
                  <a:pt x="17562" y="4663"/>
                </a:cubicBezTo>
                <a:cubicBezTo>
                  <a:pt x="17611" y="4546"/>
                  <a:pt x="17659" y="4440"/>
                  <a:pt x="17686" y="4316"/>
                </a:cubicBezTo>
                <a:cubicBezTo>
                  <a:pt x="17694" y="4278"/>
                  <a:pt x="17706" y="4241"/>
                  <a:pt x="17711" y="4192"/>
                </a:cubicBezTo>
                <a:cubicBezTo>
                  <a:pt x="17665" y="4220"/>
                  <a:pt x="17636" y="4221"/>
                  <a:pt x="17587" y="4266"/>
                </a:cubicBezTo>
                <a:cubicBezTo>
                  <a:pt x="17502" y="4344"/>
                  <a:pt x="17442" y="4433"/>
                  <a:pt x="17363" y="4514"/>
                </a:cubicBezTo>
                <a:cubicBezTo>
                  <a:pt x="17270" y="4610"/>
                  <a:pt x="17179" y="4718"/>
                  <a:pt x="17066" y="4787"/>
                </a:cubicBezTo>
                <a:cubicBezTo>
                  <a:pt x="17058" y="4787"/>
                  <a:pt x="17049" y="4787"/>
                  <a:pt x="17041" y="4787"/>
                </a:cubicBezTo>
                <a:cubicBezTo>
                  <a:pt x="17089" y="4706"/>
                  <a:pt x="17132" y="4619"/>
                  <a:pt x="17190" y="4539"/>
                </a:cubicBezTo>
                <a:cubicBezTo>
                  <a:pt x="17261" y="4441"/>
                  <a:pt x="17339" y="4316"/>
                  <a:pt x="17438" y="4242"/>
                </a:cubicBezTo>
                <a:cubicBezTo>
                  <a:pt x="17466" y="4213"/>
                  <a:pt x="17479" y="4205"/>
                  <a:pt x="17512" y="4217"/>
                </a:cubicBezTo>
                <a:cubicBezTo>
                  <a:pt x="17540" y="4262"/>
                  <a:pt x="17557" y="4303"/>
                  <a:pt x="17587" y="4341"/>
                </a:cubicBezTo>
                <a:cubicBezTo>
                  <a:pt x="17614" y="4375"/>
                  <a:pt x="17665" y="4396"/>
                  <a:pt x="17686" y="4415"/>
                </a:cubicBezTo>
              </a:path>
              <a:path w="9179" h="8534">
                <a:moveTo>
                  <a:pt x="15032" y="5085"/>
                </a:moveTo>
                <a:cubicBezTo>
                  <a:pt x="15032" y="5019"/>
                  <a:pt x="15032" y="4953"/>
                  <a:pt x="15032" y="4887"/>
                </a:cubicBezTo>
              </a:path>
              <a:path w="9179" h="8534">
                <a:moveTo>
                  <a:pt x="15205" y="4390"/>
                </a:moveTo>
                <a:cubicBezTo>
                  <a:pt x="15349" y="4377"/>
                  <a:pt x="15438" y="4377"/>
                  <a:pt x="15577" y="4415"/>
                </a:cubicBezTo>
                <a:cubicBezTo>
                  <a:pt x="15652" y="4436"/>
                  <a:pt x="15727" y="4465"/>
                  <a:pt x="15801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Ink 5"/>
          <p:cNvSpPr/>
          <p:nvPr/>
        </p:nvSpPr>
        <p:spPr>
          <a:xfrm>
            <a:off x="839880" y="3089160"/>
            <a:ext cx="901440" cy="500040"/>
          </a:xfrm>
          <a:custGeom>
            <a:avLst/>
            <a:gdLst/>
            <a:ahLst/>
            <a:rect l="l" t="t" r="r" b="b"/>
            <a:pathLst>
              <a:path w="2506" h="1390">
                <a:moveTo>
                  <a:pt x="2580" y="8582"/>
                </a:moveTo>
                <a:cubicBezTo>
                  <a:pt x="2487" y="8747"/>
                  <a:pt x="2394" y="8893"/>
                  <a:pt x="2356" y="9079"/>
                </a:cubicBezTo>
                <a:cubicBezTo>
                  <a:pt x="2308" y="9316"/>
                  <a:pt x="2341" y="9501"/>
                  <a:pt x="2480" y="9699"/>
                </a:cubicBezTo>
                <a:cubicBezTo>
                  <a:pt x="2552" y="9802"/>
                  <a:pt x="2631" y="9872"/>
                  <a:pt x="2729" y="9947"/>
                </a:cubicBezTo>
              </a:path>
              <a:path w="2506" h="1390">
                <a:moveTo>
                  <a:pt x="2704" y="9029"/>
                </a:moveTo>
                <a:cubicBezTo>
                  <a:pt x="2735" y="9158"/>
                  <a:pt x="2776" y="9336"/>
                  <a:pt x="2853" y="9451"/>
                </a:cubicBezTo>
                <a:cubicBezTo>
                  <a:pt x="2930" y="9567"/>
                  <a:pt x="3064" y="9625"/>
                  <a:pt x="3175" y="9699"/>
                </a:cubicBezTo>
                <a:cubicBezTo>
                  <a:pt x="3260" y="9756"/>
                  <a:pt x="3335" y="9770"/>
                  <a:pt x="3423" y="9748"/>
                </a:cubicBezTo>
              </a:path>
              <a:path w="2506" h="1390">
                <a:moveTo>
                  <a:pt x="3125" y="8954"/>
                </a:moveTo>
                <a:cubicBezTo>
                  <a:pt x="3048" y="9103"/>
                  <a:pt x="2960" y="9243"/>
                  <a:pt x="2902" y="9401"/>
                </a:cubicBezTo>
                <a:cubicBezTo>
                  <a:pt x="2829" y="9602"/>
                  <a:pt x="2750" y="9724"/>
                  <a:pt x="2704" y="9947"/>
                </a:cubicBezTo>
                <a:cubicBezTo>
                  <a:pt x="2704" y="9955"/>
                  <a:pt x="2704" y="9963"/>
                  <a:pt x="2704" y="9971"/>
                </a:cubicBezTo>
              </a:path>
              <a:path w="2506" h="1390">
                <a:moveTo>
                  <a:pt x="3646" y="8806"/>
                </a:moveTo>
                <a:cubicBezTo>
                  <a:pt x="3646" y="8951"/>
                  <a:pt x="3657" y="9081"/>
                  <a:pt x="3671" y="9227"/>
                </a:cubicBezTo>
                <a:cubicBezTo>
                  <a:pt x="3677" y="9287"/>
                  <a:pt x="3702" y="9344"/>
                  <a:pt x="3721" y="9401"/>
                </a:cubicBezTo>
              </a:path>
              <a:path w="2506" h="1390">
                <a:moveTo>
                  <a:pt x="3497" y="9178"/>
                </a:moveTo>
                <a:cubicBezTo>
                  <a:pt x="3621" y="9178"/>
                  <a:pt x="3746" y="9178"/>
                  <a:pt x="3870" y="9178"/>
                </a:cubicBezTo>
              </a:path>
              <a:path w="2506" h="1390">
                <a:moveTo>
                  <a:pt x="4266" y="8930"/>
                </a:moveTo>
                <a:cubicBezTo>
                  <a:pt x="4316" y="8932"/>
                  <a:pt x="4565" y="8981"/>
                  <a:pt x="4638" y="8954"/>
                </a:cubicBezTo>
                <a:cubicBezTo>
                  <a:pt x="4646" y="8946"/>
                  <a:pt x="4655" y="8938"/>
                  <a:pt x="4663" y="8930"/>
                </a:cubicBezTo>
              </a:path>
              <a:path w="2506" h="1390">
                <a:moveTo>
                  <a:pt x="4316" y="8930"/>
                </a:moveTo>
                <a:cubicBezTo>
                  <a:pt x="4246" y="8990"/>
                  <a:pt x="4222" y="9017"/>
                  <a:pt x="4217" y="9103"/>
                </a:cubicBezTo>
                <a:cubicBezTo>
                  <a:pt x="4212" y="9205"/>
                  <a:pt x="4287" y="9178"/>
                  <a:pt x="4366" y="9178"/>
                </a:cubicBezTo>
                <a:cubicBezTo>
                  <a:pt x="4488" y="9178"/>
                  <a:pt x="4565" y="9167"/>
                  <a:pt x="4663" y="9227"/>
                </a:cubicBezTo>
                <a:cubicBezTo>
                  <a:pt x="4746" y="9278"/>
                  <a:pt x="4816" y="9291"/>
                  <a:pt x="4837" y="9401"/>
                </a:cubicBezTo>
                <a:cubicBezTo>
                  <a:pt x="4860" y="9521"/>
                  <a:pt x="4794" y="9550"/>
                  <a:pt x="4713" y="9599"/>
                </a:cubicBezTo>
                <a:cubicBezTo>
                  <a:pt x="4665" y="9629"/>
                  <a:pt x="4570" y="9640"/>
                  <a:pt x="4514" y="9624"/>
                </a:cubicBezTo>
                <a:cubicBezTo>
                  <a:pt x="4491" y="9618"/>
                  <a:pt x="4396" y="9546"/>
                  <a:pt x="4390" y="9525"/>
                </a:cubicBezTo>
                <a:cubicBezTo>
                  <a:pt x="4390" y="9508"/>
                  <a:pt x="4390" y="9492"/>
                  <a:pt x="4390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Ink 6"/>
          <p:cNvSpPr/>
          <p:nvPr/>
        </p:nvSpPr>
        <p:spPr>
          <a:xfrm>
            <a:off x="1982880" y="3116160"/>
            <a:ext cx="1062000" cy="554040"/>
          </a:xfrm>
          <a:custGeom>
            <a:avLst/>
            <a:gdLst/>
            <a:ahLst/>
            <a:rect l="l" t="t" r="r" b="b"/>
            <a:pathLst>
              <a:path w="2952" h="1539">
                <a:moveTo>
                  <a:pt x="5655" y="8657"/>
                </a:moveTo>
                <a:cubicBezTo>
                  <a:pt x="5735" y="8816"/>
                  <a:pt x="5829" y="8981"/>
                  <a:pt x="5879" y="9153"/>
                </a:cubicBezTo>
                <a:cubicBezTo>
                  <a:pt x="5904" y="9277"/>
                  <a:pt x="5912" y="9318"/>
                  <a:pt x="5928" y="9401"/>
                </a:cubicBezTo>
              </a:path>
              <a:path w="2952" h="1539">
                <a:moveTo>
                  <a:pt x="5904" y="9699"/>
                </a:moveTo>
                <a:cubicBezTo>
                  <a:pt x="5831" y="9864"/>
                  <a:pt x="5783" y="10058"/>
                  <a:pt x="5631" y="10170"/>
                </a:cubicBezTo>
                <a:cubicBezTo>
                  <a:pt x="5577" y="10210"/>
                  <a:pt x="5553" y="10198"/>
                  <a:pt x="5507" y="10170"/>
                </a:cubicBezTo>
              </a:path>
              <a:path w="2952" h="1539">
                <a:moveTo>
                  <a:pt x="6300" y="8756"/>
                </a:moveTo>
                <a:cubicBezTo>
                  <a:pt x="6228" y="8902"/>
                  <a:pt x="6160" y="9015"/>
                  <a:pt x="6152" y="9178"/>
                </a:cubicBezTo>
                <a:cubicBezTo>
                  <a:pt x="6143" y="9371"/>
                  <a:pt x="6166" y="9524"/>
                  <a:pt x="6251" y="9699"/>
                </a:cubicBezTo>
                <a:cubicBezTo>
                  <a:pt x="6334" y="9868"/>
                  <a:pt x="6469" y="10014"/>
                  <a:pt x="6623" y="10120"/>
                </a:cubicBezTo>
                <a:cubicBezTo>
                  <a:pt x="6664" y="10145"/>
                  <a:pt x="6706" y="10170"/>
                  <a:pt x="6747" y="10195"/>
                </a:cubicBezTo>
              </a:path>
              <a:path w="2952" h="1539">
                <a:moveTo>
                  <a:pt x="6424" y="9401"/>
                </a:moveTo>
                <a:cubicBezTo>
                  <a:pt x="6508" y="9512"/>
                  <a:pt x="6604" y="9619"/>
                  <a:pt x="6697" y="9723"/>
                </a:cubicBezTo>
                <a:cubicBezTo>
                  <a:pt x="6789" y="9825"/>
                  <a:pt x="6922" y="9934"/>
                  <a:pt x="7045" y="9996"/>
                </a:cubicBezTo>
                <a:cubicBezTo>
                  <a:pt x="7119" y="10021"/>
                  <a:pt x="7144" y="10029"/>
                  <a:pt x="7193" y="9996"/>
                </a:cubicBezTo>
              </a:path>
              <a:path w="2952" h="1539">
                <a:moveTo>
                  <a:pt x="6921" y="9029"/>
                </a:moveTo>
                <a:cubicBezTo>
                  <a:pt x="6796" y="9197"/>
                  <a:pt x="6689" y="9340"/>
                  <a:pt x="6598" y="9525"/>
                </a:cubicBezTo>
                <a:cubicBezTo>
                  <a:pt x="6539" y="9645"/>
                  <a:pt x="6498" y="9772"/>
                  <a:pt x="6449" y="9897"/>
                </a:cubicBezTo>
              </a:path>
              <a:path w="2952" h="1539">
                <a:moveTo>
                  <a:pt x="7367" y="9103"/>
                </a:moveTo>
                <a:cubicBezTo>
                  <a:pt x="7386" y="9122"/>
                  <a:pt x="7355" y="9216"/>
                  <a:pt x="7342" y="9277"/>
                </a:cubicBezTo>
                <a:cubicBezTo>
                  <a:pt x="7320" y="9380"/>
                  <a:pt x="7306" y="9497"/>
                  <a:pt x="7342" y="9599"/>
                </a:cubicBezTo>
                <a:cubicBezTo>
                  <a:pt x="7359" y="9647"/>
                  <a:pt x="7404" y="9698"/>
                  <a:pt x="7417" y="9748"/>
                </a:cubicBezTo>
              </a:path>
              <a:path w="2952" h="1539">
                <a:moveTo>
                  <a:pt x="7169" y="9327"/>
                </a:moveTo>
                <a:cubicBezTo>
                  <a:pt x="7280" y="9303"/>
                  <a:pt x="7381" y="9320"/>
                  <a:pt x="7491" y="9302"/>
                </a:cubicBezTo>
                <a:cubicBezTo>
                  <a:pt x="7564" y="9277"/>
                  <a:pt x="7588" y="9269"/>
                  <a:pt x="7640" y="9277"/>
                </a:cubicBezTo>
              </a:path>
              <a:path w="2952" h="1539">
                <a:moveTo>
                  <a:pt x="8037" y="9029"/>
                </a:moveTo>
                <a:cubicBezTo>
                  <a:pt x="8171" y="9011"/>
                  <a:pt x="8282" y="9022"/>
                  <a:pt x="8384" y="8954"/>
                </a:cubicBezTo>
              </a:path>
              <a:path w="2952" h="1539">
                <a:moveTo>
                  <a:pt x="7913" y="9029"/>
                </a:moveTo>
                <a:cubicBezTo>
                  <a:pt x="7869" y="9094"/>
                  <a:pt x="7858" y="9108"/>
                  <a:pt x="7838" y="9153"/>
                </a:cubicBezTo>
                <a:cubicBezTo>
                  <a:pt x="7899" y="9199"/>
                  <a:pt x="7900" y="9220"/>
                  <a:pt x="7987" y="9227"/>
                </a:cubicBezTo>
                <a:cubicBezTo>
                  <a:pt x="8071" y="9234"/>
                  <a:pt x="8160" y="9205"/>
                  <a:pt x="8235" y="9252"/>
                </a:cubicBezTo>
                <a:cubicBezTo>
                  <a:pt x="8386" y="9347"/>
                  <a:pt x="8391" y="9440"/>
                  <a:pt x="8434" y="9599"/>
                </a:cubicBezTo>
                <a:cubicBezTo>
                  <a:pt x="8464" y="9712"/>
                  <a:pt x="8465" y="9736"/>
                  <a:pt x="8384" y="9823"/>
                </a:cubicBezTo>
                <a:cubicBezTo>
                  <a:pt x="8332" y="9879"/>
                  <a:pt x="8280" y="9872"/>
                  <a:pt x="8210" y="9872"/>
                </a:cubicBezTo>
                <a:cubicBezTo>
                  <a:pt x="8105" y="9872"/>
                  <a:pt x="8012" y="9831"/>
                  <a:pt x="7913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Ink 7"/>
          <p:cNvSpPr/>
          <p:nvPr/>
        </p:nvSpPr>
        <p:spPr>
          <a:xfrm>
            <a:off x="3330720" y="3062160"/>
            <a:ext cx="1044360" cy="527040"/>
          </a:xfrm>
          <a:custGeom>
            <a:avLst/>
            <a:gdLst/>
            <a:ahLst/>
            <a:rect l="l" t="t" r="r" b="b"/>
            <a:pathLst>
              <a:path w="2903" h="1464">
                <a:moveTo>
                  <a:pt x="9252" y="8508"/>
                </a:moveTo>
                <a:cubicBezTo>
                  <a:pt x="9328" y="8583"/>
                  <a:pt x="9384" y="8655"/>
                  <a:pt x="9426" y="8756"/>
                </a:cubicBezTo>
                <a:cubicBezTo>
                  <a:pt x="9522" y="8986"/>
                  <a:pt x="9534" y="9162"/>
                  <a:pt x="9525" y="9401"/>
                </a:cubicBezTo>
                <a:cubicBezTo>
                  <a:pt x="9520" y="9537"/>
                  <a:pt x="9513" y="9696"/>
                  <a:pt x="9451" y="9823"/>
                </a:cubicBezTo>
                <a:cubicBezTo>
                  <a:pt x="9435" y="9857"/>
                  <a:pt x="9368" y="10008"/>
                  <a:pt x="9302" y="9971"/>
                </a:cubicBezTo>
                <a:cubicBezTo>
                  <a:pt x="9302" y="9963"/>
                  <a:pt x="9302" y="9955"/>
                  <a:pt x="9302" y="9947"/>
                </a:cubicBezTo>
              </a:path>
              <a:path w="2903" h="1464">
                <a:moveTo>
                  <a:pt x="9922" y="9153"/>
                </a:moveTo>
                <a:cubicBezTo>
                  <a:pt x="10053" y="9117"/>
                  <a:pt x="10137" y="9103"/>
                  <a:pt x="10269" y="9103"/>
                </a:cubicBezTo>
              </a:path>
              <a:path w="2903" h="1464">
                <a:moveTo>
                  <a:pt x="10021" y="9302"/>
                </a:moveTo>
                <a:cubicBezTo>
                  <a:pt x="10156" y="9417"/>
                  <a:pt x="10168" y="9401"/>
                  <a:pt x="10344" y="9401"/>
                </a:cubicBezTo>
                <a:cubicBezTo>
                  <a:pt x="10444" y="9401"/>
                  <a:pt x="10478" y="9401"/>
                  <a:pt x="10542" y="9376"/>
                </a:cubicBezTo>
              </a:path>
              <a:path w="2903" h="1464">
                <a:moveTo>
                  <a:pt x="11162" y="8954"/>
                </a:moveTo>
                <a:cubicBezTo>
                  <a:pt x="11126" y="9191"/>
                  <a:pt x="11050" y="9395"/>
                  <a:pt x="11212" y="9599"/>
                </a:cubicBezTo>
                <a:cubicBezTo>
                  <a:pt x="11301" y="9711"/>
                  <a:pt x="11431" y="9778"/>
                  <a:pt x="11559" y="9823"/>
                </a:cubicBezTo>
                <a:cubicBezTo>
                  <a:pt x="11677" y="9865"/>
                  <a:pt x="11765" y="9883"/>
                  <a:pt x="11881" y="9823"/>
                </a:cubicBezTo>
                <a:cubicBezTo>
                  <a:pt x="11969" y="9777"/>
                  <a:pt x="12104" y="9651"/>
                  <a:pt x="12129" y="9550"/>
                </a:cubicBezTo>
                <a:cubicBezTo>
                  <a:pt x="12158" y="9433"/>
                  <a:pt x="12162" y="9289"/>
                  <a:pt x="12105" y="9178"/>
                </a:cubicBezTo>
                <a:cubicBezTo>
                  <a:pt x="12046" y="9063"/>
                  <a:pt x="11925" y="8952"/>
                  <a:pt x="11807" y="8905"/>
                </a:cubicBezTo>
                <a:cubicBezTo>
                  <a:pt x="11663" y="8847"/>
                  <a:pt x="11513" y="8855"/>
                  <a:pt x="11361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Ink 8"/>
          <p:cNvSpPr/>
          <p:nvPr/>
        </p:nvSpPr>
        <p:spPr>
          <a:xfrm>
            <a:off x="6473880" y="2697120"/>
            <a:ext cx="19080" cy="231840"/>
          </a:xfrm>
          <a:custGeom>
            <a:avLst/>
            <a:gdLst/>
            <a:ahLst/>
            <a:rect l="l" t="t" r="r" b="b"/>
            <a:pathLst>
              <a:path w="51" h="646">
                <a:moveTo>
                  <a:pt x="18008" y="7491"/>
                </a:moveTo>
                <a:cubicBezTo>
                  <a:pt x="18049" y="7600"/>
                  <a:pt x="18018" y="7675"/>
                  <a:pt x="18008" y="7789"/>
                </a:cubicBezTo>
                <a:cubicBezTo>
                  <a:pt x="17997" y="7915"/>
                  <a:pt x="17977" y="8013"/>
                  <a:pt x="18008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Ink 9"/>
          <p:cNvSpPr/>
          <p:nvPr/>
        </p:nvSpPr>
        <p:spPr>
          <a:xfrm>
            <a:off x="6286680" y="2714760"/>
            <a:ext cx="9360" cy="152280"/>
          </a:xfrm>
          <a:custGeom>
            <a:avLst/>
            <a:gdLst/>
            <a:ahLst/>
            <a:rect l="l" t="t" r="r" b="b"/>
            <a:pathLst>
              <a:path w="26" h="422">
                <a:moveTo>
                  <a:pt x="17487" y="7541"/>
                </a:moveTo>
                <a:cubicBezTo>
                  <a:pt x="17472" y="7679"/>
                  <a:pt x="17480" y="7818"/>
                  <a:pt x="17487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Ink 10"/>
          <p:cNvSpPr/>
          <p:nvPr/>
        </p:nvSpPr>
        <p:spPr>
          <a:xfrm>
            <a:off x="6188040" y="2714760"/>
            <a:ext cx="19080" cy="107640"/>
          </a:xfrm>
          <a:custGeom>
            <a:avLst/>
            <a:gdLst/>
            <a:ahLst/>
            <a:rect l="l" t="t" r="r" b="b"/>
            <a:pathLst>
              <a:path w="50" h="298">
                <a:moveTo>
                  <a:pt x="17239" y="7541"/>
                </a:moveTo>
                <a:cubicBezTo>
                  <a:pt x="17200" y="7629"/>
                  <a:pt x="17190" y="7693"/>
                  <a:pt x="17190" y="7789"/>
                </a:cubicBezTo>
                <a:cubicBezTo>
                  <a:pt x="17190" y="7805"/>
                  <a:pt x="17190" y="7822"/>
                  <a:pt x="17190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Ink 11"/>
          <p:cNvSpPr/>
          <p:nvPr/>
        </p:nvSpPr>
        <p:spPr>
          <a:xfrm>
            <a:off x="6018120" y="2741760"/>
            <a:ext cx="19080" cy="8892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6743" y="7615"/>
                </a:moveTo>
                <a:cubicBezTo>
                  <a:pt x="16727" y="7724"/>
                  <a:pt x="16730" y="7763"/>
                  <a:pt x="16768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Ink 12"/>
          <p:cNvSpPr/>
          <p:nvPr/>
        </p:nvSpPr>
        <p:spPr>
          <a:xfrm>
            <a:off x="5848200" y="2732040"/>
            <a:ext cx="19080" cy="125640"/>
          </a:xfrm>
          <a:custGeom>
            <a:avLst/>
            <a:gdLst/>
            <a:ahLst/>
            <a:rect l="l" t="t" r="r" b="b"/>
            <a:pathLst>
              <a:path w="51" h="349">
                <a:moveTo>
                  <a:pt x="16297" y="7590"/>
                </a:moveTo>
                <a:cubicBezTo>
                  <a:pt x="16243" y="7699"/>
                  <a:pt x="16247" y="7764"/>
                  <a:pt x="16247" y="7888"/>
                </a:cubicBezTo>
                <a:cubicBezTo>
                  <a:pt x="16247" y="7905"/>
                  <a:pt x="16247" y="7921"/>
                  <a:pt x="16247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Ink 13"/>
          <p:cNvSpPr/>
          <p:nvPr/>
        </p:nvSpPr>
        <p:spPr>
          <a:xfrm>
            <a:off x="5670720" y="268776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15776" y="7466"/>
                </a:moveTo>
                <a:cubicBezTo>
                  <a:pt x="15761" y="7630"/>
                  <a:pt x="15751" y="7776"/>
                  <a:pt x="15751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Ink 14"/>
          <p:cNvSpPr/>
          <p:nvPr/>
        </p:nvSpPr>
        <p:spPr>
          <a:xfrm>
            <a:off x="5464080" y="2741760"/>
            <a:ext cx="1800" cy="80640"/>
          </a:xfrm>
          <a:custGeom>
            <a:avLst/>
            <a:gdLst/>
            <a:ahLst/>
            <a:rect l="l" t="t" r="r" b="b"/>
            <a:pathLst>
              <a:path w="1" h="224">
                <a:moveTo>
                  <a:pt x="15180" y="7615"/>
                </a:moveTo>
                <a:cubicBezTo>
                  <a:pt x="15180" y="7689"/>
                  <a:pt x="15180" y="7764"/>
                  <a:pt x="15180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Ink 15"/>
          <p:cNvSpPr/>
          <p:nvPr/>
        </p:nvSpPr>
        <p:spPr>
          <a:xfrm>
            <a:off x="1320840" y="3840120"/>
            <a:ext cx="1314360" cy="384120"/>
          </a:xfrm>
          <a:custGeom>
            <a:avLst/>
            <a:gdLst/>
            <a:ahLst/>
            <a:rect l="l" t="t" r="r" b="b"/>
            <a:pathLst>
              <a:path w="3647" h="1068">
                <a:moveTo>
                  <a:pt x="3671" y="10939"/>
                </a:moveTo>
                <a:cubicBezTo>
                  <a:pt x="3754" y="11099"/>
                  <a:pt x="3823" y="11254"/>
                  <a:pt x="3944" y="11385"/>
                </a:cubicBezTo>
                <a:cubicBezTo>
                  <a:pt x="4036" y="11485"/>
                  <a:pt x="4132" y="11580"/>
                  <a:pt x="4242" y="11658"/>
                </a:cubicBezTo>
                <a:cubicBezTo>
                  <a:pt x="4295" y="11696"/>
                  <a:pt x="4330" y="11721"/>
                  <a:pt x="4390" y="11733"/>
                </a:cubicBezTo>
              </a:path>
              <a:path w="3647" h="1068">
                <a:moveTo>
                  <a:pt x="4192" y="10815"/>
                </a:moveTo>
                <a:cubicBezTo>
                  <a:pt x="4101" y="10871"/>
                  <a:pt x="4047" y="10943"/>
                  <a:pt x="3994" y="11038"/>
                </a:cubicBezTo>
                <a:cubicBezTo>
                  <a:pt x="3929" y="11153"/>
                  <a:pt x="3872" y="11265"/>
                  <a:pt x="3820" y="11385"/>
                </a:cubicBezTo>
                <a:cubicBezTo>
                  <a:pt x="3807" y="11415"/>
                  <a:pt x="3738" y="11538"/>
                  <a:pt x="3746" y="11559"/>
                </a:cubicBezTo>
                <a:cubicBezTo>
                  <a:pt x="3754" y="11559"/>
                  <a:pt x="3762" y="11559"/>
                  <a:pt x="3770" y="11559"/>
                </a:cubicBezTo>
              </a:path>
              <a:path w="3647" h="1068">
                <a:moveTo>
                  <a:pt x="4564" y="11013"/>
                </a:moveTo>
                <a:cubicBezTo>
                  <a:pt x="4580" y="11117"/>
                  <a:pt x="4566" y="11259"/>
                  <a:pt x="4589" y="11361"/>
                </a:cubicBezTo>
                <a:cubicBezTo>
                  <a:pt x="4601" y="11415"/>
                  <a:pt x="4614" y="11449"/>
                  <a:pt x="4614" y="11509"/>
                </a:cubicBezTo>
              </a:path>
              <a:path w="3647" h="1068">
                <a:moveTo>
                  <a:pt x="4366" y="11187"/>
                </a:moveTo>
                <a:cubicBezTo>
                  <a:pt x="4453" y="11187"/>
                  <a:pt x="4527" y="11209"/>
                  <a:pt x="4614" y="11212"/>
                </a:cubicBezTo>
                <a:cubicBezTo>
                  <a:pt x="4691" y="11215"/>
                  <a:pt x="4760" y="11193"/>
                  <a:pt x="4837" y="11187"/>
                </a:cubicBezTo>
              </a:path>
              <a:path w="3647" h="1068">
                <a:moveTo>
                  <a:pt x="5135" y="10815"/>
                </a:moveTo>
                <a:cubicBezTo>
                  <a:pt x="5209" y="10774"/>
                  <a:pt x="5275" y="10754"/>
                  <a:pt x="5358" y="10740"/>
                </a:cubicBezTo>
                <a:cubicBezTo>
                  <a:pt x="5409" y="10740"/>
                  <a:pt x="5427" y="10739"/>
                  <a:pt x="5457" y="10716"/>
                </a:cubicBezTo>
              </a:path>
              <a:path w="3647" h="1068">
                <a:moveTo>
                  <a:pt x="5035" y="10815"/>
                </a:moveTo>
                <a:cubicBezTo>
                  <a:pt x="5006" y="10898"/>
                  <a:pt x="4958" y="10983"/>
                  <a:pt x="5085" y="11013"/>
                </a:cubicBezTo>
                <a:cubicBezTo>
                  <a:pt x="5155" y="11029"/>
                  <a:pt x="5242" y="11007"/>
                  <a:pt x="5308" y="11038"/>
                </a:cubicBezTo>
                <a:cubicBezTo>
                  <a:pt x="5360" y="11062"/>
                  <a:pt x="5384" y="11141"/>
                  <a:pt x="5407" y="11187"/>
                </a:cubicBezTo>
                <a:cubicBezTo>
                  <a:pt x="5464" y="11302"/>
                  <a:pt x="5479" y="11359"/>
                  <a:pt x="5407" y="11485"/>
                </a:cubicBezTo>
                <a:cubicBezTo>
                  <a:pt x="5362" y="11564"/>
                  <a:pt x="5286" y="11559"/>
                  <a:pt x="5209" y="11559"/>
                </a:cubicBezTo>
                <a:cubicBezTo>
                  <a:pt x="5132" y="11559"/>
                  <a:pt x="5114" y="11562"/>
                  <a:pt x="5060" y="11509"/>
                </a:cubicBezTo>
                <a:cubicBezTo>
                  <a:pt x="5035" y="11485"/>
                  <a:pt x="5027" y="11477"/>
                  <a:pt x="5060" y="11460"/>
                </a:cubicBezTo>
              </a:path>
              <a:path w="3647" h="1068">
                <a:moveTo>
                  <a:pt x="5631" y="11187"/>
                </a:moveTo>
                <a:cubicBezTo>
                  <a:pt x="5741" y="11187"/>
                  <a:pt x="5829" y="11195"/>
                  <a:pt x="5928" y="11187"/>
                </a:cubicBezTo>
                <a:cubicBezTo>
                  <a:pt x="5953" y="11187"/>
                  <a:pt x="5978" y="11187"/>
                  <a:pt x="6003" y="11187"/>
                </a:cubicBezTo>
              </a:path>
              <a:path w="3647" h="1068">
                <a:moveTo>
                  <a:pt x="5755" y="11336"/>
                </a:moveTo>
                <a:cubicBezTo>
                  <a:pt x="5813" y="11365"/>
                  <a:pt x="5913" y="11416"/>
                  <a:pt x="5978" y="11410"/>
                </a:cubicBezTo>
                <a:cubicBezTo>
                  <a:pt x="6038" y="11404"/>
                  <a:pt x="6114" y="11376"/>
                  <a:pt x="6176" y="11361"/>
                </a:cubicBezTo>
              </a:path>
              <a:path w="3647" h="1068">
                <a:moveTo>
                  <a:pt x="6648" y="10864"/>
                </a:moveTo>
                <a:cubicBezTo>
                  <a:pt x="6592" y="10920"/>
                  <a:pt x="6543" y="10956"/>
                  <a:pt x="6524" y="11038"/>
                </a:cubicBezTo>
                <a:cubicBezTo>
                  <a:pt x="6503" y="11127"/>
                  <a:pt x="6498" y="11201"/>
                  <a:pt x="6548" y="11286"/>
                </a:cubicBezTo>
                <a:cubicBezTo>
                  <a:pt x="6623" y="11414"/>
                  <a:pt x="6710" y="11519"/>
                  <a:pt x="6846" y="11584"/>
                </a:cubicBezTo>
                <a:cubicBezTo>
                  <a:pt x="6924" y="11622"/>
                  <a:pt x="7032" y="11651"/>
                  <a:pt x="7119" y="11633"/>
                </a:cubicBezTo>
                <a:cubicBezTo>
                  <a:pt x="7233" y="11610"/>
                  <a:pt x="7259" y="11534"/>
                  <a:pt x="7293" y="11435"/>
                </a:cubicBezTo>
                <a:cubicBezTo>
                  <a:pt x="7337" y="11305"/>
                  <a:pt x="7308" y="11207"/>
                  <a:pt x="7243" y="11088"/>
                </a:cubicBezTo>
                <a:cubicBezTo>
                  <a:pt x="7173" y="10960"/>
                  <a:pt x="7097" y="10884"/>
                  <a:pt x="6970" y="10815"/>
                </a:cubicBezTo>
                <a:cubicBezTo>
                  <a:pt x="6839" y="10744"/>
                  <a:pt x="6717" y="10702"/>
                  <a:pt x="6573" y="106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Ink 16"/>
          <p:cNvSpPr/>
          <p:nvPr/>
        </p:nvSpPr>
        <p:spPr>
          <a:xfrm>
            <a:off x="1374840" y="4197240"/>
            <a:ext cx="1312920" cy="625680"/>
          </a:xfrm>
          <a:custGeom>
            <a:avLst/>
            <a:gdLst/>
            <a:ahLst/>
            <a:rect l="l" t="t" r="r" b="b"/>
            <a:pathLst>
              <a:path w="3647" h="1738">
                <a:moveTo>
                  <a:pt x="4589" y="12204"/>
                </a:moveTo>
                <a:cubicBezTo>
                  <a:pt x="4640" y="12339"/>
                  <a:pt x="4699" y="12508"/>
                  <a:pt x="4787" y="12626"/>
                </a:cubicBezTo>
                <a:cubicBezTo>
                  <a:pt x="4864" y="12730"/>
                  <a:pt x="4957" y="12848"/>
                  <a:pt x="5060" y="12923"/>
                </a:cubicBezTo>
                <a:cubicBezTo>
                  <a:pt x="5129" y="12973"/>
                  <a:pt x="5180" y="12994"/>
                  <a:pt x="5259" y="13022"/>
                </a:cubicBezTo>
              </a:path>
              <a:path w="3647" h="1738">
                <a:moveTo>
                  <a:pt x="4961" y="12204"/>
                </a:moveTo>
                <a:cubicBezTo>
                  <a:pt x="4884" y="12350"/>
                  <a:pt x="4808" y="12500"/>
                  <a:pt x="4738" y="12650"/>
                </a:cubicBezTo>
                <a:cubicBezTo>
                  <a:pt x="4716" y="12697"/>
                  <a:pt x="4646" y="12820"/>
                  <a:pt x="4663" y="12874"/>
                </a:cubicBezTo>
                <a:cubicBezTo>
                  <a:pt x="4671" y="12882"/>
                  <a:pt x="4680" y="12890"/>
                  <a:pt x="4688" y="12898"/>
                </a:cubicBezTo>
              </a:path>
              <a:path w="3647" h="1738">
                <a:moveTo>
                  <a:pt x="5283" y="12353"/>
                </a:moveTo>
                <a:cubicBezTo>
                  <a:pt x="5381" y="12340"/>
                  <a:pt x="5442" y="12328"/>
                  <a:pt x="5531" y="12328"/>
                </a:cubicBezTo>
              </a:path>
              <a:path w="3647" h="1738">
                <a:moveTo>
                  <a:pt x="5407" y="12551"/>
                </a:moveTo>
                <a:cubicBezTo>
                  <a:pt x="5589" y="12567"/>
                  <a:pt x="5555" y="12590"/>
                  <a:pt x="5680" y="12526"/>
                </a:cubicBezTo>
              </a:path>
              <a:path w="3647" h="1738">
                <a:moveTo>
                  <a:pt x="5879" y="12303"/>
                </a:moveTo>
                <a:cubicBezTo>
                  <a:pt x="5969" y="12284"/>
                  <a:pt x="6036" y="12278"/>
                  <a:pt x="6127" y="12278"/>
                </a:cubicBezTo>
              </a:path>
              <a:path w="3647" h="1738">
                <a:moveTo>
                  <a:pt x="6449" y="12080"/>
                </a:moveTo>
                <a:cubicBezTo>
                  <a:pt x="6557" y="12064"/>
                  <a:pt x="6641" y="12055"/>
                  <a:pt x="6747" y="12055"/>
                </a:cubicBezTo>
                <a:cubicBezTo>
                  <a:pt x="6755" y="12055"/>
                  <a:pt x="6764" y="12055"/>
                  <a:pt x="6772" y="12055"/>
                </a:cubicBezTo>
              </a:path>
              <a:path w="3647" h="1738">
                <a:moveTo>
                  <a:pt x="6548" y="12005"/>
                </a:moveTo>
                <a:cubicBezTo>
                  <a:pt x="6472" y="12033"/>
                  <a:pt x="6431" y="12050"/>
                  <a:pt x="6375" y="12105"/>
                </a:cubicBezTo>
                <a:cubicBezTo>
                  <a:pt x="6321" y="12158"/>
                  <a:pt x="6359" y="12187"/>
                  <a:pt x="6400" y="12229"/>
                </a:cubicBezTo>
                <a:cubicBezTo>
                  <a:pt x="6448" y="12278"/>
                  <a:pt x="6501" y="12265"/>
                  <a:pt x="6548" y="12303"/>
                </a:cubicBezTo>
                <a:cubicBezTo>
                  <a:pt x="6591" y="12338"/>
                  <a:pt x="6671" y="12384"/>
                  <a:pt x="6697" y="12427"/>
                </a:cubicBezTo>
                <a:cubicBezTo>
                  <a:pt x="6734" y="12490"/>
                  <a:pt x="6783" y="12627"/>
                  <a:pt x="6772" y="12700"/>
                </a:cubicBezTo>
                <a:cubicBezTo>
                  <a:pt x="6761" y="12768"/>
                  <a:pt x="6718" y="12849"/>
                  <a:pt x="6672" y="12898"/>
                </a:cubicBezTo>
                <a:cubicBezTo>
                  <a:pt x="6623" y="12951"/>
                  <a:pt x="6501" y="12988"/>
                  <a:pt x="6424" y="12973"/>
                </a:cubicBezTo>
                <a:cubicBezTo>
                  <a:pt x="6338" y="12929"/>
                  <a:pt x="6287" y="12898"/>
                  <a:pt x="6226" y="12849"/>
                </a:cubicBezTo>
              </a:path>
              <a:path w="3647" h="1738">
                <a:moveTo>
                  <a:pt x="4291" y="12378"/>
                </a:moveTo>
                <a:cubicBezTo>
                  <a:pt x="4267" y="12549"/>
                  <a:pt x="4242" y="12702"/>
                  <a:pt x="4242" y="12874"/>
                </a:cubicBezTo>
                <a:cubicBezTo>
                  <a:pt x="4242" y="12971"/>
                  <a:pt x="4253" y="13053"/>
                  <a:pt x="4266" y="13146"/>
                </a:cubicBezTo>
                <a:cubicBezTo>
                  <a:pt x="4266" y="13036"/>
                  <a:pt x="4249" y="12929"/>
                  <a:pt x="4242" y="12824"/>
                </a:cubicBezTo>
                <a:cubicBezTo>
                  <a:pt x="4233" y="12679"/>
                  <a:pt x="4255" y="12544"/>
                  <a:pt x="4266" y="12402"/>
                </a:cubicBezTo>
                <a:cubicBezTo>
                  <a:pt x="4276" y="12263"/>
                  <a:pt x="4294" y="12119"/>
                  <a:pt x="4316" y="11981"/>
                </a:cubicBezTo>
                <a:cubicBezTo>
                  <a:pt x="4333" y="11873"/>
                  <a:pt x="4364" y="11819"/>
                  <a:pt x="4440" y="11757"/>
                </a:cubicBezTo>
                <a:cubicBezTo>
                  <a:pt x="4526" y="11688"/>
                  <a:pt x="4612" y="11702"/>
                  <a:pt x="4713" y="11683"/>
                </a:cubicBezTo>
                <a:cubicBezTo>
                  <a:pt x="4879" y="11652"/>
                  <a:pt x="5040" y="11658"/>
                  <a:pt x="5209" y="11658"/>
                </a:cubicBezTo>
                <a:cubicBezTo>
                  <a:pt x="5426" y="11658"/>
                  <a:pt x="5638" y="11697"/>
                  <a:pt x="5854" y="11708"/>
                </a:cubicBezTo>
                <a:cubicBezTo>
                  <a:pt x="6052" y="11718"/>
                  <a:pt x="6251" y="11729"/>
                  <a:pt x="6449" y="11733"/>
                </a:cubicBezTo>
                <a:cubicBezTo>
                  <a:pt x="6600" y="11736"/>
                  <a:pt x="6748" y="11753"/>
                  <a:pt x="6896" y="11782"/>
                </a:cubicBezTo>
                <a:cubicBezTo>
                  <a:pt x="6977" y="11798"/>
                  <a:pt x="7073" y="11805"/>
                  <a:pt x="7144" y="11857"/>
                </a:cubicBezTo>
                <a:cubicBezTo>
                  <a:pt x="7202" y="11900"/>
                  <a:pt x="7203" y="11970"/>
                  <a:pt x="7218" y="12030"/>
                </a:cubicBezTo>
                <a:cubicBezTo>
                  <a:pt x="7236" y="12103"/>
                  <a:pt x="7260" y="12203"/>
                  <a:pt x="7268" y="12278"/>
                </a:cubicBezTo>
                <a:cubicBezTo>
                  <a:pt x="7283" y="12431"/>
                  <a:pt x="7322" y="12572"/>
                  <a:pt x="7342" y="12725"/>
                </a:cubicBezTo>
                <a:cubicBezTo>
                  <a:pt x="7365" y="12899"/>
                  <a:pt x="7400" y="13075"/>
                  <a:pt x="7441" y="13246"/>
                </a:cubicBezTo>
                <a:cubicBezTo>
                  <a:pt x="7452" y="13294"/>
                  <a:pt x="7453" y="13323"/>
                  <a:pt x="7466" y="13370"/>
                </a:cubicBezTo>
                <a:cubicBezTo>
                  <a:pt x="7421" y="13367"/>
                  <a:pt x="7336" y="13358"/>
                  <a:pt x="7268" y="13345"/>
                </a:cubicBezTo>
                <a:cubicBezTo>
                  <a:pt x="7179" y="13328"/>
                  <a:pt x="7087" y="13309"/>
                  <a:pt x="6995" y="13295"/>
                </a:cubicBezTo>
                <a:cubicBezTo>
                  <a:pt x="6861" y="13275"/>
                  <a:pt x="6755" y="13286"/>
                  <a:pt x="6623" y="13295"/>
                </a:cubicBezTo>
                <a:cubicBezTo>
                  <a:pt x="6319" y="13317"/>
                  <a:pt x="5980" y="13315"/>
                  <a:pt x="5680" y="13271"/>
                </a:cubicBezTo>
                <a:cubicBezTo>
                  <a:pt x="5363" y="13224"/>
                  <a:pt x="5064" y="13156"/>
                  <a:pt x="4762" y="13072"/>
                </a:cubicBezTo>
                <a:cubicBezTo>
                  <a:pt x="4593" y="13025"/>
                  <a:pt x="4413" y="13014"/>
                  <a:pt x="4242" y="12973"/>
                </a:cubicBezTo>
                <a:cubicBezTo>
                  <a:pt x="4154" y="12952"/>
                  <a:pt x="3970" y="12898"/>
                  <a:pt x="3870" y="12898"/>
                </a:cubicBezTo>
                <a:cubicBezTo>
                  <a:pt x="3825" y="12898"/>
                  <a:pt x="3805" y="12895"/>
                  <a:pt x="3845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Ink 2"/>
          <p:cNvSpPr/>
          <p:nvPr/>
        </p:nvSpPr>
        <p:spPr>
          <a:xfrm>
            <a:off x="1768320" y="1366920"/>
            <a:ext cx="536760" cy="714240"/>
          </a:xfrm>
          <a:custGeom>
            <a:avLst/>
            <a:gdLst/>
            <a:ahLst/>
            <a:rect l="l" t="t" r="r" b="b"/>
            <a:pathLst>
              <a:path w="1490" h="1985">
                <a:moveTo>
                  <a:pt x="6375" y="3969"/>
                </a:moveTo>
                <a:cubicBezTo>
                  <a:pt x="6301" y="3984"/>
                  <a:pt x="6227" y="3980"/>
                  <a:pt x="6152" y="3994"/>
                </a:cubicBezTo>
                <a:cubicBezTo>
                  <a:pt x="6036" y="4015"/>
                  <a:pt x="5920" y="4042"/>
                  <a:pt x="5804" y="4068"/>
                </a:cubicBezTo>
                <a:cubicBezTo>
                  <a:pt x="5680" y="4096"/>
                  <a:pt x="5558" y="4130"/>
                  <a:pt x="5432" y="4142"/>
                </a:cubicBezTo>
                <a:cubicBezTo>
                  <a:pt x="5303" y="4155"/>
                  <a:pt x="5170" y="4108"/>
                  <a:pt x="5110" y="4192"/>
                </a:cubicBezTo>
                <a:cubicBezTo>
                  <a:pt x="5063" y="4257"/>
                  <a:pt x="5106" y="4284"/>
                  <a:pt x="5110" y="4341"/>
                </a:cubicBezTo>
                <a:cubicBezTo>
                  <a:pt x="5115" y="4415"/>
                  <a:pt x="5091" y="4469"/>
                  <a:pt x="5085" y="4539"/>
                </a:cubicBezTo>
                <a:cubicBezTo>
                  <a:pt x="5074" y="4664"/>
                  <a:pt x="5073" y="4789"/>
                  <a:pt x="5060" y="4911"/>
                </a:cubicBezTo>
                <a:cubicBezTo>
                  <a:pt x="5049" y="5016"/>
                  <a:pt x="5001" y="5106"/>
                  <a:pt x="4986" y="5209"/>
                </a:cubicBezTo>
                <a:cubicBezTo>
                  <a:pt x="4974" y="5291"/>
                  <a:pt x="4946" y="5378"/>
                  <a:pt x="4936" y="5457"/>
                </a:cubicBezTo>
                <a:cubicBezTo>
                  <a:pt x="4928" y="5519"/>
                  <a:pt x="4906" y="5596"/>
                  <a:pt x="4911" y="5655"/>
                </a:cubicBezTo>
                <a:cubicBezTo>
                  <a:pt x="4916" y="5719"/>
                  <a:pt x="4960" y="5721"/>
                  <a:pt x="5011" y="5730"/>
                </a:cubicBezTo>
                <a:cubicBezTo>
                  <a:pt x="5287" y="5776"/>
                  <a:pt x="5605" y="5728"/>
                  <a:pt x="5879" y="5755"/>
                </a:cubicBezTo>
                <a:cubicBezTo>
                  <a:pt x="5943" y="5761"/>
                  <a:pt x="6016" y="5784"/>
                  <a:pt x="6077" y="5779"/>
                </a:cubicBezTo>
                <a:cubicBezTo>
                  <a:pt x="6178" y="5772"/>
                  <a:pt x="6136" y="5690"/>
                  <a:pt x="6152" y="5631"/>
                </a:cubicBezTo>
                <a:cubicBezTo>
                  <a:pt x="6175" y="5545"/>
                  <a:pt x="6158" y="5467"/>
                  <a:pt x="6176" y="5383"/>
                </a:cubicBezTo>
                <a:cubicBezTo>
                  <a:pt x="6195" y="5297"/>
                  <a:pt x="6218" y="5199"/>
                  <a:pt x="6226" y="5110"/>
                </a:cubicBezTo>
                <a:cubicBezTo>
                  <a:pt x="6237" y="4993"/>
                  <a:pt x="6265" y="4877"/>
                  <a:pt x="6276" y="4762"/>
                </a:cubicBezTo>
                <a:cubicBezTo>
                  <a:pt x="6287" y="4639"/>
                  <a:pt x="6301" y="4510"/>
                  <a:pt x="6325" y="4390"/>
                </a:cubicBezTo>
                <a:cubicBezTo>
                  <a:pt x="6345" y="4289"/>
                  <a:pt x="6350" y="4198"/>
                  <a:pt x="6350" y="4093"/>
                </a:cubicBezTo>
                <a:cubicBezTo>
                  <a:pt x="6350" y="4019"/>
                  <a:pt x="6368" y="3965"/>
                  <a:pt x="6375" y="3894"/>
                </a:cubicBezTo>
                <a:cubicBezTo>
                  <a:pt x="6375" y="3833"/>
                  <a:pt x="6366" y="3817"/>
                  <a:pt x="6400" y="37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Ink 3"/>
          <p:cNvSpPr/>
          <p:nvPr/>
        </p:nvSpPr>
        <p:spPr>
          <a:xfrm>
            <a:off x="866880" y="2330280"/>
            <a:ext cx="2990880" cy="635040"/>
          </a:xfrm>
          <a:custGeom>
            <a:avLst/>
            <a:gdLst/>
            <a:ahLst/>
            <a:rect l="l" t="t" r="r" b="b"/>
            <a:pathLst>
              <a:path w="8311" h="1762">
                <a:moveTo>
                  <a:pt x="2431" y="7094"/>
                </a:moveTo>
                <a:cubicBezTo>
                  <a:pt x="2441" y="7164"/>
                  <a:pt x="2480" y="7220"/>
                  <a:pt x="2505" y="7293"/>
                </a:cubicBezTo>
                <a:cubicBezTo>
                  <a:pt x="2545" y="7408"/>
                  <a:pt x="2591" y="7510"/>
                  <a:pt x="2654" y="7615"/>
                </a:cubicBezTo>
                <a:cubicBezTo>
                  <a:pt x="2724" y="7731"/>
                  <a:pt x="2808" y="7841"/>
                  <a:pt x="2902" y="7938"/>
                </a:cubicBezTo>
                <a:cubicBezTo>
                  <a:pt x="2966" y="8004"/>
                  <a:pt x="3090" y="8125"/>
                  <a:pt x="3175" y="8161"/>
                </a:cubicBezTo>
                <a:cubicBezTo>
                  <a:pt x="3216" y="8161"/>
                  <a:pt x="3224" y="8161"/>
                  <a:pt x="3249" y="8161"/>
                </a:cubicBezTo>
              </a:path>
              <a:path w="8311" h="1762">
                <a:moveTo>
                  <a:pt x="2877" y="6995"/>
                </a:moveTo>
                <a:cubicBezTo>
                  <a:pt x="2838" y="7085"/>
                  <a:pt x="2815" y="7179"/>
                  <a:pt x="2778" y="7268"/>
                </a:cubicBezTo>
                <a:cubicBezTo>
                  <a:pt x="2720" y="7409"/>
                  <a:pt x="2671" y="7551"/>
                  <a:pt x="2604" y="7689"/>
                </a:cubicBezTo>
                <a:cubicBezTo>
                  <a:pt x="2543" y="7815"/>
                  <a:pt x="2498" y="7930"/>
                  <a:pt x="2456" y="8062"/>
                </a:cubicBezTo>
                <a:cubicBezTo>
                  <a:pt x="2435" y="8127"/>
                  <a:pt x="2414" y="8170"/>
                  <a:pt x="2406" y="8235"/>
                </a:cubicBezTo>
              </a:path>
              <a:path w="8311" h="1762">
                <a:moveTo>
                  <a:pt x="3150" y="6499"/>
                </a:moveTo>
                <a:cubicBezTo>
                  <a:pt x="3224" y="6479"/>
                  <a:pt x="3320" y="6453"/>
                  <a:pt x="3398" y="6474"/>
                </a:cubicBezTo>
                <a:cubicBezTo>
                  <a:pt x="3449" y="6487"/>
                  <a:pt x="3510" y="6546"/>
                  <a:pt x="3522" y="6598"/>
                </a:cubicBezTo>
                <a:cubicBezTo>
                  <a:pt x="3532" y="6641"/>
                  <a:pt x="3490" y="6703"/>
                  <a:pt x="3448" y="6722"/>
                </a:cubicBezTo>
                <a:cubicBezTo>
                  <a:pt x="3413" y="6722"/>
                  <a:pt x="3395" y="6727"/>
                  <a:pt x="3373" y="6747"/>
                </a:cubicBezTo>
                <a:cubicBezTo>
                  <a:pt x="3422" y="6771"/>
                  <a:pt x="3499" y="6833"/>
                  <a:pt x="3547" y="6846"/>
                </a:cubicBezTo>
                <a:cubicBezTo>
                  <a:pt x="3608" y="6862"/>
                  <a:pt x="3600" y="6850"/>
                  <a:pt x="3646" y="6896"/>
                </a:cubicBezTo>
                <a:cubicBezTo>
                  <a:pt x="3592" y="6950"/>
                  <a:pt x="3522" y="6980"/>
                  <a:pt x="3448" y="6995"/>
                </a:cubicBezTo>
                <a:cubicBezTo>
                  <a:pt x="3379" y="7009"/>
                  <a:pt x="3334" y="6984"/>
                  <a:pt x="3274" y="7020"/>
                </a:cubicBezTo>
              </a:path>
              <a:path w="8311" h="1762">
                <a:moveTo>
                  <a:pt x="3597" y="7665"/>
                </a:moveTo>
                <a:cubicBezTo>
                  <a:pt x="3680" y="7675"/>
                  <a:pt x="3761" y="7705"/>
                  <a:pt x="3845" y="7714"/>
                </a:cubicBezTo>
                <a:cubicBezTo>
                  <a:pt x="3957" y="7727"/>
                  <a:pt x="4079" y="7714"/>
                  <a:pt x="4192" y="7714"/>
                </a:cubicBezTo>
              </a:path>
              <a:path w="8311" h="1762">
                <a:moveTo>
                  <a:pt x="4440" y="7342"/>
                </a:moveTo>
                <a:cubicBezTo>
                  <a:pt x="4541" y="7270"/>
                  <a:pt x="4591" y="7224"/>
                  <a:pt x="4713" y="7218"/>
                </a:cubicBezTo>
                <a:cubicBezTo>
                  <a:pt x="4778" y="7215"/>
                  <a:pt x="4870" y="7236"/>
                  <a:pt x="4911" y="7293"/>
                </a:cubicBezTo>
                <a:cubicBezTo>
                  <a:pt x="4975" y="7382"/>
                  <a:pt x="4923" y="7450"/>
                  <a:pt x="4862" y="7516"/>
                </a:cubicBezTo>
                <a:cubicBezTo>
                  <a:pt x="4809" y="7574"/>
                  <a:pt x="4758" y="7605"/>
                  <a:pt x="4688" y="7640"/>
                </a:cubicBezTo>
                <a:cubicBezTo>
                  <a:pt x="4640" y="7664"/>
                  <a:pt x="4626" y="7672"/>
                  <a:pt x="4589" y="7665"/>
                </a:cubicBezTo>
                <a:cubicBezTo>
                  <a:pt x="4684" y="7665"/>
                  <a:pt x="4727" y="7672"/>
                  <a:pt x="4812" y="7714"/>
                </a:cubicBezTo>
                <a:cubicBezTo>
                  <a:pt x="4890" y="7753"/>
                  <a:pt x="4944" y="7813"/>
                  <a:pt x="4986" y="7888"/>
                </a:cubicBezTo>
                <a:cubicBezTo>
                  <a:pt x="5015" y="7939"/>
                  <a:pt x="5036" y="8037"/>
                  <a:pt x="4986" y="8086"/>
                </a:cubicBezTo>
                <a:cubicBezTo>
                  <a:pt x="4933" y="8139"/>
                  <a:pt x="4854" y="8136"/>
                  <a:pt x="4787" y="8136"/>
                </a:cubicBezTo>
                <a:cubicBezTo>
                  <a:pt x="4695" y="8136"/>
                  <a:pt x="4634" y="8112"/>
                  <a:pt x="4589" y="8037"/>
                </a:cubicBezTo>
              </a:path>
              <a:path w="8311" h="1762">
                <a:moveTo>
                  <a:pt x="5283" y="7516"/>
                </a:moveTo>
                <a:cubicBezTo>
                  <a:pt x="5340" y="7605"/>
                  <a:pt x="5382" y="7697"/>
                  <a:pt x="5432" y="7789"/>
                </a:cubicBezTo>
                <a:cubicBezTo>
                  <a:pt x="5482" y="7881"/>
                  <a:pt x="5554" y="7970"/>
                  <a:pt x="5631" y="8037"/>
                </a:cubicBezTo>
                <a:cubicBezTo>
                  <a:pt x="5701" y="8098"/>
                  <a:pt x="5813" y="8167"/>
                  <a:pt x="5904" y="8186"/>
                </a:cubicBezTo>
                <a:cubicBezTo>
                  <a:pt x="5953" y="8186"/>
                  <a:pt x="5970" y="8186"/>
                  <a:pt x="6003" y="8186"/>
                </a:cubicBezTo>
              </a:path>
              <a:path w="8311" h="1762">
                <a:moveTo>
                  <a:pt x="5581" y="7466"/>
                </a:moveTo>
                <a:cubicBezTo>
                  <a:pt x="5483" y="7614"/>
                  <a:pt x="5399" y="7771"/>
                  <a:pt x="5333" y="7938"/>
                </a:cubicBezTo>
                <a:cubicBezTo>
                  <a:pt x="5303" y="8014"/>
                  <a:pt x="5269" y="8082"/>
                  <a:pt x="5259" y="8161"/>
                </a:cubicBezTo>
              </a:path>
              <a:path w="8311" h="1762">
                <a:moveTo>
                  <a:pt x="5680" y="6970"/>
                </a:moveTo>
                <a:cubicBezTo>
                  <a:pt x="5817" y="6956"/>
                  <a:pt x="5866" y="6942"/>
                  <a:pt x="5978" y="7020"/>
                </a:cubicBezTo>
                <a:cubicBezTo>
                  <a:pt x="6030" y="7056"/>
                  <a:pt x="6005" y="7149"/>
                  <a:pt x="5978" y="7193"/>
                </a:cubicBezTo>
                <a:cubicBezTo>
                  <a:pt x="5950" y="7238"/>
                  <a:pt x="5892" y="7280"/>
                  <a:pt x="5854" y="7317"/>
                </a:cubicBezTo>
                <a:cubicBezTo>
                  <a:pt x="5918" y="7349"/>
                  <a:pt x="5999" y="7364"/>
                  <a:pt x="6077" y="7367"/>
                </a:cubicBezTo>
                <a:cubicBezTo>
                  <a:pt x="6152" y="7367"/>
                  <a:pt x="6176" y="7367"/>
                  <a:pt x="6226" y="7367"/>
                </a:cubicBezTo>
              </a:path>
              <a:path w="8311" h="1762">
                <a:moveTo>
                  <a:pt x="6226" y="7590"/>
                </a:moveTo>
                <a:cubicBezTo>
                  <a:pt x="6316" y="7624"/>
                  <a:pt x="6400" y="7637"/>
                  <a:pt x="6499" y="7640"/>
                </a:cubicBezTo>
                <a:cubicBezTo>
                  <a:pt x="6581" y="7640"/>
                  <a:pt x="6614" y="7640"/>
                  <a:pt x="6672" y="7640"/>
                </a:cubicBezTo>
              </a:path>
              <a:path w="8311" h="1762">
                <a:moveTo>
                  <a:pt x="7119" y="7317"/>
                </a:moveTo>
                <a:cubicBezTo>
                  <a:pt x="7119" y="7494"/>
                  <a:pt x="7123" y="7669"/>
                  <a:pt x="7144" y="7838"/>
                </a:cubicBezTo>
                <a:cubicBezTo>
                  <a:pt x="7147" y="7860"/>
                  <a:pt x="7144" y="8055"/>
                  <a:pt x="7169" y="8062"/>
                </a:cubicBezTo>
                <a:cubicBezTo>
                  <a:pt x="7185" y="8054"/>
                  <a:pt x="7202" y="8045"/>
                  <a:pt x="7218" y="8037"/>
                </a:cubicBezTo>
              </a:path>
              <a:path w="8311" h="1762">
                <a:moveTo>
                  <a:pt x="7466" y="7293"/>
                </a:moveTo>
                <a:cubicBezTo>
                  <a:pt x="7440" y="7413"/>
                  <a:pt x="7391" y="7560"/>
                  <a:pt x="7417" y="7689"/>
                </a:cubicBezTo>
                <a:cubicBezTo>
                  <a:pt x="7433" y="7770"/>
                  <a:pt x="7497" y="7887"/>
                  <a:pt x="7565" y="7938"/>
                </a:cubicBezTo>
                <a:cubicBezTo>
                  <a:pt x="7636" y="7992"/>
                  <a:pt x="7699" y="8024"/>
                  <a:pt x="7789" y="8037"/>
                </a:cubicBezTo>
                <a:cubicBezTo>
                  <a:pt x="7869" y="8049"/>
                  <a:pt x="7964" y="8000"/>
                  <a:pt x="8012" y="7938"/>
                </a:cubicBezTo>
                <a:cubicBezTo>
                  <a:pt x="8068" y="7866"/>
                  <a:pt x="8083" y="7752"/>
                  <a:pt x="8086" y="7665"/>
                </a:cubicBezTo>
                <a:cubicBezTo>
                  <a:pt x="8090" y="7535"/>
                  <a:pt x="8053" y="7426"/>
                  <a:pt x="7987" y="7317"/>
                </a:cubicBezTo>
                <a:cubicBezTo>
                  <a:pt x="7945" y="7247"/>
                  <a:pt x="7842" y="7120"/>
                  <a:pt x="7764" y="7094"/>
                </a:cubicBezTo>
                <a:cubicBezTo>
                  <a:pt x="7680" y="7066"/>
                  <a:pt x="7590" y="7067"/>
                  <a:pt x="7516" y="7119"/>
                </a:cubicBezTo>
                <a:cubicBezTo>
                  <a:pt x="7456" y="7161"/>
                  <a:pt x="7420" y="7217"/>
                  <a:pt x="7441" y="7293"/>
                </a:cubicBezTo>
                <a:cubicBezTo>
                  <a:pt x="7463" y="7373"/>
                  <a:pt x="7575" y="7410"/>
                  <a:pt x="7640" y="7441"/>
                </a:cubicBezTo>
                <a:cubicBezTo>
                  <a:pt x="7656" y="7449"/>
                  <a:pt x="7673" y="7458"/>
                  <a:pt x="7689" y="7466"/>
                </a:cubicBezTo>
              </a:path>
              <a:path w="8311" h="1762">
                <a:moveTo>
                  <a:pt x="8235" y="7243"/>
                </a:moveTo>
                <a:cubicBezTo>
                  <a:pt x="8296" y="7398"/>
                  <a:pt x="8333" y="7449"/>
                  <a:pt x="8434" y="7565"/>
                </a:cubicBezTo>
                <a:cubicBezTo>
                  <a:pt x="8523" y="7667"/>
                  <a:pt x="8592" y="7737"/>
                  <a:pt x="8706" y="7813"/>
                </a:cubicBezTo>
                <a:cubicBezTo>
                  <a:pt x="8799" y="7875"/>
                  <a:pt x="8851" y="7939"/>
                  <a:pt x="8954" y="7913"/>
                </a:cubicBezTo>
              </a:path>
              <a:path w="8311" h="1762">
                <a:moveTo>
                  <a:pt x="8558" y="7193"/>
                </a:moveTo>
                <a:cubicBezTo>
                  <a:pt x="8493" y="7316"/>
                  <a:pt x="8415" y="7440"/>
                  <a:pt x="8359" y="7565"/>
                </a:cubicBezTo>
                <a:cubicBezTo>
                  <a:pt x="8323" y="7645"/>
                  <a:pt x="8291" y="7731"/>
                  <a:pt x="8260" y="7813"/>
                </a:cubicBezTo>
                <a:cubicBezTo>
                  <a:pt x="8241" y="7871"/>
                  <a:pt x="8232" y="7878"/>
                  <a:pt x="8235" y="7913"/>
                </a:cubicBezTo>
              </a:path>
              <a:path w="8311" h="1762">
                <a:moveTo>
                  <a:pt x="8954" y="7392"/>
                </a:moveTo>
                <a:cubicBezTo>
                  <a:pt x="9103" y="7392"/>
                  <a:pt x="9252" y="7392"/>
                  <a:pt x="9401" y="7392"/>
                </a:cubicBezTo>
              </a:path>
              <a:path w="8311" h="1762">
                <a:moveTo>
                  <a:pt x="8979" y="7615"/>
                </a:moveTo>
                <a:cubicBezTo>
                  <a:pt x="9190" y="7629"/>
                  <a:pt x="9260" y="7624"/>
                  <a:pt x="9451" y="7565"/>
                </a:cubicBezTo>
              </a:path>
              <a:path w="8311" h="1762">
                <a:moveTo>
                  <a:pt x="9897" y="7045"/>
                </a:moveTo>
                <a:cubicBezTo>
                  <a:pt x="9788" y="7187"/>
                  <a:pt x="9773" y="7200"/>
                  <a:pt x="9773" y="7367"/>
                </a:cubicBezTo>
                <a:cubicBezTo>
                  <a:pt x="9773" y="7504"/>
                  <a:pt x="9820" y="7561"/>
                  <a:pt x="9897" y="7665"/>
                </a:cubicBezTo>
                <a:cubicBezTo>
                  <a:pt x="9978" y="7774"/>
                  <a:pt x="10073" y="7810"/>
                  <a:pt x="10195" y="7863"/>
                </a:cubicBezTo>
                <a:cubicBezTo>
                  <a:pt x="10311" y="7913"/>
                  <a:pt x="10415" y="7898"/>
                  <a:pt x="10517" y="7838"/>
                </a:cubicBezTo>
                <a:cubicBezTo>
                  <a:pt x="10654" y="7758"/>
                  <a:pt x="10696" y="7675"/>
                  <a:pt x="10716" y="7516"/>
                </a:cubicBezTo>
                <a:cubicBezTo>
                  <a:pt x="10733" y="7374"/>
                  <a:pt x="10662" y="7260"/>
                  <a:pt x="10592" y="7144"/>
                </a:cubicBezTo>
                <a:cubicBezTo>
                  <a:pt x="10527" y="7035"/>
                  <a:pt x="10394" y="6950"/>
                  <a:pt x="10269" y="6921"/>
                </a:cubicBezTo>
                <a:cubicBezTo>
                  <a:pt x="10178" y="6900"/>
                  <a:pt x="10083" y="6885"/>
                  <a:pt x="9996" y="6921"/>
                </a:cubicBezTo>
                <a:cubicBezTo>
                  <a:pt x="9953" y="6942"/>
                  <a:pt x="9941" y="6946"/>
                  <a:pt x="9922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Ink 4"/>
          <p:cNvSpPr/>
          <p:nvPr/>
        </p:nvSpPr>
        <p:spPr>
          <a:xfrm>
            <a:off x="482760" y="3054240"/>
            <a:ext cx="2633400" cy="571680"/>
          </a:xfrm>
          <a:custGeom>
            <a:avLst/>
            <a:gdLst/>
            <a:ahLst/>
            <a:rect l="l" t="t" r="r" b="b"/>
            <a:pathLst>
              <a:path w="7319" h="1589">
                <a:moveTo>
                  <a:pt x="1339" y="9029"/>
                </a:moveTo>
                <a:cubicBezTo>
                  <a:pt x="1383" y="9106"/>
                  <a:pt x="1438" y="9177"/>
                  <a:pt x="1488" y="9252"/>
                </a:cubicBezTo>
                <a:cubicBezTo>
                  <a:pt x="1568" y="9373"/>
                  <a:pt x="1636" y="9504"/>
                  <a:pt x="1712" y="9624"/>
                </a:cubicBezTo>
                <a:cubicBezTo>
                  <a:pt x="1792" y="9750"/>
                  <a:pt x="1890" y="9832"/>
                  <a:pt x="1984" y="9947"/>
                </a:cubicBezTo>
                <a:cubicBezTo>
                  <a:pt x="2050" y="10027"/>
                  <a:pt x="2067" y="10037"/>
                  <a:pt x="2158" y="10071"/>
                </a:cubicBezTo>
              </a:path>
              <a:path w="7319" h="1589">
                <a:moveTo>
                  <a:pt x="1761" y="9029"/>
                </a:moveTo>
                <a:cubicBezTo>
                  <a:pt x="1696" y="9225"/>
                  <a:pt x="1604" y="9406"/>
                  <a:pt x="1538" y="9599"/>
                </a:cubicBezTo>
                <a:cubicBezTo>
                  <a:pt x="1502" y="9703"/>
                  <a:pt x="1463" y="9798"/>
                  <a:pt x="1414" y="9897"/>
                </a:cubicBezTo>
              </a:path>
              <a:path w="7319" h="1589">
                <a:moveTo>
                  <a:pt x="2505" y="8682"/>
                </a:moveTo>
                <a:cubicBezTo>
                  <a:pt x="2540" y="8774"/>
                  <a:pt x="2521" y="8836"/>
                  <a:pt x="2480" y="8930"/>
                </a:cubicBezTo>
                <a:cubicBezTo>
                  <a:pt x="2411" y="9089"/>
                  <a:pt x="2326" y="9207"/>
                  <a:pt x="2282" y="9376"/>
                </a:cubicBezTo>
                <a:cubicBezTo>
                  <a:pt x="2246" y="9515"/>
                  <a:pt x="2209" y="9683"/>
                  <a:pt x="2257" y="9823"/>
                </a:cubicBezTo>
                <a:cubicBezTo>
                  <a:pt x="2310" y="9978"/>
                  <a:pt x="2360" y="10033"/>
                  <a:pt x="2505" y="10046"/>
                </a:cubicBezTo>
              </a:path>
              <a:path w="7319" h="1589">
                <a:moveTo>
                  <a:pt x="3001" y="9103"/>
                </a:moveTo>
                <a:cubicBezTo>
                  <a:pt x="3044" y="9200"/>
                  <a:pt x="3083" y="9282"/>
                  <a:pt x="3125" y="9376"/>
                </a:cubicBezTo>
                <a:cubicBezTo>
                  <a:pt x="3198" y="9541"/>
                  <a:pt x="3298" y="9648"/>
                  <a:pt x="3423" y="9773"/>
                </a:cubicBezTo>
                <a:cubicBezTo>
                  <a:pt x="3488" y="9838"/>
                  <a:pt x="3582" y="9962"/>
                  <a:pt x="3671" y="9996"/>
                </a:cubicBezTo>
                <a:cubicBezTo>
                  <a:pt x="3688" y="9996"/>
                  <a:pt x="3704" y="9996"/>
                  <a:pt x="3721" y="9996"/>
                </a:cubicBezTo>
              </a:path>
              <a:path w="7319" h="1589">
                <a:moveTo>
                  <a:pt x="3522" y="8954"/>
                </a:moveTo>
                <a:cubicBezTo>
                  <a:pt x="3439" y="9030"/>
                  <a:pt x="3362" y="9136"/>
                  <a:pt x="3324" y="9252"/>
                </a:cubicBezTo>
                <a:cubicBezTo>
                  <a:pt x="3284" y="9375"/>
                  <a:pt x="3236" y="9498"/>
                  <a:pt x="3200" y="9624"/>
                </a:cubicBezTo>
                <a:cubicBezTo>
                  <a:pt x="3182" y="9688"/>
                  <a:pt x="3127" y="9825"/>
                  <a:pt x="3150" y="9847"/>
                </a:cubicBezTo>
              </a:path>
              <a:path w="7319" h="1589">
                <a:moveTo>
                  <a:pt x="3721" y="8483"/>
                </a:moveTo>
                <a:cubicBezTo>
                  <a:pt x="3821" y="8489"/>
                  <a:pt x="3965" y="8473"/>
                  <a:pt x="3994" y="8607"/>
                </a:cubicBezTo>
                <a:cubicBezTo>
                  <a:pt x="4012" y="8687"/>
                  <a:pt x="3988" y="8787"/>
                  <a:pt x="3944" y="8855"/>
                </a:cubicBezTo>
                <a:cubicBezTo>
                  <a:pt x="3930" y="8876"/>
                  <a:pt x="3850" y="8922"/>
                  <a:pt x="3870" y="8954"/>
                </a:cubicBezTo>
                <a:cubicBezTo>
                  <a:pt x="3918" y="9030"/>
                  <a:pt x="4108" y="9014"/>
                  <a:pt x="4192" y="9029"/>
                </a:cubicBezTo>
              </a:path>
              <a:path w="7319" h="1589">
                <a:moveTo>
                  <a:pt x="4167" y="9302"/>
                </a:moveTo>
                <a:cubicBezTo>
                  <a:pt x="4286" y="9302"/>
                  <a:pt x="4404" y="9314"/>
                  <a:pt x="4514" y="9277"/>
                </a:cubicBezTo>
              </a:path>
              <a:path w="7319" h="1589">
                <a:moveTo>
                  <a:pt x="4911" y="8954"/>
                </a:moveTo>
                <a:cubicBezTo>
                  <a:pt x="5004" y="8904"/>
                  <a:pt x="5036" y="8887"/>
                  <a:pt x="5135" y="8930"/>
                </a:cubicBezTo>
                <a:cubicBezTo>
                  <a:pt x="5218" y="8966"/>
                  <a:pt x="5224" y="9024"/>
                  <a:pt x="5184" y="9103"/>
                </a:cubicBezTo>
                <a:cubicBezTo>
                  <a:pt x="5150" y="9170"/>
                  <a:pt x="5080" y="9241"/>
                  <a:pt x="5011" y="9252"/>
                </a:cubicBezTo>
                <a:cubicBezTo>
                  <a:pt x="4957" y="9261"/>
                  <a:pt x="4941" y="9269"/>
                  <a:pt x="4887" y="9277"/>
                </a:cubicBezTo>
                <a:cubicBezTo>
                  <a:pt x="4980" y="9308"/>
                  <a:pt x="5045" y="9321"/>
                  <a:pt x="5110" y="9401"/>
                </a:cubicBezTo>
                <a:cubicBezTo>
                  <a:pt x="5158" y="9460"/>
                  <a:pt x="5198" y="9545"/>
                  <a:pt x="5184" y="9624"/>
                </a:cubicBezTo>
                <a:cubicBezTo>
                  <a:pt x="5168" y="9713"/>
                  <a:pt x="5054" y="9710"/>
                  <a:pt x="4986" y="9699"/>
                </a:cubicBezTo>
                <a:cubicBezTo>
                  <a:pt x="4877" y="9681"/>
                  <a:pt x="4838" y="9637"/>
                  <a:pt x="4787" y="9550"/>
                </a:cubicBezTo>
              </a:path>
              <a:path w="7319" h="1589">
                <a:moveTo>
                  <a:pt x="5556" y="9103"/>
                </a:moveTo>
                <a:cubicBezTo>
                  <a:pt x="5757" y="9437"/>
                  <a:pt x="5767" y="9421"/>
                  <a:pt x="5978" y="9624"/>
                </a:cubicBezTo>
                <a:cubicBezTo>
                  <a:pt x="6073" y="9715"/>
                  <a:pt x="6117" y="9785"/>
                  <a:pt x="6251" y="9823"/>
                </a:cubicBezTo>
                <a:cubicBezTo>
                  <a:pt x="6259" y="9823"/>
                  <a:pt x="6268" y="9823"/>
                  <a:pt x="6276" y="9823"/>
                </a:cubicBezTo>
              </a:path>
              <a:path w="7319" h="1589">
                <a:moveTo>
                  <a:pt x="6127" y="9004"/>
                </a:moveTo>
                <a:cubicBezTo>
                  <a:pt x="6020" y="9137"/>
                  <a:pt x="5919" y="9260"/>
                  <a:pt x="5829" y="9401"/>
                </a:cubicBezTo>
                <a:cubicBezTo>
                  <a:pt x="5771" y="9492"/>
                  <a:pt x="5724" y="9587"/>
                  <a:pt x="5680" y="9674"/>
                </a:cubicBezTo>
                <a:cubicBezTo>
                  <a:pt x="5658" y="9696"/>
                  <a:pt x="5649" y="9701"/>
                  <a:pt x="5655" y="9723"/>
                </a:cubicBezTo>
              </a:path>
              <a:path w="7319" h="1589">
                <a:moveTo>
                  <a:pt x="6325" y="9277"/>
                </a:moveTo>
                <a:cubicBezTo>
                  <a:pt x="6433" y="9272"/>
                  <a:pt x="6519" y="9261"/>
                  <a:pt x="6623" y="9252"/>
                </a:cubicBezTo>
              </a:path>
              <a:path w="7319" h="1589">
                <a:moveTo>
                  <a:pt x="6945" y="8954"/>
                </a:moveTo>
                <a:cubicBezTo>
                  <a:pt x="6945" y="9131"/>
                  <a:pt x="6964" y="9302"/>
                  <a:pt x="6970" y="9475"/>
                </a:cubicBezTo>
                <a:cubicBezTo>
                  <a:pt x="6972" y="9541"/>
                  <a:pt x="6982" y="9617"/>
                  <a:pt x="7020" y="9674"/>
                </a:cubicBezTo>
                <a:cubicBezTo>
                  <a:pt x="7028" y="9682"/>
                  <a:pt x="7037" y="9691"/>
                  <a:pt x="7045" y="9699"/>
                </a:cubicBezTo>
              </a:path>
              <a:path w="7319" h="1589">
                <a:moveTo>
                  <a:pt x="7293" y="9004"/>
                </a:moveTo>
                <a:cubicBezTo>
                  <a:pt x="7260" y="9136"/>
                  <a:pt x="7208" y="9266"/>
                  <a:pt x="7268" y="9401"/>
                </a:cubicBezTo>
                <a:cubicBezTo>
                  <a:pt x="7297" y="9465"/>
                  <a:pt x="7427" y="9599"/>
                  <a:pt x="7491" y="9624"/>
                </a:cubicBezTo>
                <a:cubicBezTo>
                  <a:pt x="7605" y="9668"/>
                  <a:pt x="7748" y="9620"/>
                  <a:pt x="7813" y="9550"/>
                </a:cubicBezTo>
                <a:cubicBezTo>
                  <a:pt x="7875" y="9483"/>
                  <a:pt x="7880" y="9338"/>
                  <a:pt x="7888" y="9252"/>
                </a:cubicBezTo>
                <a:cubicBezTo>
                  <a:pt x="7895" y="9173"/>
                  <a:pt x="7860" y="9004"/>
                  <a:pt x="7789" y="8954"/>
                </a:cubicBezTo>
                <a:cubicBezTo>
                  <a:pt x="7763" y="8935"/>
                  <a:pt x="7626" y="8911"/>
                  <a:pt x="7590" y="8905"/>
                </a:cubicBezTo>
                <a:cubicBezTo>
                  <a:pt x="7534" y="8895"/>
                  <a:pt x="7506" y="8923"/>
                  <a:pt x="7466" y="8954"/>
                </a:cubicBezTo>
              </a:path>
              <a:path w="7319" h="1589">
                <a:moveTo>
                  <a:pt x="8210" y="9178"/>
                </a:moveTo>
                <a:cubicBezTo>
                  <a:pt x="8331" y="9191"/>
                  <a:pt x="8412" y="9227"/>
                  <a:pt x="8533" y="9227"/>
                </a:cubicBezTo>
                <a:cubicBezTo>
                  <a:pt x="8558" y="9227"/>
                  <a:pt x="8582" y="9227"/>
                  <a:pt x="8607" y="9227"/>
                </a:cubicBezTo>
              </a:path>
              <a:path w="7319" h="1589">
                <a:moveTo>
                  <a:pt x="7863" y="8558"/>
                </a:moveTo>
                <a:cubicBezTo>
                  <a:pt x="7872" y="8680"/>
                  <a:pt x="7917" y="8786"/>
                  <a:pt x="7938" y="8905"/>
                </a:cubicBezTo>
                <a:cubicBezTo>
                  <a:pt x="7958" y="9020"/>
                  <a:pt x="7992" y="9137"/>
                  <a:pt x="8012" y="9252"/>
                </a:cubicBezTo>
                <a:cubicBezTo>
                  <a:pt x="8029" y="9347"/>
                  <a:pt x="8006" y="9438"/>
                  <a:pt x="7987" y="9525"/>
                </a:cubicBezTo>
                <a:cubicBezTo>
                  <a:pt x="7972" y="9595"/>
                  <a:pt x="7976" y="9581"/>
                  <a:pt x="7913" y="9599"/>
                </a:cubicBezTo>
              </a:path>
              <a:path w="7319" h="1589">
                <a:moveTo>
                  <a:pt x="8359" y="9376"/>
                </a:moveTo>
                <a:cubicBezTo>
                  <a:pt x="8448" y="9400"/>
                  <a:pt x="8514" y="9401"/>
                  <a:pt x="8607" y="9401"/>
                </a:cubicBezTo>
                <a:cubicBezTo>
                  <a:pt x="8624" y="9401"/>
                  <a:pt x="8640" y="9401"/>
                  <a:pt x="865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Ink 5"/>
          <p:cNvSpPr/>
          <p:nvPr/>
        </p:nvSpPr>
        <p:spPr>
          <a:xfrm>
            <a:off x="3303720" y="3160800"/>
            <a:ext cx="285480" cy="349200"/>
          </a:xfrm>
          <a:custGeom>
            <a:avLst/>
            <a:gdLst/>
            <a:ahLst/>
            <a:rect l="l" t="t" r="r" b="b"/>
            <a:pathLst>
              <a:path w="794" h="968">
                <a:moveTo>
                  <a:pt x="9277" y="8905"/>
                </a:moveTo>
                <a:cubicBezTo>
                  <a:pt x="9228" y="9029"/>
                  <a:pt x="9183" y="9121"/>
                  <a:pt x="9178" y="9252"/>
                </a:cubicBezTo>
                <a:cubicBezTo>
                  <a:pt x="9173" y="9381"/>
                  <a:pt x="9192" y="9440"/>
                  <a:pt x="9252" y="9550"/>
                </a:cubicBezTo>
                <a:cubicBezTo>
                  <a:pt x="9299" y="9637"/>
                  <a:pt x="9410" y="9689"/>
                  <a:pt x="9500" y="9723"/>
                </a:cubicBezTo>
                <a:cubicBezTo>
                  <a:pt x="9592" y="9758"/>
                  <a:pt x="9695" y="9773"/>
                  <a:pt x="9773" y="9699"/>
                </a:cubicBezTo>
                <a:cubicBezTo>
                  <a:pt x="9844" y="9631"/>
                  <a:pt x="9920" y="9551"/>
                  <a:pt x="9947" y="9451"/>
                </a:cubicBezTo>
                <a:cubicBezTo>
                  <a:pt x="9979" y="9330"/>
                  <a:pt x="9981" y="9216"/>
                  <a:pt x="9922" y="9103"/>
                </a:cubicBezTo>
                <a:cubicBezTo>
                  <a:pt x="9862" y="8987"/>
                  <a:pt x="9745" y="8900"/>
                  <a:pt x="9624" y="8855"/>
                </a:cubicBezTo>
                <a:cubicBezTo>
                  <a:pt x="9492" y="8822"/>
                  <a:pt x="9426" y="8805"/>
                  <a:pt x="9327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Ink 6"/>
          <p:cNvSpPr/>
          <p:nvPr/>
        </p:nvSpPr>
        <p:spPr>
          <a:xfrm>
            <a:off x="527040" y="3848040"/>
            <a:ext cx="223920" cy="339840"/>
          </a:xfrm>
          <a:custGeom>
            <a:avLst/>
            <a:gdLst/>
            <a:ahLst/>
            <a:rect l="l" t="t" r="r" b="b"/>
            <a:pathLst>
              <a:path w="622" h="943">
                <a:moveTo>
                  <a:pt x="1463" y="10691"/>
                </a:moveTo>
                <a:cubicBezTo>
                  <a:pt x="1507" y="10834"/>
                  <a:pt x="1550" y="10975"/>
                  <a:pt x="1612" y="11112"/>
                </a:cubicBezTo>
                <a:cubicBezTo>
                  <a:pt x="1670" y="11241"/>
                  <a:pt x="1764" y="11409"/>
                  <a:pt x="1860" y="11509"/>
                </a:cubicBezTo>
                <a:cubicBezTo>
                  <a:pt x="1923" y="11574"/>
                  <a:pt x="1998" y="11623"/>
                  <a:pt x="2084" y="11633"/>
                </a:cubicBezTo>
              </a:path>
              <a:path w="622" h="943">
                <a:moveTo>
                  <a:pt x="1984" y="10691"/>
                </a:moveTo>
                <a:cubicBezTo>
                  <a:pt x="1874" y="10853"/>
                  <a:pt x="1762" y="11019"/>
                  <a:pt x="1662" y="11187"/>
                </a:cubicBezTo>
                <a:cubicBezTo>
                  <a:pt x="1602" y="11288"/>
                  <a:pt x="1561" y="11413"/>
                  <a:pt x="1513" y="11509"/>
                </a:cubicBezTo>
                <a:cubicBezTo>
                  <a:pt x="1483" y="11539"/>
                  <a:pt x="1478" y="11553"/>
                  <a:pt x="1513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Ink 7"/>
          <p:cNvSpPr/>
          <p:nvPr/>
        </p:nvSpPr>
        <p:spPr>
          <a:xfrm>
            <a:off x="1035000" y="3589200"/>
            <a:ext cx="2376360" cy="706680"/>
          </a:xfrm>
          <a:custGeom>
            <a:avLst/>
            <a:gdLst/>
            <a:ahLst/>
            <a:rect l="l" t="t" r="r" b="b"/>
            <a:pathLst>
              <a:path w="6599" h="1961">
                <a:moveTo>
                  <a:pt x="2952" y="10641"/>
                </a:moveTo>
                <a:cubicBezTo>
                  <a:pt x="2909" y="10907"/>
                  <a:pt x="2822" y="11195"/>
                  <a:pt x="2902" y="11460"/>
                </a:cubicBezTo>
                <a:cubicBezTo>
                  <a:pt x="2953" y="11631"/>
                  <a:pt x="3147" y="11802"/>
                  <a:pt x="3299" y="11881"/>
                </a:cubicBezTo>
                <a:cubicBezTo>
                  <a:pt x="3340" y="11898"/>
                  <a:pt x="3382" y="11914"/>
                  <a:pt x="3423" y="11931"/>
                </a:cubicBezTo>
              </a:path>
              <a:path w="6599" h="1961">
                <a:moveTo>
                  <a:pt x="6028" y="10815"/>
                </a:moveTo>
                <a:cubicBezTo>
                  <a:pt x="6080" y="11024"/>
                  <a:pt x="6088" y="11195"/>
                  <a:pt x="6052" y="11410"/>
                </a:cubicBezTo>
                <a:cubicBezTo>
                  <a:pt x="6026" y="11564"/>
                  <a:pt x="5949" y="11705"/>
                  <a:pt x="5829" y="11807"/>
                </a:cubicBezTo>
                <a:cubicBezTo>
                  <a:pt x="5754" y="11870"/>
                  <a:pt x="5684" y="11878"/>
                  <a:pt x="5631" y="11807"/>
                </a:cubicBezTo>
              </a:path>
              <a:path w="6599" h="1961">
                <a:moveTo>
                  <a:pt x="6548" y="10542"/>
                </a:moveTo>
                <a:cubicBezTo>
                  <a:pt x="6484" y="10659"/>
                  <a:pt x="6392" y="10734"/>
                  <a:pt x="6350" y="10864"/>
                </a:cubicBezTo>
                <a:cubicBezTo>
                  <a:pt x="6292" y="11041"/>
                  <a:pt x="6309" y="11265"/>
                  <a:pt x="6375" y="11435"/>
                </a:cubicBezTo>
                <a:cubicBezTo>
                  <a:pt x="6460" y="11655"/>
                  <a:pt x="6646" y="11737"/>
                  <a:pt x="6846" y="11832"/>
                </a:cubicBezTo>
              </a:path>
              <a:path w="6599" h="1961">
                <a:moveTo>
                  <a:pt x="8979" y="9971"/>
                </a:moveTo>
                <a:cubicBezTo>
                  <a:pt x="9260" y="10205"/>
                  <a:pt x="9357" y="10286"/>
                  <a:pt x="9426" y="10641"/>
                </a:cubicBezTo>
                <a:cubicBezTo>
                  <a:pt x="9462" y="10827"/>
                  <a:pt x="9495" y="11022"/>
                  <a:pt x="9475" y="11212"/>
                </a:cubicBezTo>
                <a:cubicBezTo>
                  <a:pt x="9463" y="11325"/>
                  <a:pt x="9422" y="11432"/>
                  <a:pt x="9376" y="11534"/>
                </a:cubicBezTo>
              </a:path>
              <a:path w="6599" h="1961">
                <a:moveTo>
                  <a:pt x="3497" y="10790"/>
                </a:moveTo>
                <a:cubicBezTo>
                  <a:pt x="3525" y="10917"/>
                  <a:pt x="3603" y="11045"/>
                  <a:pt x="3671" y="11162"/>
                </a:cubicBezTo>
                <a:cubicBezTo>
                  <a:pt x="3760" y="11316"/>
                  <a:pt x="3852" y="11474"/>
                  <a:pt x="3969" y="11609"/>
                </a:cubicBezTo>
                <a:cubicBezTo>
                  <a:pt x="4036" y="11686"/>
                  <a:pt x="4054" y="11697"/>
                  <a:pt x="4142" y="11708"/>
                </a:cubicBezTo>
              </a:path>
              <a:path w="6599" h="1961">
                <a:moveTo>
                  <a:pt x="3795" y="10790"/>
                </a:moveTo>
                <a:cubicBezTo>
                  <a:pt x="3704" y="10953"/>
                  <a:pt x="3619" y="11129"/>
                  <a:pt x="3522" y="11286"/>
                </a:cubicBezTo>
                <a:cubicBezTo>
                  <a:pt x="3474" y="11364"/>
                  <a:pt x="3351" y="11472"/>
                  <a:pt x="3324" y="11559"/>
                </a:cubicBezTo>
                <a:cubicBezTo>
                  <a:pt x="3324" y="11576"/>
                  <a:pt x="3324" y="11592"/>
                  <a:pt x="3324" y="11609"/>
                </a:cubicBezTo>
              </a:path>
              <a:path w="6599" h="1961">
                <a:moveTo>
                  <a:pt x="6648" y="10790"/>
                </a:moveTo>
                <a:cubicBezTo>
                  <a:pt x="6720" y="10935"/>
                  <a:pt x="6795" y="11038"/>
                  <a:pt x="6896" y="11162"/>
                </a:cubicBezTo>
                <a:cubicBezTo>
                  <a:pt x="6972" y="11254"/>
                  <a:pt x="7038" y="11347"/>
                  <a:pt x="7119" y="11435"/>
                </a:cubicBezTo>
              </a:path>
              <a:path w="6599" h="1961">
                <a:moveTo>
                  <a:pt x="7119" y="10691"/>
                </a:moveTo>
                <a:cubicBezTo>
                  <a:pt x="6880" y="10956"/>
                  <a:pt x="6740" y="11141"/>
                  <a:pt x="6573" y="11460"/>
                </a:cubicBezTo>
              </a:path>
              <a:path w="6599" h="1961">
                <a:moveTo>
                  <a:pt x="4142" y="10988"/>
                </a:moveTo>
                <a:cubicBezTo>
                  <a:pt x="4217" y="11025"/>
                  <a:pt x="4258" y="11038"/>
                  <a:pt x="4341" y="11038"/>
                </a:cubicBezTo>
                <a:cubicBezTo>
                  <a:pt x="4409" y="11038"/>
                  <a:pt x="4428" y="11041"/>
                  <a:pt x="4465" y="11013"/>
                </a:cubicBezTo>
              </a:path>
              <a:path w="6599" h="1961">
                <a:moveTo>
                  <a:pt x="4862" y="10666"/>
                </a:moveTo>
                <a:cubicBezTo>
                  <a:pt x="4951" y="10653"/>
                  <a:pt x="5096" y="10666"/>
                  <a:pt x="5184" y="10641"/>
                </a:cubicBezTo>
                <a:cubicBezTo>
                  <a:pt x="5201" y="10633"/>
                  <a:pt x="5217" y="10624"/>
                  <a:pt x="5234" y="10616"/>
                </a:cubicBezTo>
              </a:path>
              <a:path w="6599" h="1961">
                <a:moveTo>
                  <a:pt x="4887" y="10592"/>
                </a:moveTo>
                <a:cubicBezTo>
                  <a:pt x="4852" y="10645"/>
                  <a:pt x="4770" y="10742"/>
                  <a:pt x="4787" y="10815"/>
                </a:cubicBezTo>
                <a:cubicBezTo>
                  <a:pt x="4804" y="10886"/>
                  <a:pt x="4873" y="10932"/>
                  <a:pt x="4936" y="10939"/>
                </a:cubicBezTo>
                <a:cubicBezTo>
                  <a:pt x="5031" y="10950"/>
                  <a:pt x="5098" y="10956"/>
                  <a:pt x="5184" y="11013"/>
                </a:cubicBezTo>
                <a:cubicBezTo>
                  <a:pt x="5266" y="11068"/>
                  <a:pt x="5262" y="11129"/>
                  <a:pt x="5283" y="11212"/>
                </a:cubicBezTo>
                <a:cubicBezTo>
                  <a:pt x="5301" y="11284"/>
                  <a:pt x="5307" y="11358"/>
                  <a:pt x="5234" y="11410"/>
                </a:cubicBezTo>
                <a:cubicBezTo>
                  <a:pt x="5170" y="11456"/>
                  <a:pt x="5088" y="11482"/>
                  <a:pt x="5011" y="11485"/>
                </a:cubicBezTo>
                <a:cubicBezTo>
                  <a:pt x="4947" y="11488"/>
                  <a:pt x="4835" y="11461"/>
                  <a:pt x="4787" y="11410"/>
                </a:cubicBezTo>
                <a:cubicBezTo>
                  <a:pt x="4767" y="11370"/>
                  <a:pt x="4758" y="11364"/>
                  <a:pt x="4762" y="11336"/>
                </a:cubicBezTo>
              </a:path>
              <a:path w="6599" h="1961">
                <a:moveTo>
                  <a:pt x="7541" y="10765"/>
                </a:moveTo>
                <a:cubicBezTo>
                  <a:pt x="7574" y="10867"/>
                  <a:pt x="7611" y="10956"/>
                  <a:pt x="7615" y="11063"/>
                </a:cubicBezTo>
                <a:cubicBezTo>
                  <a:pt x="7619" y="11162"/>
                  <a:pt x="7615" y="11262"/>
                  <a:pt x="7615" y="11361"/>
                </a:cubicBezTo>
              </a:path>
              <a:path w="6599" h="1961">
                <a:moveTo>
                  <a:pt x="7367" y="11038"/>
                </a:moveTo>
                <a:cubicBezTo>
                  <a:pt x="7521" y="11074"/>
                  <a:pt x="7556" y="11088"/>
                  <a:pt x="7689" y="11088"/>
                </a:cubicBezTo>
              </a:path>
              <a:path w="6599" h="1961">
                <a:moveTo>
                  <a:pt x="8037" y="10691"/>
                </a:moveTo>
                <a:cubicBezTo>
                  <a:pt x="8137" y="10631"/>
                  <a:pt x="8212" y="10559"/>
                  <a:pt x="8334" y="10592"/>
                </a:cubicBezTo>
                <a:cubicBezTo>
                  <a:pt x="8414" y="10614"/>
                  <a:pt x="8461" y="10660"/>
                  <a:pt x="8508" y="10716"/>
                </a:cubicBezTo>
                <a:cubicBezTo>
                  <a:pt x="8553" y="10770"/>
                  <a:pt x="8535" y="10828"/>
                  <a:pt x="8508" y="10889"/>
                </a:cubicBezTo>
                <a:cubicBezTo>
                  <a:pt x="8470" y="10974"/>
                  <a:pt x="8417" y="11017"/>
                  <a:pt x="8359" y="11088"/>
                </a:cubicBezTo>
                <a:cubicBezTo>
                  <a:pt x="8337" y="11115"/>
                  <a:pt x="8222" y="11240"/>
                  <a:pt x="8210" y="11286"/>
                </a:cubicBezTo>
                <a:cubicBezTo>
                  <a:pt x="8195" y="11343"/>
                  <a:pt x="8178" y="11374"/>
                  <a:pt x="8235" y="11410"/>
                </a:cubicBezTo>
                <a:cubicBezTo>
                  <a:pt x="8292" y="11446"/>
                  <a:pt x="8393" y="11449"/>
                  <a:pt x="8458" y="11435"/>
                </a:cubicBezTo>
                <a:cubicBezTo>
                  <a:pt x="8545" y="11417"/>
                  <a:pt x="8616" y="11410"/>
                  <a:pt x="8706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Ink 8"/>
          <p:cNvSpPr/>
          <p:nvPr/>
        </p:nvSpPr>
        <p:spPr>
          <a:xfrm>
            <a:off x="3625920" y="3652920"/>
            <a:ext cx="652320" cy="482400"/>
          </a:xfrm>
          <a:custGeom>
            <a:avLst/>
            <a:gdLst/>
            <a:ahLst/>
            <a:rect l="l" t="t" r="r" b="b"/>
            <a:pathLst>
              <a:path w="1811" h="1341">
                <a:moveTo>
                  <a:pt x="10071" y="10964"/>
                </a:moveTo>
                <a:cubicBezTo>
                  <a:pt x="10182" y="10964"/>
                  <a:pt x="10247" y="10971"/>
                  <a:pt x="10344" y="10939"/>
                </a:cubicBezTo>
              </a:path>
              <a:path w="1811" h="1341">
                <a:moveTo>
                  <a:pt x="10294" y="11237"/>
                </a:moveTo>
                <a:cubicBezTo>
                  <a:pt x="10447" y="11280"/>
                  <a:pt x="10454" y="11296"/>
                  <a:pt x="10592" y="11261"/>
                </a:cubicBezTo>
              </a:path>
              <a:path w="1811" h="1341">
                <a:moveTo>
                  <a:pt x="11212" y="10492"/>
                </a:moveTo>
                <a:cubicBezTo>
                  <a:pt x="11145" y="10584"/>
                  <a:pt x="11056" y="10671"/>
                  <a:pt x="11038" y="10790"/>
                </a:cubicBezTo>
                <a:cubicBezTo>
                  <a:pt x="11013" y="10957"/>
                  <a:pt x="11095" y="11084"/>
                  <a:pt x="11187" y="11212"/>
                </a:cubicBezTo>
                <a:cubicBezTo>
                  <a:pt x="11255" y="11307"/>
                  <a:pt x="11389" y="11449"/>
                  <a:pt x="11509" y="11485"/>
                </a:cubicBezTo>
                <a:cubicBezTo>
                  <a:pt x="11644" y="11525"/>
                  <a:pt x="11729" y="11406"/>
                  <a:pt x="11782" y="11311"/>
                </a:cubicBezTo>
                <a:cubicBezTo>
                  <a:pt x="11852" y="11186"/>
                  <a:pt x="11925" y="11037"/>
                  <a:pt x="11881" y="10889"/>
                </a:cubicBezTo>
                <a:cubicBezTo>
                  <a:pt x="11805" y="10634"/>
                  <a:pt x="11686" y="10433"/>
                  <a:pt x="11460" y="10294"/>
                </a:cubicBezTo>
                <a:cubicBezTo>
                  <a:pt x="11304" y="10217"/>
                  <a:pt x="11247" y="10189"/>
                  <a:pt x="11137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Ink 9"/>
          <p:cNvSpPr/>
          <p:nvPr/>
        </p:nvSpPr>
        <p:spPr>
          <a:xfrm>
            <a:off x="509760" y="4491000"/>
            <a:ext cx="312480" cy="411120"/>
          </a:xfrm>
          <a:custGeom>
            <a:avLst/>
            <a:gdLst/>
            <a:ahLst/>
            <a:rect l="l" t="t" r="r" b="b"/>
            <a:pathLst>
              <a:path w="869" h="1142">
                <a:moveTo>
                  <a:pt x="1488" y="12477"/>
                </a:moveTo>
                <a:cubicBezTo>
                  <a:pt x="1500" y="12582"/>
                  <a:pt x="1528" y="12697"/>
                  <a:pt x="1563" y="12799"/>
                </a:cubicBezTo>
                <a:cubicBezTo>
                  <a:pt x="1627" y="12986"/>
                  <a:pt x="1704" y="13179"/>
                  <a:pt x="1811" y="13345"/>
                </a:cubicBezTo>
                <a:cubicBezTo>
                  <a:pt x="1873" y="13442"/>
                  <a:pt x="1937" y="13514"/>
                  <a:pt x="1984" y="13618"/>
                </a:cubicBezTo>
              </a:path>
              <a:path w="869" h="1142">
                <a:moveTo>
                  <a:pt x="1811" y="12551"/>
                </a:moveTo>
                <a:cubicBezTo>
                  <a:pt x="1732" y="12743"/>
                  <a:pt x="1650" y="12934"/>
                  <a:pt x="1563" y="13122"/>
                </a:cubicBezTo>
                <a:cubicBezTo>
                  <a:pt x="1518" y="13220"/>
                  <a:pt x="1485" y="13322"/>
                  <a:pt x="1439" y="13419"/>
                </a:cubicBezTo>
                <a:cubicBezTo>
                  <a:pt x="1419" y="13460"/>
                  <a:pt x="1410" y="13466"/>
                  <a:pt x="1414" y="13494"/>
                </a:cubicBezTo>
              </a:path>
              <a:path w="869" h="1142">
                <a:moveTo>
                  <a:pt x="1910" y="12898"/>
                </a:moveTo>
                <a:cubicBezTo>
                  <a:pt x="2017" y="12898"/>
                  <a:pt x="2125" y="12898"/>
                  <a:pt x="2232" y="12898"/>
                </a:cubicBezTo>
              </a:path>
              <a:path w="869" h="1142">
                <a:moveTo>
                  <a:pt x="2084" y="13022"/>
                </a:moveTo>
                <a:cubicBezTo>
                  <a:pt x="2147" y="13158"/>
                  <a:pt x="2138" y="13196"/>
                  <a:pt x="2282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Ink 10"/>
          <p:cNvSpPr/>
          <p:nvPr/>
        </p:nvSpPr>
        <p:spPr>
          <a:xfrm>
            <a:off x="973080" y="4545000"/>
            <a:ext cx="169920" cy="376200"/>
          </a:xfrm>
          <a:custGeom>
            <a:avLst/>
            <a:gdLst/>
            <a:ahLst/>
            <a:rect l="l" t="t" r="r" b="b"/>
            <a:pathLst>
              <a:path w="472" h="1042">
                <a:moveTo>
                  <a:pt x="2753" y="12675"/>
                </a:moveTo>
                <a:cubicBezTo>
                  <a:pt x="2746" y="12786"/>
                  <a:pt x="2713" y="12890"/>
                  <a:pt x="2704" y="12998"/>
                </a:cubicBezTo>
                <a:cubicBezTo>
                  <a:pt x="2695" y="13114"/>
                  <a:pt x="2697" y="13235"/>
                  <a:pt x="2729" y="13345"/>
                </a:cubicBezTo>
                <a:cubicBezTo>
                  <a:pt x="2759" y="13447"/>
                  <a:pt x="2789" y="13550"/>
                  <a:pt x="2877" y="13618"/>
                </a:cubicBezTo>
                <a:cubicBezTo>
                  <a:pt x="2931" y="13660"/>
                  <a:pt x="2997" y="13686"/>
                  <a:pt x="3051" y="13643"/>
                </a:cubicBezTo>
                <a:cubicBezTo>
                  <a:pt x="3113" y="13594"/>
                  <a:pt x="3126" y="13490"/>
                  <a:pt x="3150" y="13419"/>
                </a:cubicBezTo>
                <a:cubicBezTo>
                  <a:pt x="3187" y="13310"/>
                  <a:pt x="3191" y="13162"/>
                  <a:pt x="3175" y="13047"/>
                </a:cubicBezTo>
                <a:cubicBezTo>
                  <a:pt x="3163" y="12960"/>
                  <a:pt x="3152" y="12827"/>
                  <a:pt x="3101" y="12750"/>
                </a:cubicBezTo>
                <a:cubicBezTo>
                  <a:pt x="3068" y="12701"/>
                  <a:pt x="2961" y="12636"/>
                  <a:pt x="2902" y="12626"/>
                </a:cubicBezTo>
                <a:cubicBezTo>
                  <a:pt x="2877" y="12626"/>
                  <a:pt x="2853" y="12626"/>
                  <a:pt x="2828" y="12626"/>
                </a:cubicBezTo>
                <a:cubicBezTo>
                  <a:pt x="2807" y="12660"/>
                  <a:pt x="2760" y="12753"/>
                  <a:pt x="2778" y="12799"/>
                </a:cubicBezTo>
                <a:cubicBezTo>
                  <a:pt x="2795" y="12824"/>
                  <a:pt x="2811" y="12849"/>
                  <a:pt x="282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Ink 11"/>
          <p:cNvSpPr/>
          <p:nvPr/>
        </p:nvSpPr>
        <p:spPr>
          <a:xfrm>
            <a:off x="1473120" y="4562640"/>
            <a:ext cx="1233720" cy="366480"/>
          </a:xfrm>
          <a:custGeom>
            <a:avLst/>
            <a:gdLst/>
            <a:ahLst/>
            <a:rect l="l" t="t" r="r" b="b"/>
            <a:pathLst>
              <a:path w="3424" h="1018">
                <a:moveTo>
                  <a:pt x="4093" y="12750"/>
                </a:moveTo>
                <a:cubicBezTo>
                  <a:pt x="4150" y="12828"/>
                  <a:pt x="4198" y="12878"/>
                  <a:pt x="4242" y="12973"/>
                </a:cubicBezTo>
                <a:cubicBezTo>
                  <a:pt x="4311" y="13121"/>
                  <a:pt x="4372" y="13284"/>
                  <a:pt x="4465" y="13419"/>
                </a:cubicBezTo>
                <a:cubicBezTo>
                  <a:pt x="4529" y="13512"/>
                  <a:pt x="4600" y="13598"/>
                  <a:pt x="4663" y="13692"/>
                </a:cubicBezTo>
              </a:path>
              <a:path w="3424" h="1018">
                <a:moveTo>
                  <a:pt x="4713" y="12700"/>
                </a:moveTo>
                <a:cubicBezTo>
                  <a:pt x="4633" y="12723"/>
                  <a:pt x="4594" y="12795"/>
                  <a:pt x="4539" y="12874"/>
                </a:cubicBezTo>
                <a:cubicBezTo>
                  <a:pt x="4453" y="12999"/>
                  <a:pt x="4415" y="13140"/>
                  <a:pt x="4341" y="13271"/>
                </a:cubicBezTo>
                <a:cubicBezTo>
                  <a:pt x="4287" y="13367"/>
                  <a:pt x="4238" y="13440"/>
                  <a:pt x="4192" y="13543"/>
                </a:cubicBezTo>
              </a:path>
              <a:path w="3424" h="1018">
                <a:moveTo>
                  <a:pt x="4887" y="13196"/>
                </a:moveTo>
                <a:cubicBezTo>
                  <a:pt x="5021" y="13177"/>
                  <a:pt x="5043" y="13186"/>
                  <a:pt x="5110" y="13146"/>
                </a:cubicBezTo>
              </a:path>
              <a:path w="3424" h="1018">
                <a:moveTo>
                  <a:pt x="5531" y="12750"/>
                </a:moveTo>
                <a:cubicBezTo>
                  <a:pt x="5638" y="12750"/>
                  <a:pt x="5689" y="12733"/>
                  <a:pt x="5779" y="12725"/>
                </a:cubicBezTo>
                <a:cubicBezTo>
                  <a:pt x="5787" y="12725"/>
                  <a:pt x="5796" y="12725"/>
                  <a:pt x="5804" y="12725"/>
                </a:cubicBezTo>
              </a:path>
              <a:path w="3424" h="1018">
                <a:moveTo>
                  <a:pt x="5556" y="12675"/>
                </a:moveTo>
                <a:cubicBezTo>
                  <a:pt x="5479" y="12745"/>
                  <a:pt x="5429" y="12776"/>
                  <a:pt x="5482" y="12874"/>
                </a:cubicBezTo>
                <a:cubicBezTo>
                  <a:pt x="5510" y="12925"/>
                  <a:pt x="5543" y="12983"/>
                  <a:pt x="5606" y="12998"/>
                </a:cubicBezTo>
                <a:cubicBezTo>
                  <a:pt x="5706" y="13022"/>
                  <a:pt x="5698" y="13055"/>
                  <a:pt x="5779" y="13122"/>
                </a:cubicBezTo>
                <a:cubicBezTo>
                  <a:pt x="5868" y="13196"/>
                  <a:pt x="5904" y="13228"/>
                  <a:pt x="5904" y="13345"/>
                </a:cubicBezTo>
                <a:cubicBezTo>
                  <a:pt x="5904" y="13412"/>
                  <a:pt x="5867" y="13465"/>
                  <a:pt x="5804" y="13494"/>
                </a:cubicBezTo>
                <a:cubicBezTo>
                  <a:pt x="5749" y="13519"/>
                  <a:pt x="5643" y="13511"/>
                  <a:pt x="5581" y="13494"/>
                </a:cubicBezTo>
                <a:cubicBezTo>
                  <a:pt x="5529" y="13479"/>
                  <a:pt x="5517" y="13462"/>
                  <a:pt x="5507" y="13419"/>
                </a:cubicBezTo>
              </a:path>
              <a:path w="3424" h="1018">
                <a:moveTo>
                  <a:pt x="6102" y="13047"/>
                </a:moveTo>
                <a:cubicBezTo>
                  <a:pt x="6209" y="13047"/>
                  <a:pt x="6309" y="13061"/>
                  <a:pt x="6400" y="13047"/>
                </a:cubicBezTo>
                <a:cubicBezTo>
                  <a:pt x="6408" y="13047"/>
                  <a:pt x="6416" y="13047"/>
                  <a:pt x="6424" y="13047"/>
                </a:cubicBezTo>
              </a:path>
              <a:path w="3424" h="1018">
                <a:moveTo>
                  <a:pt x="6226" y="13271"/>
                </a:moveTo>
                <a:cubicBezTo>
                  <a:pt x="6322" y="13332"/>
                  <a:pt x="6381" y="13361"/>
                  <a:pt x="6499" y="13345"/>
                </a:cubicBezTo>
                <a:cubicBezTo>
                  <a:pt x="6540" y="13337"/>
                  <a:pt x="6582" y="13328"/>
                  <a:pt x="6623" y="13320"/>
                </a:cubicBezTo>
              </a:path>
              <a:path w="3424" h="1018">
                <a:moveTo>
                  <a:pt x="6945" y="12774"/>
                </a:moveTo>
                <a:cubicBezTo>
                  <a:pt x="6899" y="12821"/>
                  <a:pt x="6833" y="12879"/>
                  <a:pt x="6821" y="12948"/>
                </a:cubicBezTo>
                <a:cubicBezTo>
                  <a:pt x="6800" y="13066"/>
                  <a:pt x="6857" y="13195"/>
                  <a:pt x="6896" y="13295"/>
                </a:cubicBezTo>
                <a:cubicBezTo>
                  <a:pt x="6944" y="13417"/>
                  <a:pt x="7002" y="13456"/>
                  <a:pt x="7094" y="13543"/>
                </a:cubicBezTo>
                <a:cubicBezTo>
                  <a:pt x="7175" y="13620"/>
                  <a:pt x="7278" y="13611"/>
                  <a:pt x="7367" y="13543"/>
                </a:cubicBezTo>
                <a:cubicBezTo>
                  <a:pt x="7449" y="13480"/>
                  <a:pt x="7502" y="13372"/>
                  <a:pt x="7516" y="13271"/>
                </a:cubicBezTo>
                <a:cubicBezTo>
                  <a:pt x="7530" y="13170"/>
                  <a:pt x="7495" y="12987"/>
                  <a:pt x="7441" y="12898"/>
                </a:cubicBezTo>
                <a:cubicBezTo>
                  <a:pt x="7397" y="12825"/>
                  <a:pt x="7275" y="12765"/>
                  <a:pt x="7193" y="12750"/>
                </a:cubicBezTo>
                <a:cubicBezTo>
                  <a:pt x="7106" y="12734"/>
                  <a:pt x="7108" y="12733"/>
                  <a:pt x="7119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Ink 12"/>
          <p:cNvSpPr/>
          <p:nvPr/>
        </p:nvSpPr>
        <p:spPr>
          <a:xfrm>
            <a:off x="3116160" y="4500720"/>
            <a:ext cx="1054080" cy="339480"/>
          </a:xfrm>
          <a:custGeom>
            <a:avLst/>
            <a:gdLst/>
            <a:ahLst/>
            <a:rect l="l" t="t" r="r" b="b"/>
            <a:pathLst>
              <a:path w="2928" h="943">
                <a:moveTo>
                  <a:pt x="8657" y="12799"/>
                </a:moveTo>
                <a:cubicBezTo>
                  <a:pt x="8773" y="12923"/>
                  <a:pt x="8870" y="13047"/>
                  <a:pt x="8954" y="13196"/>
                </a:cubicBezTo>
                <a:cubicBezTo>
                  <a:pt x="9007" y="13290"/>
                  <a:pt x="9056" y="13364"/>
                  <a:pt x="9128" y="13444"/>
                </a:cubicBezTo>
              </a:path>
              <a:path w="2928" h="943">
                <a:moveTo>
                  <a:pt x="9054" y="12700"/>
                </a:moveTo>
                <a:cubicBezTo>
                  <a:pt x="8949" y="12812"/>
                  <a:pt x="8867" y="12896"/>
                  <a:pt x="8830" y="13047"/>
                </a:cubicBezTo>
                <a:cubicBezTo>
                  <a:pt x="8803" y="13155"/>
                  <a:pt x="8781" y="13259"/>
                  <a:pt x="8781" y="13370"/>
                </a:cubicBezTo>
              </a:path>
              <a:path w="2928" h="943">
                <a:moveTo>
                  <a:pt x="9376" y="12750"/>
                </a:moveTo>
                <a:cubicBezTo>
                  <a:pt x="9427" y="12876"/>
                  <a:pt x="9447" y="12983"/>
                  <a:pt x="9451" y="13122"/>
                </a:cubicBezTo>
                <a:cubicBezTo>
                  <a:pt x="9451" y="13205"/>
                  <a:pt x="9451" y="13221"/>
                  <a:pt x="9451" y="13271"/>
                </a:cubicBezTo>
              </a:path>
              <a:path w="2928" h="943">
                <a:moveTo>
                  <a:pt x="9277" y="12998"/>
                </a:moveTo>
                <a:cubicBezTo>
                  <a:pt x="9366" y="12974"/>
                  <a:pt x="9405" y="12973"/>
                  <a:pt x="9500" y="12973"/>
                </a:cubicBezTo>
              </a:path>
              <a:path w="2928" h="943">
                <a:moveTo>
                  <a:pt x="9823" y="12601"/>
                </a:moveTo>
                <a:cubicBezTo>
                  <a:pt x="9921" y="12608"/>
                  <a:pt x="10051" y="12607"/>
                  <a:pt x="10096" y="12725"/>
                </a:cubicBezTo>
                <a:cubicBezTo>
                  <a:pt x="10127" y="12807"/>
                  <a:pt x="10044" y="12874"/>
                  <a:pt x="9996" y="12923"/>
                </a:cubicBezTo>
                <a:cubicBezTo>
                  <a:pt x="9960" y="12960"/>
                  <a:pt x="9882" y="13017"/>
                  <a:pt x="9872" y="13072"/>
                </a:cubicBezTo>
                <a:cubicBezTo>
                  <a:pt x="9852" y="13181"/>
                  <a:pt x="9875" y="13191"/>
                  <a:pt x="9947" y="13246"/>
                </a:cubicBezTo>
                <a:cubicBezTo>
                  <a:pt x="10001" y="13287"/>
                  <a:pt x="10048" y="13310"/>
                  <a:pt x="10120" y="13295"/>
                </a:cubicBezTo>
                <a:cubicBezTo>
                  <a:pt x="10145" y="13287"/>
                  <a:pt x="10170" y="13279"/>
                  <a:pt x="10195" y="13271"/>
                </a:cubicBezTo>
              </a:path>
              <a:path w="2928" h="943">
                <a:moveTo>
                  <a:pt x="10492" y="12774"/>
                </a:moveTo>
                <a:cubicBezTo>
                  <a:pt x="10616" y="12792"/>
                  <a:pt x="10624" y="12800"/>
                  <a:pt x="10691" y="12799"/>
                </a:cubicBezTo>
              </a:path>
              <a:path w="2928" h="943">
                <a:moveTo>
                  <a:pt x="10542" y="12898"/>
                </a:moveTo>
                <a:cubicBezTo>
                  <a:pt x="10656" y="12955"/>
                  <a:pt x="10666" y="12980"/>
                  <a:pt x="10740" y="12973"/>
                </a:cubicBezTo>
              </a:path>
              <a:path w="2928" h="943">
                <a:moveTo>
                  <a:pt x="11088" y="12502"/>
                </a:moveTo>
                <a:cubicBezTo>
                  <a:pt x="11027" y="12597"/>
                  <a:pt x="10992" y="12659"/>
                  <a:pt x="10988" y="12774"/>
                </a:cubicBezTo>
                <a:cubicBezTo>
                  <a:pt x="10984" y="12894"/>
                  <a:pt x="10990" y="13034"/>
                  <a:pt x="11038" y="13146"/>
                </a:cubicBezTo>
                <a:cubicBezTo>
                  <a:pt x="11062" y="13203"/>
                  <a:pt x="11131" y="13344"/>
                  <a:pt x="11187" y="13370"/>
                </a:cubicBezTo>
                <a:cubicBezTo>
                  <a:pt x="11243" y="13396"/>
                  <a:pt x="11342" y="13353"/>
                  <a:pt x="11385" y="13320"/>
                </a:cubicBezTo>
                <a:cubicBezTo>
                  <a:pt x="11481" y="13246"/>
                  <a:pt x="11499" y="13183"/>
                  <a:pt x="11534" y="13072"/>
                </a:cubicBezTo>
                <a:cubicBezTo>
                  <a:pt x="11560" y="12987"/>
                  <a:pt x="11604" y="12917"/>
                  <a:pt x="11584" y="12824"/>
                </a:cubicBezTo>
                <a:cubicBezTo>
                  <a:pt x="11568" y="12746"/>
                  <a:pt x="11523" y="12652"/>
                  <a:pt x="11460" y="12601"/>
                </a:cubicBezTo>
                <a:cubicBezTo>
                  <a:pt x="11344" y="12507"/>
                  <a:pt x="11252" y="12514"/>
                  <a:pt x="11112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Ink 13"/>
          <p:cNvSpPr/>
          <p:nvPr/>
        </p:nvSpPr>
        <p:spPr>
          <a:xfrm>
            <a:off x="1839960" y="5010120"/>
            <a:ext cx="384120" cy="339840"/>
          </a:xfrm>
          <a:custGeom>
            <a:avLst/>
            <a:gdLst/>
            <a:ahLst/>
            <a:rect l="l" t="t" r="r" b="b"/>
            <a:pathLst>
              <a:path w="1067" h="944">
                <a:moveTo>
                  <a:pt x="5110" y="13915"/>
                </a:moveTo>
                <a:cubicBezTo>
                  <a:pt x="5143" y="14048"/>
                  <a:pt x="5186" y="14156"/>
                  <a:pt x="5234" y="14288"/>
                </a:cubicBezTo>
                <a:cubicBezTo>
                  <a:pt x="5307" y="14486"/>
                  <a:pt x="5387" y="14669"/>
                  <a:pt x="5482" y="14858"/>
                </a:cubicBezTo>
              </a:path>
              <a:path w="1067" h="944">
                <a:moveTo>
                  <a:pt x="5705" y="13990"/>
                </a:moveTo>
                <a:cubicBezTo>
                  <a:pt x="5636" y="14059"/>
                  <a:pt x="5588" y="14134"/>
                  <a:pt x="5531" y="14213"/>
                </a:cubicBezTo>
                <a:cubicBezTo>
                  <a:pt x="5444" y="14333"/>
                  <a:pt x="5343" y="14437"/>
                  <a:pt x="5259" y="14560"/>
                </a:cubicBezTo>
                <a:cubicBezTo>
                  <a:pt x="5202" y="14644"/>
                  <a:pt x="5147" y="14716"/>
                  <a:pt x="5110" y="14808"/>
                </a:cubicBezTo>
              </a:path>
              <a:path w="1067" h="944">
                <a:moveTo>
                  <a:pt x="5655" y="14387"/>
                </a:moveTo>
                <a:cubicBezTo>
                  <a:pt x="5795" y="14331"/>
                  <a:pt x="5834" y="14357"/>
                  <a:pt x="5978" y="14362"/>
                </a:cubicBezTo>
                <a:cubicBezTo>
                  <a:pt x="6044" y="14362"/>
                  <a:pt x="6061" y="14362"/>
                  <a:pt x="6102" y="14362"/>
                </a:cubicBezTo>
              </a:path>
              <a:path w="1067" h="944">
                <a:moveTo>
                  <a:pt x="5904" y="14536"/>
                </a:moveTo>
                <a:cubicBezTo>
                  <a:pt x="6011" y="14616"/>
                  <a:pt x="6045" y="14629"/>
                  <a:pt x="6176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Ink 14"/>
          <p:cNvSpPr/>
          <p:nvPr/>
        </p:nvSpPr>
        <p:spPr>
          <a:xfrm>
            <a:off x="2394000" y="4991040"/>
            <a:ext cx="142920" cy="376200"/>
          </a:xfrm>
          <a:custGeom>
            <a:avLst/>
            <a:gdLst/>
            <a:ahLst/>
            <a:rect l="l" t="t" r="r" b="b"/>
            <a:pathLst>
              <a:path w="398" h="1043">
                <a:moveTo>
                  <a:pt x="6672" y="14114"/>
                </a:moveTo>
                <a:cubicBezTo>
                  <a:pt x="6815" y="14114"/>
                  <a:pt x="6922" y="14131"/>
                  <a:pt x="7045" y="14064"/>
                </a:cubicBezTo>
              </a:path>
              <a:path w="398" h="1043">
                <a:moveTo>
                  <a:pt x="6772" y="13866"/>
                </a:moveTo>
                <a:cubicBezTo>
                  <a:pt x="6738" y="13925"/>
                  <a:pt x="6702" y="13968"/>
                  <a:pt x="6697" y="14039"/>
                </a:cubicBezTo>
                <a:cubicBezTo>
                  <a:pt x="6692" y="14124"/>
                  <a:pt x="6707" y="14126"/>
                  <a:pt x="6747" y="14188"/>
                </a:cubicBezTo>
                <a:cubicBezTo>
                  <a:pt x="6787" y="14250"/>
                  <a:pt x="6827" y="14303"/>
                  <a:pt x="6871" y="14362"/>
                </a:cubicBezTo>
                <a:cubicBezTo>
                  <a:pt x="6936" y="14449"/>
                  <a:pt x="7004" y="14550"/>
                  <a:pt x="7020" y="14660"/>
                </a:cubicBezTo>
                <a:cubicBezTo>
                  <a:pt x="7040" y="14793"/>
                  <a:pt x="6996" y="14875"/>
                  <a:pt x="6871" y="14908"/>
                </a:cubicBezTo>
                <a:cubicBezTo>
                  <a:pt x="6767" y="14936"/>
                  <a:pt x="6703" y="14902"/>
                  <a:pt x="6672" y="14808"/>
                </a:cubicBezTo>
                <a:cubicBezTo>
                  <a:pt x="6650" y="14718"/>
                  <a:pt x="6642" y="14694"/>
                  <a:pt x="6648" y="146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Ink 15"/>
          <p:cNvSpPr/>
          <p:nvPr/>
        </p:nvSpPr>
        <p:spPr>
          <a:xfrm>
            <a:off x="3232080" y="4964040"/>
            <a:ext cx="893880" cy="403200"/>
          </a:xfrm>
          <a:custGeom>
            <a:avLst/>
            <a:gdLst/>
            <a:ahLst/>
            <a:rect l="l" t="t" r="r" b="b"/>
            <a:pathLst>
              <a:path w="2482" h="1118">
                <a:moveTo>
                  <a:pt x="8979" y="13866"/>
                </a:moveTo>
                <a:cubicBezTo>
                  <a:pt x="9069" y="13988"/>
                  <a:pt x="9145" y="14129"/>
                  <a:pt x="9227" y="14263"/>
                </a:cubicBezTo>
                <a:cubicBezTo>
                  <a:pt x="9309" y="14396"/>
                  <a:pt x="9379" y="14539"/>
                  <a:pt x="9475" y="14660"/>
                </a:cubicBezTo>
              </a:path>
              <a:path w="2482" h="1118">
                <a:moveTo>
                  <a:pt x="9351" y="14089"/>
                </a:moveTo>
                <a:cubicBezTo>
                  <a:pt x="9276" y="14248"/>
                  <a:pt x="9195" y="14401"/>
                  <a:pt x="9128" y="14560"/>
                </a:cubicBezTo>
                <a:cubicBezTo>
                  <a:pt x="9108" y="14621"/>
                  <a:pt x="9110" y="14635"/>
                  <a:pt x="9079" y="14660"/>
                </a:cubicBezTo>
              </a:path>
              <a:path w="2482" h="1118">
                <a:moveTo>
                  <a:pt x="9599" y="14114"/>
                </a:moveTo>
                <a:cubicBezTo>
                  <a:pt x="9781" y="14091"/>
                  <a:pt x="9878" y="14146"/>
                  <a:pt x="10046" y="14139"/>
                </a:cubicBezTo>
                <a:cubicBezTo>
                  <a:pt x="10069" y="14116"/>
                  <a:pt x="10073" y="14108"/>
                  <a:pt x="10096" y="14114"/>
                </a:cubicBezTo>
              </a:path>
              <a:path w="2482" h="1118">
                <a:moveTo>
                  <a:pt x="9847" y="14288"/>
                </a:moveTo>
                <a:cubicBezTo>
                  <a:pt x="9997" y="14331"/>
                  <a:pt x="9953" y="14345"/>
                  <a:pt x="10071" y="14288"/>
                </a:cubicBezTo>
              </a:path>
              <a:path w="2482" h="1118">
                <a:moveTo>
                  <a:pt x="10393" y="13990"/>
                </a:moveTo>
                <a:cubicBezTo>
                  <a:pt x="10512" y="14011"/>
                  <a:pt x="10519" y="14027"/>
                  <a:pt x="10616" y="13990"/>
                </a:cubicBezTo>
              </a:path>
              <a:path w="2482" h="1118">
                <a:moveTo>
                  <a:pt x="10964" y="13791"/>
                </a:moveTo>
                <a:cubicBezTo>
                  <a:pt x="11095" y="13798"/>
                  <a:pt x="11131" y="13809"/>
                  <a:pt x="11237" y="13866"/>
                </a:cubicBezTo>
                <a:cubicBezTo>
                  <a:pt x="11319" y="13910"/>
                  <a:pt x="11390" y="13920"/>
                  <a:pt x="11385" y="14039"/>
                </a:cubicBezTo>
                <a:cubicBezTo>
                  <a:pt x="11382" y="14102"/>
                  <a:pt x="11297" y="14156"/>
                  <a:pt x="11261" y="14188"/>
                </a:cubicBezTo>
                <a:cubicBezTo>
                  <a:pt x="11194" y="14248"/>
                  <a:pt x="11127" y="14297"/>
                  <a:pt x="11063" y="14362"/>
                </a:cubicBezTo>
                <a:cubicBezTo>
                  <a:pt x="11007" y="14419"/>
                  <a:pt x="10945" y="14423"/>
                  <a:pt x="10914" y="14511"/>
                </a:cubicBezTo>
                <a:cubicBezTo>
                  <a:pt x="10895" y="14566"/>
                  <a:pt x="10916" y="14629"/>
                  <a:pt x="10964" y="14660"/>
                </a:cubicBezTo>
                <a:cubicBezTo>
                  <a:pt x="11039" y="14708"/>
                  <a:pt x="11111" y="14758"/>
                  <a:pt x="11187" y="14808"/>
                </a:cubicBezTo>
                <a:cubicBezTo>
                  <a:pt x="11250" y="14849"/>
                  <a:pt x="11351" y="14932"/>
                  <a:pt x="11435" y="14908"/>
                </a:cubicBezTo>
                <a:cubicBezTo>
                  <a:pt x="11443" y="14900"/>
                  <a:pt x="11452" y="14891"/>
                  <a:pt x="11460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Ink 16"/>
          <p:cNvSpPr/>
          <p:nvPr/>
        </p:nvSpPr>
        <p:spPr>
          <a:xfrm>
            <a:off x="4510080" y="1438200"/>
            <a:ext cx="3411720" cy="3249720"/>
          </a:xfrm>
          <a:custGeom>
            <a:avLst/>
            <a:gdLst/>
            <a:ahLst/>
            <a:rect l="l" t="t" r="r" b="b"/>
            <a:pathLst>
              <a:path w="9477" h="9029">
                <a:moveTo>
                  <a:pt x="12526" y="8012"/>
                </a:moveTo>
                <a:cubicBezTo>
                  <a:pt x="12627" y="7989"/>
                  <a:pt x="12719" y="7955"/>
                  <a:pt x="12824" y="7938"/>
                </a:cubicBezTo>
                <a:cubicBezTo>
                  <a:pt x="12956" y="7916"/>
                  <a:pt x="13086" y="7915"/>
                  <a:pt x="13221" y="7913"/>
                </a:cubicBezTo>
                <a:cubicBezTo>
                  <a:pt x="14256" y="7897"/>
                  <a:pt x="15287" y="7900"/>
                  <a:pt x="16321" y="7838"/>
                </a:cubicBezTo>
                <a:cubicBezTo>
                  <a:pt x="16842" y="7807"/>
                  <a:pt x="17363" y="7810"/>
                  <a:pt x="17884" y="7789"/>
                </a:cubicBezTo>
                <a:cubicBezTo>
                  <a:pt x="18678" y="7757"/>
                  <a:pt x="19469" y="7764"/>
                  <a:pt x="20265" y="7764"/>
                </a:cubicBezTo>
                <a:cubicBezTo>
                  <a:pt x="20744" y="7764"/>
                  <a:pt x="21205" y="7774"/>
                  <a:pt x="21679" y="7714"/>
                </a:cubicBezTo>
                <a:cubicBezTo>
                  <a:pt x="21847" y="7690"/>
                  <a:pt x="21899" y="7684"/>
                  <a:pt x="22002" y="7640"/>
                </a:cubicBezTo>
              </a:path>
              <a:path w="9477" h="9029">
                <a:moveTo>
                  <a:pt x="17115" y="3994"/>
                </a:moveTo>
                <a:cubicBezTo>
                  <a:pt x="17127" y="4089"/>
                  <a:pt x="17158" y="4186"/>
                  <a:pt x="17165" y="4291"/>
                </a:cubicBezTo>
                <a:cubicBezTo>
                  <a:pt x="17181" y="4522"/>
                  <a:pt x="17173" y="4755"/>
                  <a:pt x="17190" y="4986"/>
                </a:cubicBezTo>
                <a:cubicBezTo>
                  <a:pt x="17237" y="5636"/>
                  <a:pt x="17271" y="6298"/>
                  <a:pt x="17338" y="6945"/>
                </a:cubicBezTo>
                <a:cubicBezTo>
                  <a:pt x="17395" y="7502"/>
                  <a:pt x="17435" y="8046"/>
                  <a:pt x="17438" y="8607"/>
                </a:cubicBezTo>
                <a:cubicBezTo>
                  <a:pt x="17445" y="9876"/>
                  <a:pt x="17441" y="11137"/>
                  <a:pt x="17562" y="12402"/>
                </a:cubicBezTo>
                <a:cubicBezTo>
                  <a:pt x="17587" y="12609"/>
                  <a:pt x="17611" y="12815"/>
                  <a:pt x="17636" y="13022"/>
                </a:cubicBezTo>
              </a:path>
              <a:path w="9477" h="9029">
                <a:moveTo>
                  <a:pt x="15949" y="7739"/>
                </a:moveTo>
                <a:cubicBezTo>
                  <a:pt x="15904" y="7817"/>
                  <a:pt x="15906" y="7867"/>
                  <a:pt x="15875" y="7938"/>
                </a:cubicBezTo>
                <a:cubicBezTo>
                  <a:pt x="15822" y="8058"/>
                  <a:pt x="15743" y="8160"/>
                  <a:pt x="15701" y="8285"/>
                </a:cubicBezTo>
                <a:cubicBezTo>
                  <a:pt x="15654" y="8422"/>
                  <a:pt x="15584" y="8545"/>
                  <a:pt x="15528" y="8682"/>
                </a:cubicBezTo>
                <a:cubicBezTo>
                  <a:pt x="15462" y="8842"/>
                  <a:pt x="15406" y="9012"/>
                  <a:pt x="15354" y="9178"/>
                </a:cubicBezTo>
                <a:cubicBezTo>
                  <a:pt x="15304" y="9339"/>
                  <a:pt x="15266" y="9510"/>
                  <a:pt x="15230" y="9674"/>
                </a:cubicBezTo>
                <a:cubicBezTo>
                  <a:pt x="15193" y="9842"/>
                  <a:pt x="15142" y="10003"/>
                  <a:pt x="15106" y="10170"/>
                </a:cubicBezTo>
                <a:cubicBezTo>
                  <a:pt x="15063" y="10368"/>
                  <a:pt x="15027" y="10587"/>
                  <a:pt x="15007" y="10790"/>
                </a:cubicBezTo>
                <a:cubicBezTo>
                  <a:pt x="14993" y="10930"/>
                  <a:pt x="14980" y="11074"/>
                  <a:pt x="14957" y="11212"/>
                </a:cubicBezTo>
                <a:cubicBezTo>
                  <a:pt x="14938" y="11324"/>
                  <a:pt x="14915" y="11447"/>
                  <a:pt x="14908" y="11559"/>
                </a:cubicBezTo>
                <a:cubicBezTo>
                  <a:pt x="14902" y="11650"/>
                  <a:pt x="14889" y="11749"/>
                  <a:pt x="14883" y="11832"/>
                </a:cubicBezTo>
                <a:cubicBezTo>
                  <a:pt x="14879" y="11884"/>
                  <a:pt x="14895" y="11845"/>
                  <a:pt x="14858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Ink 17"/>
          <p:cNvSpPr/>
          <p:nvPr/>
        </p:nvSpPr>
        <p:spPr>
          <a:xfrm>
            <a:off x="4973760" y="0"/>
            <a:ext cx="3197160" cy="1044720"/>
          </a:xfrm>
          <a:custGeom>
            <a:avLst/>
            <a:gdLst/>
            <a:ahLst/>
            <a:rect l="l" t="t" r="r" b="b"/>
            <a:pathLst>
              <a:path w="8881" h="2903">
                <a:moveTo>
                  <a:pt x="13841" y="0"/>
                </a:moveTo>
                <a:cubicBezTo>
                  <a:pt x="13773" y="0"/>
                  <a:pt x="13948" y="0"/>
                  <a:pt x="13965" y="0"/>
                </a:cubicBezTo>
                <a:cubicBezTo>
                  <a:pt x="14254" y="0"/>
                  <a:pt x="14544" y="0"/>
                  <a:pt x="14833" y="0"/>
                </a:cubicBezTo>
              </a:path>
              <a:path w="8881" h="2903">
                <a:moveTo>
                  <a:pt x="15205" y="0"/>
                </a:moveTo>
                <a:cubicBezTo>
                  <a:pt x="15354" y="0"/>
                  <a:pt x="15503" y="0"/>
                  <a:pt x="15652" y="0"/>
                </a:cubicBezTo>
                <a:cubicBezTo>
                  <a:pt x="15783" y="0"/>
                  <a:pt x="15576" y="0"/>
                  <a:pt x="15553" y="0"/>
                </a:cubicBezTo>
                <a:cubicBezTo>
                  <a:pt x="15503" y="0"/>
                  <a:pt x="15454" y="0"/>
                  <a:pt x="15404" y="0"/>
                </a:cubicBezTo>
                <a:cubicBezTo>
                  <a:pt x="15536" y="0"/>
                  <a:pt x="15669" y="0"/>
                  <a:pt x="15801" y="0"/>
                </a:cubicBezTo>
                <a:cubicBezTo>
                  <a:pt x="15941" y="0"/>
                  <a:pt x="15701" y="0"/>
                  <a:pt x="15677" y="0"/>
                </a:cubicBezTo>
                <a:cubicBezTo>
                  <a:pt x="15594" y="0"/>
                  <a:pt x="15512" y="0"/>
                  <a:pt x="15429" y="0"/>
                </a:cubicBezTo>
              </a:path>
              <a:path w="8881" h="2903">
                <a:moveTo>
                  <a:pt x="15925" y="0"/>
                </a:moveTo>
                <a:cubicBezTo>
                  <a:pt x="16091" y="0"/>
                  <a:pt x="16236" y="-31"/>
                  <a:pt x="16371" y="74"/>
                </a:cubicBezTo>
                <a:cubicBezTo>
                  <a:pt x="16453" y="137"/>
                  <a:pt x="16530" y="264"/>
                  <a:pt x="16644" y="248"/>
                </a:cubicBezTo>
                <a:cubicBezTo>
                  <a:pt x="16661" y="240"/>
                  <a:pt x="16677" y="231"/>
                  <a:pt x="16694" y="223"/>
                </a:cubicBezTo>
              </a:path>
              <a:path w="8881" h="2903">
                <a:moveTo>
                  <a:pt x="16644" y="0"/>
                </a:moveTo>
                <a:cubicBezTo>
                  <a:pt x="16536" y="0"/>
                  <a:pt x="16429" y="0"/>
                  <a:pt x="16321" y="0"/>
                </a:cubicBezTo>
                <a:cubicBezTo>
                  <a:pt x="16294" y="161"/>
                  <a:pt x="16243" y="273"/>
                  <a:pt x="16197" y="422"/>
                </a:cubicBezTo>
                <a:cubicBezTo>
                  <a:pt x="16179" y="496"/>
                  <a:pt x="16171" y="555"/>
                  <a:pt x="16173" y="496"/>
                </a:cubicBezTo>
              </a:path>
              <a:path w="8881" h="2903">
                <a:moveTo>
                  <a:pt x="16421" y="1042"/>
                </a:moveTo>
                <a:cubicBezTo>
                  <a:pt x="16476" y="1086"/>
                  <a:pt x="16547" y="1108"/>
                  <a:pt x="16619" y="1116"/>
                </a:cubicBezTo>
                <a:cubicBezTo>
                  <a:pt x="16734" y="1129"/>
                  <a:pt x="16852" y="1136"/>
                  <a:pt x="16966" y="1141"/>
                </a:cubicBezTo>
                <a:cubicBezTo>
                  <a:pt x="17063" y="1145"/>
                  <a:pt x="17129" y="1188"/>
                  <a:pt x="17214" y="1166"/>
                </a:cubicBezTo>
              </a:path>
              <a:path w="8881" h="2903">
                <a:moveTo>
                  <a:pt x="17314" y="843"/>
                </a:moveTo>
                <a:cubicBezTo>
                  <a:pt x="17420" y="709"/>
                  <a:pt x="17463" y="636"/>
                  <a:pt x="17636" y="620"/>
                </a:cubicBezTo>
                <a:cubicBezTo>
                  <a:pt x="17707" y="614"/>
                  <a:pt x="17765" y="612"/>
                  <a:pt x="17785" y="695"/>
                </a:cubicBezTo>
                <a:cubicBezTo>
                  <a:pt x="17811" y="803"/>
                  <a:pt x="17708" y="903"/>
                  <a:pt x="17661" y="967"/>
                </a:cubicBezTo>
                <a:cubicBezTo>
                  <a:pt x="17639" y="1011"/>
                  <a:pt x="17636" y="1023"/>
                  <a:pt x="17611" y="1042"/>
                </a:cubicBezTo>
                <a:cubicBezTo>
                  <a:pt x="17681" y="1016"/>
                  <a:pt x="17740" y="999"/>
                  <a:pt x="17810" y="1042"/>
                </a:cubicBezTo>
                <a:cubicBezTo>
                  <a:pt x="17878" y="1084"/>
                  <a:pt x="17892" y="1144"/>
                  <a:pt x="17859" y="1215"/>
                </a:cubicBezTo>
                <a:cubicBezTo>
                  <a:pt x="17796" y="1348"/>
                  <a:pt x="17685" y="1460"/>
                  <a:pt x="17562" y="1538"/>
                </a:cubicBezTo>
                <a:cubicBezTo>
                  <a:pt x="17510" y="1571"/>
                  <a:pt x="17437" y="1611"/>
                  <a:pt x="17413" y="1588"/>
                </a:cubicBezTo>
              </a:path>
              <a:path w="8881" h="2903">
                <a:moveTo>
                  <a:pt x="17810" y="1042"/>
                </a:moveTo>
                <a:cubicBezTo>
                  <a:pt x="17877" y="1118"/>
                  <a:pt x="17926" y="1205"/>
                  <a:pt x="17983" y="1290"/>
                </a:cubicBezTo>
                <a:cubicBezTo>
                  <a:pt x="18049" y="1388"/>
                  <a:pt x="18109" y="1471"/>
                  <a:pt x="18207" y="1538"/>
                </a:cubicBezTo>
                <a:cubicBezTo>
                  <a:pt x="18225" y="1551"/>
                  <a:pt x="18347" y="1590"/>
                  <a:pt x="18355" y="1588"/>
                </a:cubicBezTo>
                <a:cubicBezTo>
                  <a:pt x="18390" y="1553"/>
                  <a:pt x="18403" y="1531"/>
                  <a:pt x="18405" y="1488"/>
                </a:cubicBezTo>
              </a:path>
              <a:path w="8881" h="2903">
                <a:moveTo>
                  <a:pt x="18331" y="893"/>
                </a:moveTo>
                <a:cubicBezTo>
                  <a:pt x="18255" y="1022"/>
                  <a:pt x="18229" y="1149"/>
                  <a:pt x="18182" y="1290"/>
                </a:cubicBezTo>
                <a:cubicBezTo>
                  <a:pt x="18145" y="1400"/>
                  <a:pt x="18126" y="1540"/>
                  <a:pt x="18058" y="1637"/>
                </a:cubicBezTo>
                <a:cubicBezTo>
                  <a:pt x="18035" y="1660"/>
                  <a:pt x="18027" y="1664"/>
                  <a:pt x="18033" y="1687"/>
                </a:cubicBezTo>
              </a:path>
              <a:path w="8881" h="2903">
                <a:moveTo>
                  <a:pt x="18430" y="620"/>
                </a:moveTo>
                <a:cubicBezTo>
                  <a:pt x="18546" y="544"/>
                  <a:pt x="18650" y="420"/>
                  <a:pt x="18777" y="546"/>
                </a:cubicBezTo>
                <a:cubicBezTo>
                  <a:pt x="18844" y="612"/>
                  <a:pt x="18832" y="717"/>
                  <a:pt x="18802" y="794"/>
                </a:cubicBezTo>
                <a:cubicBezTo>
                  <a:pt x="18766" y="889"/>
                  <a:pt x="18700" y="930"/>
                  <a:pt x="18628" y="992"/>
                </a:cubicBezTo>
                <a:cubicBezTo>
                  <a:pt x="18713" y="1035"/>
                  <a:pt x="18765" y="999"/>
                  <a:pt x="18852" y="992"/>
                </a:cubicBezTo>
                <a:cubicBezTo>
                  <a:pt x="18971" y="983"/>
                  <a:pt x="19062" y="966"/>
                  <a:pt x="19075" y="992"/>
                </a:cubicBezTo>
                <a:cubicBezTo>
                  <a:pt x="19083" y="1000"/>
                  <a:pt x="19092" y="1009"/>
                  <a:pt x="19100" y="1017"/>
                </a:cubicBezTo>
              </a:path>
              <a:path w="8881" h="2903">
                <a:moveTo>
                  <a:pt x="18231" y="1538"/>
                </a:moveTo>
                <a:cubicBezTo>
                  <a:pt x="18216" y="1442"/>
                  <a:pt x="18215" y="1395"/>
                  <a:pt x="18281" y="1290"/>
                </a:cubicBezTo>
                <a:cubicBezTo>
                  <a:pt x="18371" y="1146"/>
                  <a:pt x="18487" y="1014"/>
                  <a:pt x="18604" y="893"/>
                </a:cubicBezTo>
                <a:cubicBezTo>
                  <a:pt x="18663" y="832"/>
                  <a:pt x="18709" y="790"/>
                  <a:pt x="18752" y="719"/>
                </a:cubicBezTo>
                <a:cubicBezTo>
                  <a:pt x="18628" y="637"/>
                  <a:pt x="18498" y="684"/>
                  <a:pt x="18355" y="744"/>
                </a:cubicBezTo>
                <a:cubicBezTo>
                  <a:pt x="18141" y="833"/>
                  <a:pt x="17927" y="936"/>
                  <a:pt x="17735" y="1067"/>
                </a:cubicBezTo>
                <a:cubicBezTo>
                  <a:pt x="17598" y="1161"/>
                  <a:pt x="17491" y="1229"/>
                  <a:pt x="17338" y="1290"/>
                </a:cubicBezTo>
                <a:cubicBezTo>
                  <a:pt x="17421" y="1141"/>
                  <a:pt x="17540" y="1060"/>
                  <a:pt x="17661" y="943"/>
                </a:cubicBezTo>
                <a:cubicBezTo>
                  <a:pt x="17728" y="879"/>
                  <a:pt x="17782" y="817"/>
                  <a:pt x="17835" y="744"/>
                </a:cubicBezTo>
                <a:cubicBezTo>
                  <a:pt x="17745" y="668"/>
                  <a:pt x="17637" y="701"/>
                  <a:pt x="17512" y="744"/>
                </a:cubicBezTo>
                <a:cubicBezTo>
                  <a:pt x="17352" y="799"/>
                  <a:pt x="17237" y="916"/>
                  <a:pt x="17090" y="992"/>
                </a:cubicBezTo>
                <a:cubicBezTo>
                  <a:pt x="17065" y="1000"/>
                  <a:pt x="17041" y="1009"/>
                  <a:pt x="17016" y="1017"/>
                </a:cubicBezTo>
                <a:cubicBezTo>
                  <a:pt x="17100" y="983"/>
                  <a:pt x="17112" y="964"/>
                  <a:pt x="17190" y="918"/>
                </a:cubicBezTo>
                <a:cubicBezTo>
                  <a:pt x="17372" y="810"/>
                  <a:pt x="17534" y="737"/>
                  <a:pt x="17735" y="670"/>
                </a:cubicBezTo>
                <a:cubicBezTo>
                  <a:pt x="17918" y="609"/>
                  <a:pt x="18062" y="546"/>
                  <a:pt x="18256" y="546"/>
                </a:cubicBezTo>
                <a:cubicBezTo>
                  <a:pt x="18269" y="646"/>
                  <a:pt x="18120" y="762"/>
                  <a:pt x="18033" y="843"/>
                </a:cubicBezTo>
                <a:cubicBezTo>
                  <a:pt x="17866" y="998"/>
                  <a:pt x="17702" y="1157"/>
                  <a:pt x="17562" y="1339"/>
                </a:cubicBezTo>
                <a:cubicBezTo>
                  <a:pt x="17545" y="1364"/>
                  <a:pt x="17529" y="1389"/>
                  <a:pt x="17512" y="1414"/>
                </a:cubicBezTo>
                <a:cubicBezTo>
                  <a:pt x="17564" y="1566"/>
                  <a:pt x="17840" y="1366"/>
                  <a:pt x="17959" y="1315"/>
                </a:cubicBezTo>
                <a:cubicBezTo>
                  <a:pt x="18124" y="1244"/>
                  <a:pt x="18368" y="1116"/>
                  <a:pt x="18554" y="1116"/>
                </a:cubicBezTo>
                <a:cubicBezTo>
                  <a:pt x="18579" y="1124"/>
                  <a:pt x="18603" y="1133"/>
                  <a:pt x="18628" y="1141"/>
                </a:cubicBezTo>
                <a:cubicBezTo>
                  <a:pt x="18557" y="1285"/>
                  <a:pt x="18422" y="1426"/>
                  <a:pt x="18281" y="1513"/>
                </a:cubicBezTo>
                <a:cubicBezTo>
                  <a:pt x="18268" y="1521"/>
                  <a:pt x="17931" y="1697"/>
                  <a:pt x="17983" y="1712"/>
                </a:cubicBezTo>
                <a:cubicBezTo>
                  <a:pt x="18104" y="1747"/>
                  <a:pt x="18215" y="1613"/>
                  <a:pt x="18331" y="1563"/>
                </a:cubicBezTo>
              </a:path>
              <a:path w="8881" h="2903">
                <a:moveTo>
                  <a:pt x="20141" y="397"/>
                </a:moveTo>
                <a:cubicBezTo>
                  <a:pt x="20229" y="397"/>
                  <a:pt x="20305" y="381"/>
                  <a:pt x="20389" y="372"/>
                </a:cubicBezTo>
                <a:cubicBezTo>
                  <a:pt x="20545" y="355"/>
                  <a:pt x="20703" y="332"/>
                  <a:pt x="20861" y="322"/>
                </a:cubicBezTo>
                <a:cubicBezTo>
                  <a:pt x="20926" y="318"/>
                  <a:pt x="20994" y="322"/>
                  <a:pt x="21059" y="322"/>
                </a:cubicBezTo>
                <a:cubicBezTo>
                  <a:pt x="20976" y="343"/>
                  <a:pt x="20920" y="337"/>
                  <a:pt x="20861" y="397"/>
                </a:cubicBezTo>
              </a:path>
              <a:path w="8881" h="2903">
                <a:moveTo>
                  <a:pt x="21431" y="0"/>
                </a:moveTo>
                <a:cubicBezTo>
                  <a:pt x="21468" y="74"/>
                  <a:pt x="21498" y="147"/>
                  <a:pt x="21530" y="223"/>
                </a:cubicBezTo>
                <a:cubicBezTo>
                  <a:pt x="21571" y="320"/>
                  <a:pt x="21645" y="408"/>
                  <a:pt x="21704" y="496"/>
                </a:cubicBezTo>
                <a:cubicBezTo>
                  <a:pt x="21767" y="591"/>
                  <a:pt x="21836" y="679"/>
                  <a:pt x="21903" y="769"/>
                </a:cubicBezTo>
                <a:cubicBezTo>
                  <a:pt x="21953" y="836"/>
                  <a:pt x="22002" y="902"/>
                  <a:pt x="22051" y="967"/>
                </a:cubicBezTo>
                <a:cubicBezTo>
                  <a:pt x="22101" y="1033"/>
                  <a:pt x="22105" y="1020"/>
                  <a:pt x="22126" y="967"/>
                </a:cubicBezTo>
              </a:path>
              <a:path w="8881" h="2903">
                <a:moveTo>
                  <a:pt x="22027" y="0"/>
                </a:moveTo>
                <a:cubicBezTo>
                  <a:pt x="21946" y="23"/>
                  <a:pt x="21918" y="111"/>
                  <a:pt x="21878" y="198"/>
                </a:cubicBezTo>
                <a:cubicBezTo>
                  <a:pt x="21813" y="340"/>
                  <a:pt x="21749" y="480"/>
                  <a:pt x="21679" y="620"/>
                </a:cubicBezTo>
                <a:cubicBezTo>
                  <a:pt x="21628" y="722"/>
                  <a:pt x="21586" y="823"/>
                  <a:pt x="21530" y="918"/>
                </a:cubicBezTo>
                <a:cubicBezTo>
                  <a:pt x="21510" y="958"/>
                  <a:pt x="21502" y="984"/>
                  <a:pt x="21506" y="943"/>
                </a:cubicBezTo>
              </a:path>
              <a:path w="8881" h="2903">
                <a:moveTo>
                  <a:pt x="22349" y="0"/>
                </a:moveTo>
                <a:cubicBezTo>
                  <a:pt x="22456" y="0"/>
                  <a:pt x="22564" y="0"/>
                  <a:pt x="22671" y="0"/>
                </a:cubicBezTo>
                <a:cubicBezTo>
                  <a:pt x="22636" y="0"/>
                  <a:pt x="22356" y="0"/>
                  <a:pt x="22547" y="0"/>
                </a:cubicBezTo>
                <a:cubicBezTo>
                  <a:pt x="22597" y="0"/>
                  <a:pt x="22646" y="0"/>
                  <a:pt x="22696" y="0"/>
                </a:cubicBezTo>
                <a:cubicBezTo>
                  <a:pt x="22593" y="0"/>
                  <a:pt x="22496" y="-12"/>
                  <a:pt x="22399" y="25"/>
                </a:cubicBezTo>
                <a:cubicBezTo>
                  <a:pt x="22348" y="44"/>
                  <a:pt x="22299" y="75"/>
                  <a:pt x="22250" y="99"/>
                </a:cubicBezTo>
              </a:path>
              <a:path w="8881" h="2903">
                <a:moveTo>
                  <a:pt x="21456" y="50"/>
                </a:moveTo>
                <a:cubicBezTo>
                  <a:pt x="21221" y="165"/>
                  <a:pt x="20993" y="279"/>
                  <a:pt x="20762" y="397"/>
                </a:cubicBezTo>
                <a:cubicBezTo>
                  <a:pt x="20677" y="440"/>
                  <a:pt x="20657" y="487"/>
                  <a:pt x="20563" y="471"/>
                </a:cubicBezTo>
                <a:cubicBezTo>
                  <a:pt x="20684" y="363"/>
                  <a:pt x="20816" y="297"/>
                  <a:pt x="20960" y="223"/>
                </a:cubicBezTo>
                <a:cubicBezTo>
                  <a:pt x="21169" y="115"/>
                  <a:pt x="21298" y="9"/>
                  <a:pt x="21530" y="0"/>
                </a:cubicBezTo>
                <a:cubicBezTo>
                  <a:pt x="21671" y="-6"/>
                  <a:pt x="21372" y="0"/>
                  <a:pt x="21357" y="0"/>
                </a:cubicBezTo>
                <a:cubicBezTo>
                  <a:pt x="21124" y="0"/>
                  <a:pt x="20949" y="16"/>
                  <a:pt x="20737" y="124"/>
                </a:cubicBezTo>
                <a:cubicBezTo>
                  <a:pt x="20667" y="159"/>
                  <a:pt x="20439" y="264"/>
                  <a:pt x="20464" y="372"/>
                </a:cubicBezTo>
                <a:cubicBezTo>
                  <a:pt x="20472" y="380"/>
                  <a:pt x="20481" y="389"/>
                  <a:pt x="20489" y="397"/>
                </a:cubicBezTo>
                <a:cubicBezTo>
                  <a:pt x="20643" y="479"/>
                  <a:pt x="20759" y="471"/>
                  <a:pt x="20935" y="471"/>
                </a:cubicBezTo>
                <a:cubicBezTo>
                  <a:pt x="21120" y="471"/>
                  <a:pt x="21297" y="450"/>
                  <a:pt x="21481" y="446"/>
                </a:cubicBezTo>
                <a:cubicBezTo>
                  <a:pt x="21622" y="443"/>
                  <a:pt x="21772" y="422"/>
                  <a:pt x="21903" y="471"/>
                </a:cubicBezTo>
                <a:cubicBezTo>
                  <a:pt x="21837" y="635"/>
                  <a:pt x="21717" y="770"/>
                  <a:pt x="21580" y="893"/>
                </a:cubicBezTo>
                <a:cubicBezTo>
                  <a:pt x="21487" y="977"/>
                  <a:pt x="21411" y="1049"/>
                  <a:pt x="21382" y="1166"/>
                </a:cubicBezTo>
                <a:cubicBezTo>
                  <a:pt x="21484" y="1205"/>
                  <a:pt x="21574" y="1177"/>
                  <a:pt x="21679" y="1141"/>
                </a:cubicBezTo>
                <a:cubicBezTo>
                  <a:pt x="21850" y="1082"/>
                  <a:pt x="21993" y="972"/>
                  <a:pt x="22151" y="893"/>
                </a:cubicBezTo>
                <a:cubicBezTo>
                  <a:pt x="22272" y="833"/>
                  <a:pt x="22389" y="763"/>
                  <a:pt x="22423" y="620"/>
                </a:cubicBezTo>
                <a:cubicBezTo>
                  <a:pt x="22423" y="569"/>
                  <a:pt x="22422" y="551"/>
                  <a:pt x="22399" y="521"/>
                </a:cubicBezTo>
                <a:cubicBezTo>
                  <a:pt x="22237" y="434"/>
                  <a:pt x="22156" y="459"/>
                  <a:pt x="21977" y="471"/>
                </a:cubicBezTo>
                <a:cubicBezTo>
                  <a:pt x="21844" y="480"/>
                  <a:pt x="21752" y="463"/>
                  <a:pt x="21630" y="521"/>
                </a:cubicBezTo>
                <a:cubicBezTo>
                  <a:pt x="21613" y="529"/>
                  <a:pt x="21597" y="538"/>
                  <a:pt x="21580" y="546"/>
                </a:cubicBezTo>
              </a:path>
              <a:path w="8881" h="2903">
                <a:moveTo>
                  <a:pt x="19571" y="2381"/>
                </a:moveTo>
                <a:cubicBezTo>
                  <a:pt x="19648" y="2410"/>
                  <a:pt x="19715" y="2413"/>
                  <a:pt x="19794" y="2431"/>
                </a:cubicBezTo>
                <a:cubicBezTo>
                  <a:pt x="19904" y="2456"/>
                  <a:pt x="20003" y="2456"/>
                  <a:pt x="20117" y="2456"/>
                </a:cubicBezTo>
                <a:cubicBezTo>
                  <a:pt x="20224" y="2456"/>
                  <a:pt x="20332" y="2456"/>
                  <a:pt x="20439" y="2456"/>
                </a:cubicBezTo>
              </a:path>
              <a:path w="8881" h="2903">
                <a:moveTo>
                  <a:pt x="20836" y="2183"/>
                </a:moveTo>
                <a:cubicBezTo>
                  <a:pt x="20909" y="2283"/>
                  <a:pt x="20970" y="2374"/>
                  <a:pt x="21034" y="2480"/>
                </a:cubicBezTo>
                <a:cubicBezTo>
                  <a:pt x="21092" y="2577"/>
                  <a:pt x="21190" y="2686"/>
                  <a:pt x="21282" y="2753"/>
                </a:cubicBezTo>
                <a:cubicBezTo>
                  <a:pt x="21330" y="2788"/>
                  <a:pt x="21425" y="2862"/>
                  <a:pt x="21481" y="2877"/>
                </a:cubicBezTo>
                <a:cubicBezTo>
                  <a:pt x="21525" y="2877"/>
                  <a:pt x="21538" y="2880"/>
                  <a:pt x="21555" y="2853"/>
                </a:cubicBezTo>
              </a:path>
              <a:path w="8881" h="2903">
                <a:moveTo>
                  <a:pt x="21233" y="2059"/>
                </a:moveTo>
                <a:cubicBezTo>
                  <a:pt x="21181" y="2199"/>
                  <a:pt x="21124" y="2337"/>
                  <a:pt x="21084" y="2480"/>
                </a:cubicBezTo>
                <a:cubicBezTo>
                  <a:pt x="21050" y="2601"/>
                  <a:pt x="21025" y="2674"/>
                  <a:pt x="20960" y="2778"/>
                </a:cubicBezTo>
                <a:cubicBezTo>
                  <a:pt x="20928" y="2829"/>
                  <a:pt x="20852" y="2937"/>
                  <a:pt x="20861" y="2877"/>
                </a:cubicBezTo>
                <a:cubicBezTo>
                  <a:pt x="20869" y="2869"/>
                  <a:pt x="20878" y="2861"/>
                  <a:pt x="20886" y="2853"/>
                </a:cubicBezTo>
              </a:path>
              <a:path w="8881" h="2903">
                <a:moveTo>
                  <a:pt x="21456" y="1687"/>
                </a:moveTo>
                <a:cubicBezTo>
                  <a:pt x="21505" y="1602"/>
                  <a:pt x="21522" y="1582"/>
                  <a:pt x="21630" y="1563"/>
                </a:cubicBezTo>
                <a:cubicBezTo>
                  <a:pt x="21656" y="1558"/>
                  <a:pt x="21756" y="1596"/>
                  <a:pt x="21754" y="1637"/>
                </a:cubicBezTo>
                <a:cubicBezTo>
                  <a:pt x="21751" y="1702"/>
                  <a:pt x="21681" y="1776"/>
                  <a:pt x="21630" y="1811"/>
                </a:cubicBezTo>
                <a:cubicBezTo>
                  <a:pt x="21580" y="1836"/>
                  <a:pt x="21564" y="1844"/>
                  <a:pt x="21530" y="1860"/>
                </a:cubicBezTo>
                <a:cubicBezTo>
                  <a:pt x="21590" y="1908"/>
                  <a:pt x="21659" y="1927"/>
                  <a:pt x="21729" y="1960"/>
                </a:cubicBezTo>
                <a:cubicBezTo>
                  <a:pt x="21794" y="1990"/>
                  <a:pt x="21844" y="2013"/>
                  <a:pt x="21803" y="2084"/>
                </a:cubicBezTo>
                <a:cubicBezTo>
                  <a:pt x="21777" y="2129"/>
                  <a:pt x="21650" y="2131"/>
                  <a:pt x="21605" y="2133"/>
                </a:cubicBezTo>
                <a:cubicBezTo>
                  <a:pt x="21534" y="2136"/>
                  <a:pt x="21476" y="2146"/>
                  <a:pt x="21406" y="21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Ink 18"/>
          <p:cNvSpPr/>
          <p:nvPr/>
        </p:nvSpPr>
        <p:spPr>
          <a:xfrm>
            <a:off x="7956720" y="517680"/>
            <a:ext cx="527040" cy="438120"/>
          </a:xfrm>
          <a:custGeom>
            <a:avLst/>
            <a:gdLst/>
            <a:ahLst/>
            <a:rect l="l" t="t" r="r" b="b"/>
            <a:pathLst>
              <a:path w="1464" h="1216">
                <a:moveTo>
                  <a:pt x="22423" y="1588"/>
                </a:moveTo>
                <a:cubicBezTo>
                  <a:pt x="22400" y="1776"/>
                  <a:pt x="22363" y="1973"/>
                  <a:pt x="22349" y="2158"/>
                </a:cubicBezTo>
                <a:cubicBezTo>
                  <a:pt x="22341" y="2266"/>
                  <a:pt x="22335" y="2378"/>
                  <a:pt x="22324" y="2480"/>
                </a:cubicBezTo>
                <a:cubicBezTo>
                  <a:pt x="22313" y="2584"/>
                  <a:pt x="22316" y="2560"/>
                  <a:pt x="22299" y="2629"/>
                </a:cubicBezTo>
              </a:path>
              <a:path w="1464" h="1216">
                <a:moveTo>
                  <a:pt x="22101" y="1885"/>
                </a:moveTo>
                <a:cubicBezTo>
                  <a:pt x="22101" y="1780"/>
                  <a:pt x="22089" y="1664"/>
                  <a:pt x="22126" y="1563"/>
                </a:cubicBezTo>
                <a:cubicBezTo>
                  <a:pt x="22139" y="1527"/>
                  <a:pt x="22200" y="1469"/>
                  <a:pt x="22225" y="1439"/>
                </a:cubicBezTo>
                <a:cubicBezTo>
                  <a:pt x="22294" y="1507"/>
                  <a:pt x="22315" y="1583"/>
                  <a:pt x="22374" y="1662"/>
                </a:cubicBezTo>
                <a:cubicBezTo>
                  <a:pt x="22426" y="1732"/>
                  <a:pt x="22517" y="1751"/>
                  <a:pt x="22597" y="1761"/>
                </a:cubicBezTo>
              </a:path>
              <a:path w="1464" h="1216">
                <a:moveTo>
                  <a:pt x="23093" y="1538"/>
                </a:moveTo>
                <a:cubicBezTo>
                  <a:pt x="23067" y="1678"/>
                  <a:pt x="23048" y="1817"/>
                  <a:pt x="23044" y="1960"/>
                </a:cubicBezTo>
                <a:cubicBezTo>
                  <a:pt x="23041" y="2064"/>
                  <a:pt x="23019" y="2152"/>
                  <a:pt x="23019" y="2257"/>
                </a:cubicBezTo>
                <a:cubicBezTo>
                  <a:pt x="23019" y="2337"/>
                  <a:pt x="23055" y="2390"/>
                  <a:pt x="23068" y="2456"/>
                </a:cubicBezTo>
                <a:cubicBezTo>
                  <a:pt x="23068" y="2472"/>
                  <a:pt x="23068" y="2489"/>
                  <a:pt x="23068" y="2505"/>
                </a:cubicBezTo>
              </a:path>
              <a:path w="1464" h="1216">
                <a:moveTo>
                  <a:pt x="22969" y="2282"/>
                </a:moveTo>
                <a:cubicBezTo>
                  <a:pt x="22976" y="2392"/>
                  <a:pt x="22982" y="2483"/>
                  <a:pt x="23044" y="2580"/>
                </a:cubicBezTo>
                <a:cubicBezTo>
                  <a:pt x="23072" y="2624"/>
                  <a:pt x="23167" y="2665"/>
                  <a:pt x="23217" y="2654"/>
                </a:cubicBezTo>
                <a:cubicBezTo>
                  <a:pt x="23290" y="2638"/>
                  <a:pt x="23330" y="2560"/>
                  <a:pt x="23366" y="2505"/>
                </a:cubicBezTo>
                <a:cubicBezTo>
                  <a:pt x="23440" y="2393"/>
                  <a:pt x="23502" y="2277"/>
                  <a:pt x="23564" y="21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Ink 19"/>
          <p:cNvSpPr/>
          <p:nvPr/>
        </p:nvSpPr>
        <p:spPr>
          <a:xfrm>
            <a:off x="7885080" y="1384200"/>
            <a:ext cx="955800" cy="1946520"/>
          </a:xfrm>
          <a:custGeom>
            <a:avLst/>
            <a:gdLst/>
            <a:ahLst/>
            <a:rect l="l" t="t" r="r" b="b"/>
            <a:pathLst>
              <a:path w="2655" h="5408">
                <a:moveTo>
                  <a:pt x="22448" y="4539"/>
                </a:moveTo>
                <a:cubicBezTo>
                  <a:pt x="22486" y="4602"/>
                  <a:pt x="22486" y="4689"/>
                  <a:pt x="22523" y="4762"/>
                </a:cubicBezTo>
                <a:cubicBezTo>
                  <a:pt x="22585" y="4883"/>
                  <a:pt x="22605" y="5014"/>
                  <a:pt x="22671" y="5135"/>
                </a:cubicBezTo>
                <a:cubicBezTo>
                  <a:pt x="22736" y="5254"/>
                  <a:pt x="22838" y="5330"/>
                  <a:pt x="22920" y="5432"/>
                </a:cubicBezTo>
                <a:cubicBezTo>
                  <a:pt x="22983" y="5510"/>
                  <a:pt x="23047" y="5542"/>
                  <a:pt x="23118" y="5606"/>
                </a:cubicBezTo>
                <a:cubicBezTo>
                  <a:pt x="23143" y="5631"/>
                  <a:pt x="23151" y="5639"/>
                  <a:pt x="23168" y="5606"/>
                </a:cubicBezTo>
              </a:path>
              <a:path w="2655" h="5408">
                <a:moveTo>
                  <a:pt x="23044" y="4490"/>
                </a:moveTo>
                <a:cubicBezTo>
                  <a:pt x="22965" y="4704"/>
                  <a:pt x="22865" y="4904"/>
                  <a:pt x="22771" y="5110"/>
                </a:cubicBezTo>
                <a:cubicBezTo>
                  <a:pt x="22711" y="5242"/>
                  <a:pt x="22666" y="5370"/>
                  <a:pt x="22622" y="5507"/>
                </a:cubicBezTo>
                <a:cubicBezTo>
                  <a:pt x="22606" y="5556"/>
                  <a:pt x="22588" y="5609"/>
                  <a:pt x="22572" y="5655"/>
                </a:cubicBezTo>
              </a:path>
              <a:path w="2655" h="5408">
                <a:moveTo>
                  <a:pt x="23192" y="4018"/>
                </a:moveTo>
                <a:cubicBezTo>
                  <a:pt x="23318" y="3907"/>
                  <a:pt x="23373" y="3827"/>
                  <a:pt x="23540" y="3870"/>
                </a:cubicBezTo>
                <a:cubicBezTo>
                  <a:pt x="23617" y="3890"/>
                  <a:pt x="23693" y="3949"/>
                  <a:pt x="23688" y="4043"/>
                </a:cubicBezTo>
                <a:cubicBezTo>
                  <a:pt x="23684" y="4106"/>
                  <a:pt x="23559" y="4189"/>
                  <a:pt x="23515" y="4217"/>
                </a:cubicBezTo>
                <a:cubicBezTo>
                  <a:pt x="23463" y="4249"/>
                  <a:pt x="23414" y="4278"/>
                  <a:pt x="23366" y="4316"/>
                </a:cubicBezTo>
                <a:cubicBezTo>
                  <a:pt x="23423" y="4373"/>
                  <a:pt x="23470" y="4377"/>
                  <a:pt x="23540" y="4415"/>
                </a:cubicBezTo>
                <a:cubicBezTo>
                  <a:pt x="23646" y="4472"/>
                  <a:pt x="23748" y="4544"/>
                  <a:pt x="23788" y="4663"/>
                </a:cubicBezTo>
                <a:cubicBezTo>
                  <a:pt x="23821" y="4761"/>
                  <a:pt x="23735" y="4763"/>
                  <a:pt x="23688" y="4787"/>
                </a:cubicBezTo>
                <a:cubicBezTo>
                  <a:pt x="23621" y="4821"/>
                  <a:pt x="23586" y="4817"/>
                  <a:pt x="23515" y="4837"/>
                </a:cubicBezTo>
                <a:cubicBezTo>
                  <a:pt x="23457" y="4853"/>
                  <a:pt x="23368" y="4863"/>
                  <a:pt x="23316" y="4887"/>
                </a:cubicBezTo>
                <a:cubicBezTo>
                  <a:pt x="23294" y="4909"/>
                  <a:pt x="23289" y="4917"/>
                  <a:pt x="23267" y="4911"/>
                </a:cubicBezTo>
              </a:path>
              <a:path w="2655" h="5408">
                <a:moveTo>
                  <a:pt x="22647" y="6722"/>
                </a:moveTo>
                <a:cubicBezTo>
                  <a:pt x="22706" y="6813"/>
                  <a:pt x="22734" y="6918"/>
                  <a:pt x="22771" y="7020"/>
                </a:cubicBezTo>
                <a:cubicBezTo>
                  <a:pt x="22842" y="7216"/>
                  <a:pt x="22922" y="7342"/>
                  <a:pt x="23068" y="7491"/>
                </a:cubicBezTo>
                <a:cubicBezTo>
                  <a:pt x="23188" y="7614"/>
                  <a:pt x="23317" y="7730"/>
                  <a:pt x="23465" y="7813"/>
                </a:cubicBezTo>
                <a:cubicBezTo>
                  <a:pt x="23522" y="7841"/>
                  <a:pt x="23545" y="7852"/>
                  <a:pt x="23589" y="7863"/>
                </a:cubicBezTo>
              </a:path>
              <a:path w="2655" h="5408">
                <a:moveTo>
                  <a:pt x="23192" y="6896"/>
                </a:moveTo>
                <a:cubicBezTo>
                  <a:pt x="23070" y="7176"/>
                  <a:pt x="22958" y="7500"/>
                  <a:pt x="22796" y="7764"/>
                </a:cubicBezTo>
                <a:cubicBezTo>
                  <a:pt x="22741" y="7853"/>
                  <a:pt x="22686" y="7956"/>
                  <a:pt x="22622" y="8037"/>
                </a:cubicBezTo>
              </a:path>
              <a:path w="2655" h="5408">
                <a:moveTo>
                  <a:pt x="23515" y="6276"/>
                </a:moveTo>
                <a:cubicBezTo>
                  <a:pt x="23483" y="6339"/>
                  <a:pt x="23456" y="6416"/>
                  <a:pt x="23416" y="6474"/>
                </a:cubicBezTo>
                <a:cubicBezTo>
                  <a:pt x="23358" y="6558"/>
                  <a:pt x="23347" y="6588"/>
                  <a:pt x="23465" y="6598"/>
                </a:cubicBezTo>
                <a:cubicBezTo>
                  <a:pt x="23557" y="6605"/>
                  <a:pt x="23666" y="6579"/>
                  <a:pt x="23738" y="6524"/>
                </a:cubicBezTo>
                <a:cubicBezTo>
                  <a:pt x="23755" y="6507"/>
                  <a:pt x="23771" y="6491"/>
                  <a:pt x="23788" y="6474"/>
                </a:cubicBezTo>
              </a:path>
              <a:path w="2655" h="5408">
                <a:moveTo>
                  <a:pt x="23862" y="5953"/>
                </a:moveTo>
                <a:cubicBezTo>
                  <a:pt x="23840" y="6193"/>
                  <a:pt x="23834" y="6433"/>
                  <a:pt x="23812" y="6672"/>
                </a:cubicBezTo>
                <a:cubicBezTo>
                  <a:pt x="23788" y="6846"/>
                  <a:pt x="23780" y="6904"/>
                  <a:pt x="23763" y="7020"/>
                </a:cubicBezTo>
              </a:path>
              <a:path w="2655" h="5408">
                <a:moveTo>
                  <a:pt x="24482" y="6251"/>
                </a:moveTo>
                <a:cubicBezTo>
                  <a:pt x="24475" y="6026"/>
                  <a:pt x="24499" y="5897"/>
                  <a:pt x="24284" y="5779"/>
                </a:cubicBezTo>
                <a:cubicBezTo>
                  <a:pt x="24047" y="5649"/>
                  <a:pt x="23793" y="5700"/>
                  <a:pt x="23564" y="5804"/>
                </a:cubicBezTo>
                <a:cubicBezTo>
                  <a:pt x="23364" y="5895"/>
                  <a:pt x="23242" y="6079"/>
                  <a:pt x="23242" y="6300"/>
                </a:cubicBezTo>
                <a:cubicBezTo>
                  <a:pt x="23242" y="6561"/>
                  <a:pt x="23482" y="6813"/>
                  <a:pt x="23664" y="6970"/>
                </a:cubicBezTo>
                <a:cubicBezTo>
                  <a:pt x="23781" y="7071"/>
                  <a:pt x="23928" y="7156"/>
                  <a:pt x="24085" y="7144"/>
                </a:cubicBezTo>
                <a:cubicBezTo>
                  <a:pt x="24223" y="7133"/>
                  <a:pt x="24388" y="7038"/>
                  <a:pt x="24457" y="6921"/>
                </a:cubicBezTo>
                <a:cubicBezTo>
                  <a:pt x="24589" y="6697"/>
                  <a:pt x="24554" y="6435"/>
                  <a:pt x="24482" y="6201"/>
                </a:cubicBezTo>
                <a:cubicBezTo>
                  <a:pt x="24421" y="6002"/>
                  <a:pt x="24255" y="5819"/>
                  <a:pt x="24085" y="5705"/>
                </a:cubicBezTo>
                <a:cubicBezTo>
                  <a:pt x="23980" y="5635"/>
                  <a:pt x="23790" y="5591"/>
                  <a:pt x="23664" y="5606"/>
                </a:cubicBezTo>
                <a:cubicBezTo>
                  <a:pt x="23499" y="5626"/>
                  <a:pt x="23405" y="5688"/>
                  <a:pt x="23316" y="5829"/>
                </a:cubicBezTo>
                <a:cubicBezTo>
                  <a:pt x="23300" y="5862"/>
                  <a:pt x="23283" y="5895"/>
                  <a:pt x="23267" y="5928"/>
                </a:cubicBezTo>
              </a:path>
              <a:path w="2655" h="5408">
                <a:moveTo>
                  <a:pt x="21903" y="8731"/>
                </a:moveTo>
                <a:cubicBezTo>
                  <a:pt x="22034" y="8731"/>
                  <a:pt x="22146" y="8725"/>
                  <a:pt x="22275" y="8706"/>
                </a:cubicBezTo>
              </a:path>
              <a:path w="2655" h="5408">
                <a:moveTo>
                  <a:pt x="22671" y="8458"/>
                </a:moveTo>
                <a:cubicBezTo>
                  <a:pt x="22741" y="8597"/>
                  <a:pt x="22804" y="8729"/>
                  <a:pt x="22895" y="8855"/>
                </a:cubicBezTo>
                <a:cubicBezTo>
                  <a:pt x="22989" y="8985"/>
                  <a:pt x="23099" y="9072"/>
                  <a:pt x="23217" y="9178"/>
                </a:cubicBezTo>
                <a:cubicBezTo>
                  <a:pt x="23302" y="9262"/>
                  <a:pt x="23341" y="9287"/>
                  <a:pt x="23440" y="9252"/>
                </a:cubicBezTo>
              </a:path>
              <a:path w="2655" h="5408">
                <a:moveTo>
                  <a:pt x="23217" y="8334"/>
                </a:moveTo>
                <a:cubicBezTo>
                  <a:pt x="23090" y="8471"/>
                  <a:pt x="22978" y="8611"/>
                  <a:pt x="22895" y="8781"/>
                </a:cubicBezTo>
                <a:cubicBezTo>
                  <a:pt x="22836" y="8902"/>
                  <a:pt x="22779" y="9020"/>
                  <a:pt x="22771" y="9153"/>
                </a:cubicBezTo>
                <a:cubicBezTo>
                  <a:pt x="22771" y="9178"/>
                  <a:pt x="22771" y="9186"/>
                  <a:pt x="22796" y="9178"/>
                </a:cubicBezTo>
              </a:path>
              <a:path w="2655" h="5408">
                <a:moveTo>
                  <a:pt x="23540" y="8136"/>
                </a:moveTo>
                <a:cubicBezTo>
                  <a:pt x="23530" y="8202"/>
                  <a:pt x="23500" y="8218"/>
                  <a:pt x="23490" y="8285"/>
                </a:cubicBezTo>
                <a:cubicBezTo>
                  <a:pt x="23577" y="8318"/>
                  <a:pt x="23669" y="8321"/>
                  <a:pt x="23763" y="8285"/>
                </a:cubicBezTo>
                <a:cubicBezTo>
                  <a:pt x="23779" y="8277"/>
                  <a:pt x="23796" y="8268"/>
                  <a:pt x="23812" y="8260"/>
                </a:cubicBezTo>
              </a:path>
              <a:path w="2655" h="5408">
                <a:moveTo>
                  <a:pt x="23862" y="7789"/>
                </a:moveTo>
                <a:cubicBezTo>
                  <a:pt x="23800" y="7998"/>
                  <a:pt x="23753" y="8195"/>
                  <a:pt x="23713" y="8409"/>
                </a:cubicBezTo>
                <a:cubicBezTo>
                  <a:pt x="23705" y="8450"/>
                  <a:pt x="23696" y="8492"/>
                  <a:pt x="2368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Ink 20"/>
          <p:cNvSpPr/>
          <p:nvPr/>
        </p:nvSpPr>
        <p:spPr>
          <a:xfrm>
            <a:off x="5688000" y="1241280"/>
            <a:ext cx="2135160" cy="1938600"/>
          </a:xfrm>
          <a:custGeom>
            <a:avLst/>
            <a:gdLst/>
            <a:ahLst/>
            <a:rect l="l" t="t" r="r" b="b"/>
            <a:pathLst>
              <a:path w="5929" h="5383">
                <a:moveTo>
                  <a:pt x="16520" y="7441"/>
                </a:moveTo>
                <a:cubicBezTo>
                  <a:pt x="16494" y="7536"/>
                  <a:pt x="16495" y="7614"/>
                  <a:pt x="16495" y="7714"/>
                </a:cubicBezTo>
                <a:cubicBezTo>
                  <a:pt x="16495" y="7807"/>
                  <a:pt x="16500" y="7877"/>
                  <a:pt x="16520" y="7962"/>
                </a:cubicBezTo>
                <a:cubicBezTo>
                  <a:pt x="16520" y="7970"/>
                  <a:pt x="16520" y="7979"/>
                  <a:pt x="16520" y="7987"/>
                </a:cubicBezTo>
              </a:path>
              <a:path w="5929" h="5383">
                <a:moveTo>
                  <a:pt x="15974" y="7491"/>
                </a:moveTo>
                <a:cubicBezTo>
                  <a:pt x="15974" y="7681"/>
                  <a:pt x="15974" y="7872"/>
                  <a:pt x="15974" y="8062"/>
                </a:cubicBezTo>
              </a:path>
              <a:path w="5929" h="5383">
                <a:moveTo>
                  <a:pt x="15949" y="7764"/>
                </a:moveTo>
                <a:cubicBezTo>
                  <a:pt x="15991" y="7789"/>
                  <a:pt x="16080" y="7807"/>
                  <a:pt x="16049" y="7714"/>
                </a:cubicBezTo>
                <a:cubicBezTo>
                  <a:pt x="16029" y="7654"/>
                  <a:pt x="15915" y="7697"/>
                  <a:pt x="15900" y="7739"/>
                </a:cubicBezTo>
                <a:cubicBezTo>
                  <a:pt x="15866" y="7834"/>
                  <a:pt x="15981" y="7809"/>
                  <a:pt x="16024" y="7789"/>
                </a:cubicBezTo>
                <a:cubicBezTo>
                  <a:pt x="16101" y="7753"/>
                  <a:pt x="16024" y="7710"/>
                  <a:pt x="15999" y="7689"/>
                </a:cubicBezTo>
                <a:cubicBezTo>
                  <a:pt x="15927" y="7699"/>
                  <a:pt x="15904" y="7710"/>
                  <a:pt x="15900" y="7789"/>
                </a:cubicBezTo>
                <a:cubicBezTo>
                  <a:pt x="15896" y="7885"/>
                  <a:pt x="15878" y="7889"/>
                  <a:pt x="15949" y="7913"/>
                </a:cubicBezTo>
                <a:cubicBezTo>
                  <a:pt x="16009" y="7904"/>
                  <a:pt x="16056" y="7886"/>
                  <a:pt x="16073" y="7813"/>
                </a:cubicBezTo>
                <a:cubicBezTo>
                  <a:pt x="16086" y="7758"/>
                  <a:pt x="16054" y="7727"/>
                  <a:pt x="16024" y="7689"/>
                </a:cubicBezTo>
                <a:cubicBezTo>
                  <a:pt x="15967" y="7697"/>
                  <a:pt x="15917" y="7724"/>
                  <a:pt x="15900" y="7789"/>
                </a:cubicBezTo>
                <a:cubicBezTo>
                  <a:pt x="15876" y="7880"/>
                  <a:pt x="15920" y="7946"/>
                  <a:pt x="15999" y="7913"/>
                </a:cubicBezTo>
                <a:cubicBezTo>
                  <a:pt x="16029" y="7901"/>
                  <a:pt x="16112" y="7850"/>
                  <a:pt x="16123" y="7813"/>
                </a:cubicBezTo>
                <a:cubicBezTo>
                  <a:pt x="16123" y="7764"/>
                  <a:pt x="16123" y="7747"/>
                  <a:pt x="16123" y="7714"/>
                </a:cubicBezTo>
                <a:cubicBezTo>
                  <a:pt x="16078" y="7669"/>
                  <a:pt x="16056" y="7644"/>
                  <a:pt x="15999" y="7689"/>
                </a:cubicBezTo>
                <a:cubicBezTo>
                  <a:pt x="15940" y="7736"/>
                  <a:pt x="15908" y="7790"/>
                  <a:pt x="15900" y="7863"/>
                </a:cubicBezTo>
                <a:cubicBezTo>
                  <a:pt x="15891" y="7951"/>
                  <a:pt x="15927" y="7931"/>
                  <a:pt x="15999" y="7938"/>
                </a:cubicBezTo>
                <a:cubicBezTo>
                  <a:pt x="16032" y="7905"/>
                  <a:pt x="16065" y="7871"/>
                  <a:pt x="16098" y="7838"/>
                </a:cubicBezTo>
                <a:cubicBezTo>
                  <a:pt x="16161" y="7775"/>
                  <a:pt x="16098" y="7737"/>
                  <a:pt x="16049" y="7689"/>
                </a:cubicBezTo>
                <a:cubicBezTo>
                  <a:pt x="15971" y="7611"/>
                  <a:pt x="15928" y="7734"/>
                  <a:pt x="15900" y="7789"/>
                </a:cubicBezTo>
                <a:cubicBezTo>
                  <a:pt x="15879" y="7830"/>
                  <a:pt x="15829" y="7965"/>
                  <a:pt x="15925" y="7938"/>
                </a:cubicBezTo>
                <a:cubicBezTo>
                  <a:pt x="15984" y="7921"/>
                  <a:pt x="16016" y="7857"/>
                  <a:pt x="16049" y="7813"/>
                </a:cubicBezTo>
                <a:cubicBezTo>
                  <a:pt x="16084" y="7766"/>
                  <a:pt x="16076" y="7761"/>
                  <a:pt x="16049" y="7714"/>
                </a:cubicBezTo>
                <a:cubicBezTo>
                  <a:pt x="15973" y="7724"/>
                  <a:pt x="15923" y="7745"/>
                  <a:pt x="15875" y="7813"/>
                </a:cubicBezTo>
                <a:cubicBezTo>
                  <a:pt x="15847" y="7852"/>
                  <a:pt x="15834" y="7878"/>
                  <a:pt x="15801" y="7913"/>
                </a:cubicBezTo>
              </a:path>
              <a:path w="5929" h="5383">
                <a:moveTo>
                  <a:pt x="20464" y="7491"/>
                </a:moveTo>
                <a:cubicBezTo>
                  <a:pt x="20494" y="7435"/>
                  <a:pt x="20515" y="7407"/>
                  <a:pt x="20538" y="7342"/>
                </a:cubicBezTo>
                <a:cubicBezTo>
                  <a:pt x="20556" y="7290"/>
                  <a:pt x="20571" y="7227"/>
                  <a:pt x="20588" y="7169"/>
                </a:cubicBezTo>
                <a:cubicBezTo>
                  <a:pt x="20614" y="7083"/>
                  <a:pt x="20635" y="7005"/>
                  <a:pt x="20662" y="6921"/>
                </a:cubicBezTo>
                <a:cubicBezTo>
                  <a:pt x="20692" y="6828"/>
                  <a:pt x="20712" y="6741"/>
                  <a:pt x="20737" y="6648"/>
                </a:cubicBezTo>
                <a:cubicBezTo>
                  <a:pt x="20768" y="6531"/>
                  <a:pt x="20804" y="6416"/>
                  <a:pt x="20836" y="6300"/>
                </a:cubicBezTo>
                <a:cubicBezTo>
                  <a:pt x="20890" y="6103"/>
                  <a:pt x="20930" y="5902"/>
                  <a:pt x="20985" y="5705"/>
                </a:cubicBezTo>
                <a:cubicBezTo>
                  <a:pt x="21033" y="5532"/>
                  <a:pt x="21057" y="5382"/>
                  <a:pt x="21084" y="5209"/>
                </a:cubicBezTo>
                <a:cubicBezTo>
                  <a:pt x="21104" y="5079"/>
                  <a:pt x="21126" y="4938"/>
                  <a:pt x="21158" y="4812"/>
                </a:cubicBezTo>
                <a:cubicBezTo>
                  <a:pt x="21186" y="4704"/>
                  <a:pt x="21220" y="4577"/>
                  <a:pt x="21233" y="4465"/>
                </a:cubicBezTo>
                <a:cubicBezTo>
                  <a:pt x="21247" y="4343"/>
                  <a:pt x="21269" y="4238"/>
                  <a:pt x="21307" y="4118"/>
                </a:cubicBezTo>
                <a:cubicBezTo>
                  <a:pt x="21346" y="3998"/>
                  <a:pt x="21368" y="3893"/>
                  <a:pt x="21406" y="3770"/>
                </a:cubicBezTo>
                <a:cubicBezTo>
                  <a:pt x="21421" y="3721"/>
                  <a:pt x="21406" y="3711"/>
                  <a:pt x="21406" y="3671"/>
                </a:cubicBezTo>
              </a:path>
              <a:path w="5929" h="5383">
                <a:moveTo>
                  <a:pt x="21282" y="3795"/>
                </a:moveTo>
                <a:cubicBezTo>
                  <a:pt x="21302" y="3742"/>
                  <a:pt x="21343" y="3671"/>
                  <a:pt x="21357" y="3621"/>
                </a:cubicBezTo>
                <a:cubicBezTo>
                  <a:pt x="21368" y="3581"/>
                  <a:pt x="21382" y="3472"/>
                  <a:pt x="21431" y="3448"/>
                </a:cubicBezTo>
                <a:cubicBezTo>
                  <a:pt x="21448" y="3448"/>
                  <a:pt x="21464" y="3448"/>
                  <a:pt x="21481" y="3448"/>
                </a:cubicBezTo>
                <a:cubicBezTo>
                  <a:pt x="21493" y="3528"/>
                  <a:pt x="21545" y="3618"/>
                  <a:pt x="21580" y="3696"/>
                </a:cubicBezTo>
                <a:cubicBezTo>
                  <a:pt x="21602" y="3746"/>
                  <a:pt x="21624" y="3807"/>
                  <a:pt x="21654" y="3845"/>
                </a:cubicBezTo>
                <a:cubicBezTo>
                  <a:pt x="21684" y="3883"/>
                  <a:pt x="21703" y="3899"/>
                  <a:pt x="21729" y="3944"/>
                </a:cubicBezTo>
              </a:path>
              <a:path w="5929" h="5383">
                <a:moveTo>
                  <a:pt x="15999" y="7640"/>
                </a:moveTo>
                <a:cubicBezTo>
                  <a:pt x="16032" y="7577"/>
                  <a:pt x="16065" y="7471"/>
                  <a:pt x="16098" y="7417"/>
                </a:cubicBezTo>
                <a:cubicBezTo>
                  <a:pt x="16135" y="7356"/>
                  <a:pt x="16186" y="7306"/>
                  <a:pt x="16222" y="7243"/>
                </a:cubicBezTo>
                <a:cubicBezTo>
                  <a:pt x="16271" y="7157"/>
                  <a:pt x="16319" y="7076"/>
                  <a:pt x="16371" y="6995"/>
                </a:cubicBezTo>
                <a:cubicBezTo>
                  <a:pt x="16411" y="6932"/>
                  <a:pt x="16445" y="6878"/>
                  <a:pt x="16495" y="6821"/>
                </a:cubicBezTo>
                <a:cubicBezTo>
                  <a:pt x="16541" y="6769"/>
                  <a:pt x="16568" y="6756"/>
                  <a:pt x="16619" y="6722"/>
                </a:cubicBezTo>
                <a:cubicBezTo>
                  <a:pt x="16706" y="6663"/>
                  <a:pt x="16741" y="6648"/>
                  <a:pt x="16842" y="6648"/>
                </a:cubicBezTo>
                <a:cubicBezTo>
                  <a:pt x="16917" y="6648"/>
                  <a:pt x="17000" y="6685"/>
                  <a:pt x="17066" y="6722"/>
                </a:cubicBezTo>
                <a:cubicBezTo>
                  <a:pt x="17101" y="6742"/>
                  <a:pt x="17132" y="6761"/>
                  <a:pt x="17165" y="6796"/>
                </a:cubicBezTo>
                <a:cubicBezTo>
                  <a:pt x="17204" y="6837"/>
                  <a:pt x="17214" y="6912"/>
                  <a:pt x="17239" y="6945"/>
                </a:cubicBezTo>
                <a:cubicBezTo>
                  <a:pt x="17286" y="7005"/>
                  <a:pt x="17333" y="7048"/>
                  <a:pt x="17363" y="7119"/>
                </a:cubicBezTo>
                <a:cubicBezTo>
                  <a:pt x="17405" y="7219"/>
                  <a:pt x="17441" y="7322"/>
                  <a:pt x="17487" y="7417"/>
                </a:cubicBezTo>
                <a:cubicBezTo>
                  <a:pt x="17512" y="7469"/>
                  <a:pt x="17526" y="7534"/>
                  <a:pt x="17562" y="7590"/>
                </a:cubicBezTo>
                <a:cubicBezTo>
                  <a:pt x="17591" y="7636"/>
                  <a:pt x="17649" y="7686"/>
                  <a:pt x="17686" y="7739"/>
                </a:cubicBezTo>
                <a:cubicBezTo>
                  <a:pt x="17715" y="7781"/>
                  <a:pt x="17758" y="7820"/>
                  <a:pt x="17785" y="7863"/>
                </a:cubicBezTo>
                <a:cubicBezTo>
                  <a:pt x="17818" y="7916"/>
                  <a:pt x="17852" y="7982"/>
                  <a:pt x="17884" y="8037"/>
                </a:cubicBezTo>
                <a:cubicBezTo>
                  <a:pt x="17937" y="8127"/>
                  <a:pt x="17976" y="8224"/>
                  <a:pt x="18033" y="8310"/>
                </a:cubicBezTo>
                <a:cubicBezTo>
                  <a:pt x="18087" y="8392"/>
                  <a:pt x="18162" y="8462"/>
                  <a:pt x="18231" y="8533"/>
                </a:cubicBezTo>
                <a:cubicBezTo>
                  <a:pt x="18286" y="8589"/>
                  <a:pt x="18340" y="8632"/>
                  <a:pt x="18405" y="8682"/>
                </a:cubicBezTo>
                <a:cubicBezTo>
                  <a:pt x="18477" y="8738"/>
                  <a:pt x="18519" y="8773"/>
                  <a:pt x="18604" y="8806"/>
                </a:cubicBezTo>
                <a:cubicBezTo>
                  <a:pt x="18666" y="8830"/>
                  <a:pt x="18759" y="8836"/>
                  <a:pt x="18827" y="8830"/>
                </a:cubicBezTo>
                <a:cubicBezTo>
                  <a:pt x="18916" y="8822"/>
                  <a:pt x="18990" y="8800"/>
                  <a:pt x="19075" y="8781"/>
                </a:cubicBezTo>
                <a:cubicBezTo>
                  <a:pt x="19163" y="8761"/>
                  <a:pt x="19221" y="8721"/>
                  <a:pt x="19298" y="8682"/>
                </a:cubicBezTo>
                <a:cubicBezTo>
                  <a:pt x="19416" y="8621"/>
                  <a:pt x="19547" y="8538"/>
                  <a:pt x="19645" y="8458"/>
                </a:cubicBezTo>
                <a:cubicBezTo>
                  <a:pt x="19732" y="8387"/>
                  <a:pt x="19800" y="8293"/>
                  <a:pt x="19869" y="8210"/>
                </a:cubicBezTo>
                <a:cubicBezTo>
                  <a:pt x="19925" y="8142"/>
                  <a:pt x="20000" y="8064"/>
                  <a:pt x="20042" y="7987"/>
                </a:cubicBezTo>
                <a:cubicBezTo>
                  <a:pt x="20082" y="7914"/>
                  <a:pt x="20124" y="7857"/>
                  <a:pt x="20166" y="7789"/>
                </a:cubicBezTo>
                <a:cubicBezTo>
                  <a:pt x="20221" y="7700"/>
                  <a:pt x="20258" y="7602"/>
                  <a:pt x="20315" y="7516"/>
                </a:cubicBezTo>
                <a:cubicBezTo>
                  <a:pt x="20348" y="7467"/>
                  <a:pt x="20390" y="7423"/>
                  <a:pt x="20414" y="7367"/>
                </a:cubicBezTo>
                <a:cubicBezTo>
                  <a:pt x="20438" y="7319"/>
                  <a:pt x="20446" y="7305"/>
                  <a:pt x="20439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Ink 21"/>
          <p:cNvSpPr/>
          <p:nvPr/>
        </p:nvSpPr>
        <p:spPr>
          <a:xfrm>
            <a:off x="6215040" y="271476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7264" y="7789"/>
                </a:moveTo>
                <a:cubicBezTo>
                  <a:pt x="17308" y="7745"/>
                  <a:pt x="17312" y="7714"/>
                  <a:pt x="17338" y="7665"/>
                </a:cubicBezTo>
                <a:cubicBezTo>
                  <a:pt x="17364" y="7616"/>
                  <a:pt x="17362" y="7584"/>
                  <a:pt x="17388" y="7541"/>
                </a:cubicBezTo>
                <a:cubicBezTo>
                  <a:pt x="17380" y="7608"/>
                  <a:pt x="17338" y="7695"/>
                  <a:pt x="17363" y="7764"/>
                </a:cubicBezTo>
                <a:cubicBezTo>
                  <a:pt x="17390" y="7839"/>
                  <a:pt x="17461" y="7765"/>
                  <a:pt x="17487" y="7739"/>
                </a:cubicBezTo>
                <a:cubicBezTo>
                  <a:pt x="17515" y="7711"/>
                  <a:pt x="17524" y="7698"/>
                  <a:pt x="17512" y="7665"/>
                </a:cubicBezTo>
                <a:cubicBezTo>
                  <a:pt x="17481" y="7611"/>
                  <a:pt x="17437" y="7548"/>
                  <a:pt x="17388" y="7640"/>
                </a:cubicBezTo>
                <a:cubicBezTo>
                  <a:pt x="17367" y="7680"/>
                  <a:pt x="17284" y="7809"/>
                  <a:pt x="17388" y="7789"/>
                </a:cubicBezTo>
                <a:cubicBezTo>
                  <a:pt x="17425" y="7782"/>
                  <a:pt x="17515" y="7719"/>
                  <a:pt x="17537" y="7689"/>
                </a:cubicBezTo>
                <a:cubicBezTo>
                  <a:pt x="17577" y="7634"/>
                  <a:pt x="17565" y="7612"/>
                  <a:pt x="17537" y="7565"/>
                </a:cubicBezTo>
                <a:cubicBezTo>
                  <a:pt x="17460" y="7573"/>
                  <a:pt x="17418" y="7582"/>
                  <a:pt x="17388" y="7665"/>
                </a:cubicBezTo>
                <a:cubicBezTo>
                  <a:pt x="17346" y="7782"/>
                  <a:pt x="17342" y="7843"/>
                  <a:pt x="17462" y="7813"/>
                </a:cubicBezTo>
                <a:cubicBezTo>
                  <a:pt x="17543" y="7768"/>
                  <a:pt x="17552" y="7754"/>
                  <a:pt x="17512" y="7665"/>
                </a:cubicBezTo>
                <a:cubicBezTo>
                  <a:pt x="17504" y="7648"/>
                  <a:pt x="17495" y="7632"/>
                  <a:pt x="17487" y="7615"/>
                </a:cubicBezTo>
                <a:cubicBezTo>
                  <a:pt x="17407" y="7625"/>
                  <a:pt x="17380" y="7643"/>
                  <a:pt x="17338" y="7714"/>
                </a:cubicBezTo>
                <a:cubicBezTo>
                  <a:pt x="17309" y="7763"/>
                  <a:pt x="17277" y="7905"/>
                  <a:pt x="17338" y="7938"/>
                </a:cubicBezTo>
                <a:cubicBezTo>
                  <a:pt x="17406" y="7975"/>
                  <a:pt x="17497" y="7860"/>
                  <a:pt x="17512" y="7813"/>
                </a:cubicBezTo>
                <a:cubicBezTo>
                  <a:pt x="17536" y="7736"/>
                  <a:pt x="17483" y="7703"/>
                  <a:pt x="17438" y="7665"/>
                </a:cubicBezTo>
                <a:cubicBezTo>
                  <a:pt x="17412" y="7703"/>
                  <a:pt x="17346" y="7787"/>
                  <a:pt x="17363" y="7838"/>
                </a:cubicBezTo>
                <a:cubicBezTo>
                  <a:pt x="17386" y="7907"/>
                  <a:pt x="17383" y="7946"/>
                  <a:pt x="17462" y="7913"/>
                </a:cubicBezTo>
                <a:cubicBezTo>
                  <a:pt x="17513" y="7892"/>
                  <a:pt x="17573" y="7847"/>
                  <a:pt x="17587" y="7789"/>
                </a:cubicBezTo>
                <a:cubicBezTo>
                  <a:pt x="17587" y="7772"/>
                  <a:pt x="17587" y="7756"/>
                  <a:pt x="17587" y="7739"/>
                </a:cubicBezTo>
                <a:cubicBezTo>
                  <a:pt x="17521" y="7657"/>
                  <a:pt x="17525" y="7659"/>
                  <a:pt x="17438" y="7739"/>
                </a:cubicBezTo>
                <a:cubicBezTo>
                  <a:pt x="17413" y="7764"/>
                  <a:pt x="17405" y="7772"/>
                  <a:pt x="17388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Ink 22"/>
          <p:cNvSpPr/>
          <p:nvPr/>
        </p:nvSpPr>
        <p:spPr>
          <a:xfrm>
            <a:off x="6554880" y="2741760"/>
            <a:ext cx="17280" cy="142560"/>
          </a:xfrm>
          <a:custGeom>
            <a:avLst/>
            <a:gdLst/>
            <a:ahLst/>
            <a:rect l="l" t="t" r="r" b="b"/>
            <a:pathLst>
              <a:path w="50" h="398">
                <a:moveTo>
                  <a:pt x="18207" y="7615"/>
                </a:moveTo>
                <a:cubicBezTo>
                  <a:pt x="18207" y="7739"/>
                  <a:pt x="18225" y="7844"/>
                  <a:pt x="18231" y="7962"/>
                </a:cubicBezTo>
                <a:cubicBezTo>
                  <a:pt x="18231" y="8007"/>
                  <a:pt x="18228" y="8027"/>
                  <a:pt x="18256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Ink 23"/>
          <p:cNvSpPr/>
          <p:nvPr/>
        </p:nvSpPr>
        <p:spPr>
          <a:xfrm>
            <a:off x="6732720" y="268776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18703" y="7466"/>
                </a:moveTo>
                <a:cubicBezTo>
                  <a:pt x="18703" y="7625"/>
                  <a:pt x="18686" y="7785"/>
                  <a:pt x="1872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Ink 24"/>
          <p:cNvSpPr/>
          <p:nvPr/>
        </p:nvSpPr>
        <p:spPr>
          <a:xfrm>
            <a:off x="6929280" y="2608200"/>
            <a:ext cx="17640" cy="214200"/>
          </a:xfrm>
          <a:custGeom>
            <a:avLst/>
            <a:gdLst/>
            <a:ahLst/>
            <a:rect l="l" t="t" r="r" b="b"/>
            <a:pathLst>
              <a:path w="51" h="596">
                <a:moveTo>
                  <a:pt x="19273" y="7243"/>
                </a:moveTo>
                <a:cubicBezTo>
                  <a:pt x="19273" y="7348"/>
                  <a:pt x="19259" y="7440"/>
                  <a:pt x="19248" y="7541"/>
                </a:cubicBezTo>
                <a:cubicBezTo>
                  <a:pt x="19240" y="7615"/>
                  <a:pt x="19227" y="7756"/>
                  <a:pt x="19273" y="7813"/>
                </a:cubicBezTo>
                <a:cubicBezTo>
                  <a:pt x="19281" y="7821"/>
                  <a:pt x="19290" y="7830"/>
                  <a:pt x="19298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Ink 25"/>
          <p:cNvSpPr/>
          <p:nvPr/>
        </p:nvSpPr>
        <p:spPr>
          <a:xfrm>
            <a:off x="7072200" y="2660760"/>
            <a:ext cx="27000" cy="161640"/>
          </a:xfrm>
          <a:custGeom>
            <a:avLst/>
            <a:gdLst/>
            <a:ahLst/>
            <a:rect l="l" t="t" r="r" b="b"/>
            <a:pathLst>
              <a:path w="76" h="447">
                <a:moveTo>
                  <a:pt x="19670" y="7392"/>
                </a:moveTo>
                <a:cubicBezTo>
                  <a:pt x="19670" y="7502"/>
                  <a:pt x="19634" y="7688"/>
                  <a:pt x="19645" y="7789"/>
                </a:cubicBezTo>
                <a:cubicBezTo>
                  <a:pt x="19669" y="7837"/>
                  <a:pt x="19676" y="7853"/>
                  <a:pt x="19720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Ink 26"/>
          <p:cNvSpPr/>
          <p:nvPr/>
        </p:nvSpPr>
        <p:spPr>
          <a:xfrm>
            <a:off x="7323120" y="2608200"/>
            <a:ext cx="88920" cy="258840"/>
          </a:xfrm>
          <a:custGeom>
            <a:avLst/>
            <a:gdLst/>
            <a:ahLst/>
            <a:rect l="l" t="t" r="r" b="b"/>
            <a:pathLst>
              <a:path w="249" h="720">
                <a:moveTo>
                  <a:pt x="20365" y="7243"/>
                </a:moveTo>
                <a:cubicBezTo>
                  <a:pt x="20410" y="7381"/>
                  <a:pt x="20414" y="7470"/>
                  <a:pt x="20414" y="7615"/>
                </a:cubicBezTo>
                <a:cubicBezTo>
                  <a:pt x="20414" y="7729"/>
                  <a:pt x="20419" y="7803"/>
                  <a:pt x="20414" y="7913"/>
                </a:cubicBezTo>
                <a:cubicBezTo>
                  <a:pt x="20414" y="7957"/>
                  <a:pt x="20411" y="7977"/>
                  <a:pt x="20439" y="7938"/>
                </a:cubicBezTo>
              </a:path>
              <a:path w="249" h="720">
                <a:moveTo>
                  <a:pt x="20389" y="7516"/>
                </a:moveTo>
                <a:cubicBezTo>
                  <a:pt x="20378" y="7546"/>
                  <a:pt x="20269" y="7762"/>
                  <a:pt x="20389" y="7739"/>
                </a:cubicBezTo>
                <a:cubicBezTo>
                  <a:pt x="20477" y="7722"/>
                  <a:pt x="20464" y="7658"/>
                  <a:pt x="20464" y="7590"/>
                </a:cubicBezTo>
                <a:cubicBezTo>
                  <a:pt x="20391" y="7600"/>
                  <a:pt x="20369" y="7611"/>
                  <a:pt x="20365" y="7689"/>
                </a:cubicBezTo>
                <a:cubicBezTo>
                  <a:pt x="20359" y="7799"/>
                  <a:pt x="20468" y="7729"/>
                  <a:pt x="20513" y="7689"/>
                </a:cubicBezTo>
                <a:cubicBezTo>
                  <a:pt x="20521" y="7681"/>
                  <a:pt x="20530" y="7673"/>
                  <a:pt x="20538" y="7665"/>
                </a:cubicBezTo>
                <a:cubicBezTo>
                  <a:pt x="20504" y="7606"/>
                  <a:pt x="20496" y="7562"/>
                  <a:pt x="20439" y="7590"/>
                </a:cubicBezTo>
                <a:cubicBezTo>
                  <a:pt x="20348" y="7635"/>
                  <a:pt x="20365" y="7665"/>
                  <a:pt x="20365" y="7764"/>
                </a:cubicBezTo>
                <a:cubicBezTo>
                  <a:pt x="20441" y="7811"/>
                  <a:pt x="20492" y="7774"/>
                  <a:pt x="20563" y="7714"/>
                </a:cubicBezTo>
                <a:cubicBezTo>
                  <a:pt x="20621" y="7665"/>
                  <a:pt x="20578" y="7600"/>
                  <a:pt x="20563" y="7541"/>
                </a:cubicBezTo>
                <a:cubicBezTo>
                  <a:pt x="20489" y="7551"/>
                  <a:pt x="20454" y="7572"/>
                  <a:pt x="20414" y="7640"/>
                </a:cubicBezTo>
                <a:cubicBezTo>
                  <a:pt x="20391" y="7679"/>
                  <a:pt x="20324" y="7802"/>
                  <a:pt x="20439" y="7764"/>
                </a:cubicBezTo>
                <a:cubicBezTo>
                  <a:pt x="20518" y="7738"/>
                  <a:pt x="20470" y="7659"/>
                  <a:pt x="20439" y="7615"/>
                </a:cubicBezTo>
                <a:cubicBezTo>
                  <a:pt x="20431" y="7607"/>
                  <a:pt x="20422" y="7598"/>
                  <a:pt x="20414" y="75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Ink 27"/>
          <p:cNvSpPr/>
          <p:nvPr/>
        </p:nvSpPr>
        <p:spPr>
          <a:xfrm>
            <a:off x="5303880" y="4179960"/>
            <a:ext cx="162000" cy="16992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14734" y="11609"/>
                </a:moveTo>
                <a:cubicBezTo>
                  <a:pt x="14744" y="11675"/>
                  <a:pt x="14758" y="11738"/>
                  <a:pt x="14784" y="11807"/>
                </a:cubicBezTo>
                <a:cubicBezTo>
                  <a:pt x="14811" y="11880"/>
                  <a:pt x="14821" y="11966"/>
                  <a:pt x="14858" y="12030"/>
                </a:cubicBezTo>
                <a:cubicBezTo>
                  <a:pt x="14889" y="12084"/>
                  <a:pt x="14958" y="12104"/>
                  <a:pt x="15007" y="12055"/>
                </a:cubicBezTo>
                <a:cubicBezTo>
                  <a:pt x="15068" y="11994"/>
                  <a:pt x="15089" y="11881"/>
                  <a:pt x="15131" y="11807"/>
                </a:cubicBezTo>
                <a:cubicBezTo>
                  <a:pt x="15147" y="11782"/>
                  <a:pt x="15164" y="11758"/>
                  <a:pt x="15180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Ink 28"/>
          <p:cNvSpPr/>
          <p:nvPr/>
        </p:nvSpPr>
        <p:spPr>
          <a:xfrm>
            <a:off x="6912000" y="3643200"/>
            <a:ext cx="857160" cy="714600"/>
          </a:xfrm>
          <a:custGeom>
            <a:avLst/>
            <a:gdLst/>
            <a:ahLst/>
            <a:rect l="l" t="t" r="r" b="b"/>
            <a:pathLst>
              <a:path w="2382" h="1986">
                <a:moveTo>
                  <a:pt x="19199" y="11311"/>
                </a:moveTo>
                <a:cubicBezTo>
                  <a:pt x="19269" y="11275"/>
                  <a:pt x="19343" y="11244"/>
                  <a:pt x="19422" y="11237"/>
                </a:cubicBezTo>
                <a:cubicBezTo>
                  <a:pt x="19517" y="11228"/>
                  <a:pt x="19639" y="11226"/>
                  <a:pt x="19720" y="11286"/>
                </a:cubicBezTo>
                <a:cubicBezTo>
                  <a:pt x="19761" y="11328"/>
                  <a:pt x="19769" y="11336"/>
                  <a:pt x="19794" y="11361"/>
                </a:cubicBezTo>
              </a:path>
              <a:path w="2382" h="1986">
                <a:moveTo>
                  <a:pt x="20067" y="10790"/>
                </a:moveTo>
                <a:cubicBezTo>
                  <a:pt x="20163" y="10726"/>
                  <a:pt x="20340" y="10525"/>
                  <a:pt x="20489" y="10616"/>
                </a:cubicBezTo>
                <a:cubicBezTo>
                  <a:pt x="20513" y="10641"/>
                  <a:pt x="20521" y="10650"/>
                  <a:pt x="20538" y="10666"/>
                </a:cubicBezTo>
                <a:cubicBezTo>
                  <a:pt x="20518" y="10748"/>
                  <a:pt x="20451" y="10844"/>
                  <a:pt x="20389" y="10914"/>
                </a:cubicBezTo>
                <a:cubicBezTo>
                  <a:pt x="20303" y="11012"/>
                  <a:pt x="20205" y="11091"/>
                  <a:pt x="20117" y="11187"/>
                </a:cubicBezTo>
                <a:cubicBezTo>
                  <a:pt x="20109" y="11195"/>
                  <a:pt x="20100" y="11204"/>
                  <a:pt x="20092" y="11212"/>
                </a:cubicBezTo>
                <a:cubicBezTo>
                  <a:pt x="20166" y="11187"/>
                  <a:pt x="20259" y="11139"/>
                  <a:pt x="20340" y="11162"/>
                </a:cubicBezTo>
                <a:cubicBezTo>
                  <a:pt x="20451" y="11193"/>
                  <a:pt x="20422" y="11300"/>
                  <a:pt x="20389" y="11385"/>
                </a:cubicBezTo>
                <a:cubicBezTo>
                  <a:pt x="20327" y="11543"/>
                  <a:pt x="20194" y="11675"/>
                  <a:pt x="20092" y="11807"/>
                </a:cubicBezTo>
                <a:cubicBezTo>
                  <a:pt x="20020" y="11900"/>
                  <a:pt x="19971" y="12012"/>
                  <a:pt x="19918" y="12105"/>
                </a:cubicBezTo>
              </a:path>
              <a:path w="2382" h="1986">
                <a:moveTo>
                  <a:pt x="20538" y="11212"/>
                </a:moveTo>
                <a:cubicBezTo>
                  <a:pt x="20612" y="11357"/>
                  <a:pt x="20678" y="11506"/>
                  <a:pt x="20737" y="11658"/>
                </a:cubicBezTo>
                <a:cubicBezTo>
                  <a:pt x="20759" y="11714"/>
                  <a:pt x="20802" y="11814"/>
                  <a:pt x="20886" y="11807"/>
                </a:cubicBezTo>
                <a:cubicBezTo>
                  <a:pt x="20915" y="11777"/>
                  <a:pt x="20929" y="11765"/>
                  <a:pt x="20960" y="11757"/>
                </a:cubicBezTo>
              </a:path>
              <a:path w="2382" h="1986">
                <a:moveTo>
                  <a:pt x="20985" y="11137"/>
                </a:moveTo>
                <a:cubicBezTo>
                  <a:pt x="20868" y="11395"/>
                  <a:pt x="20743" y="11644"/>
                  <a:pt x="20638" y="11906"/>
                </a:cubicBezTo>
                <a:cubicBezTo>
                  <a:pt x="20595" y="12013"/>
                  <a:pt x="20584" y="12037"/>
                  <a:pt x="20563" y="12105"/>
                </a:cubicBezTo>
              </a:path>
              <a:path w="2382" h="1986">
                <a:moveTo>
                  <a:pt x="21134" y="10244"/>
                </a:moveTo>
                <a:cubicBezTo>
                  <a:pt x="21200" y="10178"/>
                  <a:pt x="21236" y="10125"/>
                  <a:pt x="21332" y="10120"/>
                </a:cubicBezTo>
                <a:cubicBezTo>
                  <a:pt x="21349" y="10120"/>
                  <a:pt x="21365" y="10120"/>
                  <a:pt x="21382" y="10120"/>
                </a:cubicBezTo>
                <a:cubicBezTo>
                  <a:pt x="21364" y="10221"/>
                  <a:pt x="21348" y="10242"/>
                  <a:pt x="21258" y="10294"/>
                </a:cubicBezTo>
                <a:cubicBezTo>
                  <a:pt x="21309" y="10321"/>
                  <a:pt x="21337" y="10281"/>
                  <a:pt x="21406" y="10269"/>
                </a:cubicBezTo>
                <a:cubicBezTo>
                  <a:pt x="21477" y="10257"/>
                  <a:pt x="21519" y="10232"/>
                  <a:pt x="21580" y="10269"/>
                </a:cubicBezTo>
                <a:cubicBezTo>
                  <a:pt x="21519" y="10356"/>
                  <a:pt x="21446" y="10433"/>
                  <a:pt x="21357" y="10492"/>
                </a:cubicBezTo>
                <a:cubicBezTo>
                  <a:pt x="21291" y="10536"/>
                  <a:pt x="21263" y="10576"/>
                  <a:pt x="21208" y="10616"/>
                </a:cubicBezTo>
                <a:cubicBezTo>
                  <a:pt x="21161" y="10650"/>
                  <a:pt x="21094" y="10671"/>
                  <a:pt x="21158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Ink 29"/>
          <p:cNvSpPr/>
          <p:nvPr/>
        </p:nvSpPr>
        <p:spPr>
          <a:xfrm>
            <a:off x="8143920" y="3732120"/>
            <a:ext cx="652320" cy="689040"/>
          </a:xfrm>
          <a:custGeom>
            <a:avLst/>
            <a:gdLst/>
            <a:ahLst/>
            <a:rect l="l" t="t" r="r" b="b"/>
            <a:pathLst>
              <a:path w="1812" h="1911">
                <a:moveTo>
                  <a:pt x="24036" y="10368"/>
                </a:moveTo>
                <a:cubicBezTo>
                  <a:pt x="24036" y="10496"/>
                  <a:pt x="24022" y="10615"/>
                  <a:pt x="24011" y="10740"/>
                </a:cubicBezTo>
                <a:cubicBezTo>
                  <a:pt x="24000" y="10865"/>
                  <a:pt x="24022" y="11036"/>
                  <a:pt x="24036" y="11162"/>
                </a:cubicBezTo>
                <a:cubicBezTo>
                  <a:pt x="24059" y="11359"/>
                  <a:pt x="24080" y="11559"/>
                  <a:pt x="24085" y="11757"/>
                </a:cubicBezTo>
                <a:cubicBezTo>
                  <a:pt x="24086" y="11789"/>
                  <a:pt x="24060" y="12204"/>
                  <a:pt x="24110" y="12204"/>
                </a:cubicBezTo>
                <a:cubicBezTo>
                  <a:pt x="24118" y="12196"/>
                  <a:pt x="24127" y="12187"/>
                  <a:pt x="24135" y="12179"/>
                </a:cubicBezTo>
              </a:path>
              <a:path w="1812" h="1911">
                <a:moveTo>
                  <a:pt x="23763" y="11633"/>
                </a:moveTo>
                <a:cubicBezTo>
                  <a:pt x="23733" y="11693"/>
                  <a:pt x="23784" y="11713"/>
                  <a:pt x="23837" y="11757"/>
                </a:cubicBezTo>
                <a:cubicBezTo>
                  <a:pt x="23887" y="11799"/>
                  <a:pt x="23937" y="11841"/>
                  <a:pt x="23986" y="11881"/>
                </a:cubicBezTo>
                <a:cubicBezTo>
                  <a:pt x="24038" y="11923"/>
                  <a:pt x="24067" y="12012"/>
                  <a:pt x="24135" y="12030"/>
                </a:cubicBezTo>
                <a:cubicBezTo>
                  <a:pt x="24249" y="12060"/>
                  <a:pt x="24209" y="11914"/>
                  <a:pt x="24234" y="11857"/>
                </a:cubicBezTo>
                <a:cubicBezTo>
                  <a:pt x="24295" y="11720"/>
                  <a:pt x="24351" y="11577"/>
                  <a:pt x="24408" y="11435"/>
                </a:cubicBezTo>
                <a:cubicBezTo>
                  <a:pt x="24416" y="11410"/>
                  <a:pt x="24425" y="11386"/>
                  <a:pt x="24433" y="11361"/>
                </a:cubicBezTo>
              </a:path>
              <a:path w="1812" h="1911">
                <a:moveTo>
                  <a:pt x="23093" y="10740"/>
                </a:moveTo>
                <a:cubicBezTo>
                  <a:pt x="23043" y="10815"/>
                  <a:pt x="23027" y="10921"/>
                  <a:pt x="23019" y="11013"/>
                </a:cubicBezTo>
                <a:cubicBezTo>
                  <a:pt x="23000" y="11236"/>
                  <a:pt x="23028" y="11464"/>
                  <a:pt x="23044" y="11683"/>
                </a:cubicBezTo>
                <a:cubicBezTo>
                  <a:pt x="23054" y="11819"/>
                  <a:pt x="23045" y="11971"/>
                  <a:pt x="23068" y="12105"/>
                </a:cubicBezTo>
                <a:cubicBezTo>
                  <a:pt x="23080" y="12172"/>
                  <a:pt x="23093" y="12209"/>
                  <a:pt x="23093" y="12278"/>
                </a:cubicBezTo>
              </a:path>
              <a:path w="1812" h="1911">
                <a:moveTo>
                  <a:pt x="22671" y="11385"/>
                </a:moveTo>
                <a:cubicBezTo>
                  <a:pt x="22621" y="11216"/>
                  <a:pt x="22629" y="11228"/>
                  <a:pt x="22647" y="11088"/>
                </a:cubicBezTo>
                <a:cubicBezTo>
                  <a:pt x="22660" y="10987"/>
                  <a:pt x="22695" y="10907"/>
                  <a:pt x="22746" y="10815"/>
                </a:cubicBezTo>
                <a:cubicBezTo>
                  <a:pt x="22793" y="10730"/>
                  <a:pt x="22846" y="10631"/>
                  <a:pt x="22920" y="10567"/>
                </a:cubicBezTo>
                <a:cubicBezTo>
                  <a:pt x="22953" y="10542"/>
                  <a:pt x="22986" y="10517"/>
                  <a:pt x="23019" y="10492"/>
                </a:cubicBezTo>
              </a:path>
              <a:path w="1812" h="1911">
                <a:moveTo>
                  <a:pt x="23192" y="10517"/>
                </a:moveTo>
                <a:cubicBezTo>
                  <a:pt x="23224" y="10634"/>
                  <a:pt x="23257" y="10711"/>
                  <a:pt x="23316" y="10815"/>
                </a:cubicBezTo>
                <a:cubicBezTo>
                  <a:pt x="23362" y="10895"/>
                  <a:pt x="23402" y="10971"/>
                  <a:pt x="23465" y="11038"/>
                </a:cubicBezTo>
                <a:cubicBezTo>
                  <a:pt x="23513" y="11089"/>
                  <a:pt x="23555" y="11126"/>
                  <a:pt x="23614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05Z</dcterms:created>
  <dc:creator>jnewman</dc:creator>
  <dc:description/>
  <dc:language>en-US</dc:language>
  <cp:lastModifiedBy>abeason</cp:lastModifiedBy>
  <dcterms:modified xsi:type="dcterms:W3CDTF">2010-05-03T14:36:16Z</dcterms:modified>
  <cp:revision>11</cp:revision>
  <dc:subject/>
  <dc:title>Lesson 2.2</dc:title>
</cp:coreProperties>
</file>